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96DD4-29D0-4640-A5E2-C40A0EA4CE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BF3DC-4E67-49C4-83B5-89185AD3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D42A6-DBA4-445A-AFDF-EC4A2E74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579CB-2C47-4A66-B3B8-4AEA6D2776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88536-4216-47C3-A893-070870FF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DA2F-D3FB-4631-AAB5-0F07CE05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9BFA-A431-4142-A404-708F9C04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DB3F5-90C7-4EC3-9B7E-FFE198D0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06240"/>
            <a:ext cx="822816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7A5A2-EF5C-49ED-8F71-7589E514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477CB-87AC-4A1A-B4B0-E5ED4D39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1064A-2954-4116-922F-1BCF5947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9D4D0-89EE-4DC6-B508-DECE2F2B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 hidden="1"/>
          <p:cNvSpPr/>
          <p:nvPr/>
        </p:nvSpPr>
        <p:spPr>
          <a:xfrm>
            <a:off x="63360" y="69840"/>
            <a:ext cx="9012240" cy="6692760"/>
          </a:xfrm>
          <a:custGeom>
            <a:avLst/>
            <a:gdLst/>
            <a:ahLst/>
            <a:rect l="l" t="t" r="r" b="b"/>
            <a:pathLst>
              <a:path w="25037" h="18593">
                <a:moveTo>
                  <a:pt x="0" y="12246"/>
                </a:moveTo>
                <a:lnTo>
                  <a:pt x="12246" y="12246"/>
                </a:lnTo>
                <a:lnTo>
                  <a:pt x="180" y="90"/>
                </a:lnTo>
                <a:lnTo>
                  <a:pt x="12791" y="0"/>
                </a:lnTo>
                <a:lnTo>
                  <a:pt x="12246" y="12246"/>
                </a:lnTo>
                <a:lnTo>
                  <a:pt x="270" y="90"/>
                </a:lnTo>
                <a:lnTo>
                  <a:pt x="25037" y="6347"/>
                </a:lnTo>
                <a:lnTo>
                  <a:pt x="12246" y="1224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5160" y="69840"/>
            <a:ext cx="9012240" cy="6691320"/>
          </a:xfrm>
          <a:custGeom>
            <a:avLst/>
            <a:gdLst/>
            <a:ahLst/>
            <a:rect l="l" t="t" r="r" b="b"/>
            <a:pathLst>
              <a:path w="25037" h="18589">
                <a:moveTo>
                  <a:pt x="0" y="12243"/>
                </a:moveTo>
                <a:lnTo>
                  <a:pt x="12243" y="12243"/>
                </a:lnTo>
                <a:lnTo>
                  <a:pt x="180" y="90"/>
                </a:lnTo>
                <a:lnTo>
                  <a:pt x="12794" y="0"/>
                </a:lnTo>
                <a:lnTo>
                  <a:pt x="12243" y="12243"/>
                </a:lnTo>
                <a:lnTo>
                  <a:pt x="270" y="90"/>
                </a:lnTo>
                <a:lnTo>
                  <a:pt x="25037" y="6346"/>
                </a:lnTo>
                <a:lnTo>
                  <a:pt x="12243" y="1224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696464"/>
                </a:solidFill>
                <a:latin typeface="Perpetu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DE01B-7CB3-4A62-B253-92831E0E431D}" type="datetime">
              <a:rPr b="0" lang="es-ES" sz="1400" spc="-1" strike="noStrike">
                <a:solidFill>
                  <a:srgbClr val="696464"/>
                </a:solidFill>
                <a:latin typeface="Perpetua"/>
                <a:ea typeface="DejaVu San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2"/>
          </p:nvPr>
        </p:nvSpPr>
        <p:spPr>
          <a:xfrm>
            <a:off x="145800" y="6210000"/>
            <a:ext cx="455400" cy="4554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E17D424-9A54-444B-A979-1AEFE8AEA02E}" type="slidenum">
              <a:rPr b="0" lang="es-ES" sz="1400" spc="-1" strike="noStrike">
                <a:solidFill>
                  <a:srgbClr val="ffffff"/>
                </a:solidFill>
                <a:latin typeface="Franklin Gothic 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3360" y="1449360"/>
            <a:ext cx="90219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3360" y="1397160"/>
            <a:ext cx="9021960" cy="120600"/>
          </a:xfrm>
          <a:prstGeom prst="rect">
            <a:avLst/>
          </a:prstGeom>
          <a:solidFill>
            <a:srgbClr val="e5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3360" y="2976480"/>
            <a:ext cx="9021960" cy="10980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Classical_mechanics" TargetMode="External"/><Relationship Id="rId3" Type="http://schemas.openxmlformats.org/officeDocument/2006/relationships/hyperlink" Target="http://en.wikipedia.org/wiki/Einstein" TargetMode="External"/><Relationship Id="rId4" Type="http://schemas.openxmlformats.org/officeDocument/2006/relationships/hyperlink" Target="http://en.wikipedia.org/wiki/Mass&#8211;energy_equivalence" TargetMode="External"/><Relationship Id="rId5" Type="http://schemas.openxmlformats.org/officeDocument/2006/relationships/hyperlink" Target="http://en.wikipedia.org/wiki/Mass&#8211;energy_equivalence" TargetMode="External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Alumnos: Rubén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                     </a:t>
            </a: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Francisco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Profesora: Adela Gasc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Materia: Matema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Curso: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Émilie de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Chatelet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1-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2-In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3-¿Quién 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4-Apor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5-o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Indic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643120" y="3071880"/>
            <a:ext cx="6400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Nació en París, el 17 de Diciembre de 1706 y se crió en un medio culto. Pronto empezó a despuntar en el área académica, cosa que hizo que su padre le diera una educación que rara vez se le daba a las mujeres por aquella épo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Después falleció el 10 de septiembre del año 1749,al poco tiempo del parto de su hija, que murió a los  2-3 m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¿Quien era?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071880"/>
            <a:ext cx="264312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14280" y="3214800"/>
            <a:ext cx="64008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La marquesa de Chatelet, fue la persona que impulsó la obra de Newton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Francia con su traducción de los Principia del latín al francés. En Franc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se estudiaba a Descartes, siendo pocos los científicos que leían a New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Publicó varios ensayos como: Ensayo de óptica (1736) y Disert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sobre la naturaleza y propagación del fuego (173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Disertaciones sobre la naturaleza y propagación del fuego surgió a raíz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un concurso de la Academia de Ciencias, ya que la materia del fuego 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discutida por aquel entonces. Tanto Voltaire como Émilie deciden particip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y empiezan a realizar experimentos llegando a conclusiones difer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Finalmente ganó el concurso Leonhard Eu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Aportacione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696464"/>
                </a:solidFill>
                <a:latin typeface="Perpetua"/>
              </a:rPr>
              <a:t>1- Instituciones de phys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696464"/>
                </a:solidFill>
                <a:latin typeface="Perpetua"/>
              </a:rPr>
              <a:t>2-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 Disertación sur la nature et la propagación du f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3- Principes Matematicas de la philosophie naturelle par feue señora marquesa du Chât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4- Examen de la Genè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5- Examen des Livres du Nouveau Tes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6-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 Discours sur le bonh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Obra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Aunque los 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2"/>
              </a:rPr>
              <a:t>mecánicos clásicos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 de du Châtelet no se abordan con la misma precisión que 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3"/>
              </a:rPr>
              <a:t>Einstein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 conceptos de la masa y la velocidad,  en su famosa ecuación de la enegía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4"/>
              </a:rPr>
              <a:t> equivalente de la materia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5"/>
              </a:rPr>
              <a:t> 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E =mc ² 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biógrafos e historiadores modernos continúan viendo un acuerdo aseado con el principio 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E α mv ²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 primero reconocido por du Châtelet de más de 150 años 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Legado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WIP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HMOLP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AGNES SCOTT COLLE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MATEMATICO DE LA SEM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MUJERES EN INPORTANTES EN MATEMA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