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756E-64AA-423A-854B-A077AC369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E49D-AD45-460C-AE5F-21A3B53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0D8C-3725-4474-8173-93192C93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FD5F-A2FF-49C9-B4A5-6C8F75EFF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A6FF-243D-4D7B-8CAD-C59134A5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69CB-DBEB-44CF-9E7E-66D3350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6F61-8376-4D98-AF0F-6DBE0DC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1A2A-0F6F-4E71-99C4-19862F71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6240"/>
            <a:ext cx="82281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39B8-2FAD-416A-A3F0-1EFC1053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71B9-BEE8-4AC3-9161-E462E369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03E5-0643-4C3C-A76D-1F2B32EC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C5C8-C74F-433F-87C1-D2DCAB10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63360" y="69840"/>
            <a:ext cx="9012240" cy="6692760"/>
          </a:xfrm>
          <a:custGeom>
            <a:avLst/>
            <a:gdLst/>
            <a:ahLst/>
            <a:rect l="l" t="t" r="r" b="b"/>
            <a:pathLst>
              <a:path w="25037" h="18593">
                <a:moveTo>
                  <a:pt x="0" y="12246"/>
                </a:moveTo>
                <a:lnTo>
                  <a:pt x="12246" y="12246"/>
                </a:lnTo>
                <a:lnTo>
                  <a:pt x="180" y="90"/>
                </a:lnTo>
                <a:lnTo>
                  <a:pt x="12791" y="0"/>
                </a:lnTo>
                <a:lnTo>
                  <a:pt x="12246" y="12246"/>
                </a:lnTo>
                <a:lnTo>
                  <a:pt x="270" y="90"/>
                </a:lnTo>
                <a:lnTo>
                  <a:pt x="25037" y="6347"/>
                </a:lnTo>
                <a:lnTo>
                  <a:pt x="12246" y="122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160" y="69840"/>
            <a:ext cx="9012240" cy="6691320"/>
          </a:xfrm>
          <a:custGeom>
            <a:avLst/>
            <a:gdLst/>
            <a:ahLst/>
            <a:rect l="l" t="t" r="r" b="b"/>
            <a:pathLst>
              <a:path w="25037" h="18589">
                <a:moveTo>
                  <a:pt x="0" y="12243"/>
                </a:moveTo>
                <a:lnTo>
                  <a:pt x="12243" y="12243"/>
                </a:lnTo>
                <a:lnTo>
                  <a:pt x="180" y="90"/>
                </a:lnTo>
                <a:lnTo>
                  <a:pt x="12794" y="0"/>
                </a:lnTo>
                <a:lnTo>
                  <a:pt x="12243" y="12243"/>
                </a:lnTo>
                <a:lnTo>
                  <a:pt x="270" y="90"/>
                </a:lnTo>
                <a:lnTo>
                  <a:pt x="25037" y="6346"/>
                </a:lnTo>
                <a:lnTo>
                  <a:pt x="12243" y="1224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696464"/>
                </a:solidFill>
                <a:latin typeface="Perpet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01B0B-0F3E-4BC7-BDDE-B483F696F9CD}" type="datetime">
              <a:rPr b="0" lang="es-ES" sz="1400" spc="-1" strike="noStrike">
                <a:solidFill>
                  <a:srgbClr val="696464"/>
                </a:solidFill>
                <a:latin typeface="Perpetua"/>
                <a:ea typeface="DejaVu San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145800" y="6210000"/>
            <a:ext cx="455400" cy="455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C65245D-67D3-4644-9A82-6114ABC5B067}" type="slidenum">
              <a: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e5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360" y="2976480"/>
            <a:ext cx="9021960" cy="109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Classical_mechanics" TargetMode="External"/><Relationship Id="rId3" Type="http://schemas.openxmlformats.org/officeDocument/2006/relationships/hyperlink" Target="http://en.wikipedia.org/wiki/Einstein" TargetMode="External"/><Relationship Id="rId4" Type="http://schemas.openxmlformats.org/officeDocument/2006/relationships/hyperlink" Target="http://en.wikipedia.org/wiki/Mass&#8211;energy_equivalence" TargetMode="External"/><Relationship Id="rId5" Type="http://schemas.openxmlformats.org/officeDocument/2006/relationships/hyperlink" Target="http://en.wikipedia.org/wiki/Mass&#8211;energy_equivalence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Alumnos: Rubé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Francisco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Profesora: Adela Gasc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Materia: Matema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Curso: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Émilie de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Chatel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1-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2-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3-¿Quién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4-A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5-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307188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Nació en París, el 17 de Diciembre de 1706 y se crió en un medio culto. Pronto empezó a despuntar en el área académica, cosa que hizo que su padre le diera una educación que rara vez se le daba a las mujeres por aquella ép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Después falleció el 10 de septiembre del año 1749,al poco tiempo del parto de su hija, que murió a los  2-3 m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¿Quien era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7188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4280" y="3214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La marquesa de Chatelet, fue la persona que impulsó la obra de Newt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rancia con su traducción de los Principia del latín al francés. En Fra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e estudiaba a Descartes, siendo pocos los científicos que leían a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Publicó varios ensayos como: Ensayo de óptica (1736) y Diser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obre la naturaleza y propagación del fuego (17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ertaciones sobre la naturaleza y propagación del fuego surgió a raíz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un concurso de la Academia de Ciencias, ya que la materia del fuego 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cutida por aquel entonces. Tanto Voltaire como Émilie deciden partici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y empiezan a realizar experimentos llegando a conclusiones difer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inalmente ganó el concurso Leonhard E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Aportacio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1- Instituciones d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2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ertación sur la nature et la propagación du f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3- Principes Matematicas de la philosophie naturelle par feue señora marquesa du Chât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4- Examen de la Ge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5- Examen des Livres du Nouveau Te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6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cours sur le bon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Obra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Aunque los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2"/>
              </a:rPr>
              <a:t>mecánicos clásicos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de du Châtelet no se abordan con la misma precisión que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3"/>
              </a:rPr>
              <a:t>Einstein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conceptos de la masa y la velocidad,  en su famosa ecuación de la enegí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4"/>
              </a:rPr>
              <a:t> equivalente de la materi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5"/>
              </a:rPr>
              <a:t>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=mc ² 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biógrafos e historiadores modernos continúan viendo un acuerdo aseado con el principio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α mv ²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primero reconocido por du Châtelet de más de 150 años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Legado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W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HMOL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AGNES SCOTT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ATEMATICO D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UJERES EN INPORTANTES EN MATEMA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