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348F-A5D4-464D-84C0-D83CAF56CB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679B-3442-4993-A185-DD343B3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C7745-8112-4AD4-B9DC-44225FB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9068-7563-44D3-B2FA-1F24AC8F5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77EC-54A0-4116-9034-FA899EE0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9EE7-B94D-4703-BB30-B731C8C7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C853-7A8F-4FBE-80BD-3D7E25C5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F3D9-AF3B-4089-9DFB-629242AC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06240"/>
            <a:ext cx="82281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BA5F-23D8-4208-8718-2DCCE046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F4CA-758C-4FE1-9F3C-9CF36022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C0B4-AD80-4F6D-B24E-4A0C577C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1452-86F5-4E2E-B177-ED1183B5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63360" y="69840"/>
            <a:ext cx="9012240" cy="6692760"/>
          </a:xfrm>
          <a:custGeom>
            <a:avLst/>
            <a:gdLst/>
            <a:ahLst/>
            <a:rect l="l" t="t" r="r" b="b"/>
            <a:pathLst>
              <a:path w="25037" h="18593">
                <a:moveTo>
                  <a:pt x="0" y="12246"/>
                </a:moveTo>
                <a:lnTo>
                  <a:pt x="12246" y="12246"/>
                </a:lnTo>
                <a:lnTo>
                  <a:pt x="180" y="90"/>
                </a:lnTo>
                <a:lnTo>
                  <a:pt x="12791" y="0"/>
                </a:lnTo>
                <a:lnTo>
                  <a:pt x="12246" y="12246"/>
                </a:lnTo>
                <a:lnTo>
                  <a:pt x="270" y="90"/>
                </a:lnTo>
                <a:lnTo>
                  <a:pt x="25037" y="6347"/>
                </a:lnTo>
                <a:lnTo>
                  <a:pt x="12246" y="1224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160" y="69840"/>
            <a:ext cx="9012240" cy="6691320"/>
          </a:xfrm>
          <a:custGeom>
            <a:avLst/>
            <a:gdLst/>
            <a:ahLst/>
            <a:rect l="l" t="t" r="r" b="b"/>
            <a:pathLst>
              <a:path w="25037" h="18589">
                <a:moveTo>
                  <a:pt x="0" y="12243"/>
                </a:moveTo>
                <a:lnTo>
                  <a:pt x="12243" y="12243"/>
                </a:lnTo>
                <a:lnTo>
                  <a:pt x="180" y="90"/>
                </a:lnTo>
                <a:lnTo>
                  <a:pt x="12794" y="0"/>
                </a:lnTo>
                <a:lnTo>
                  <a:pt x="12243" y="12243"/>
                </a:lnTo>
                <a:lnTo>
                  <a:pt x="270" y="90"/>
                </a:lnTo>
                <a:lnTo>
                  <a:pt x="25037" y="6346"/>
                </a:lnTo>
                <a:lnTo>
                  <a:pt x="12243" y="1224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1840" y="6191280"/>
            <a:ext cx="2475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696464"/>
                </a:solidFill>
                <a:latin typeface="Perpetu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4551C-4951-4676-B3A5-231D40F0A335}" type="datetime">
              <a:rPr b="0" lang="es-ES" sz="1400" spc="-1" strike="noStrike">
                <a:solidFill>
                  <a:srgbClr val="696464"/>
                </a:solidFill>
                <a:latin typeface="Perpetua"/>
                <a:ea typeface="DejaVu Sans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145800" y="6210000"/>
            <a:ext cx="455400" cy="455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46DAB56-F5F6-423E-8784-153F0401F2EF}" type="slidenum">
              <a:rPr b="0" lang="es-ES" sz="1400" spc="-1" strike="noStrike">
                <a:solidFill>
                  <a:srgbClr val="ffffff"/>
                </a:solidFill>
                <a:latin typeface="Franklin Gothic 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e5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3360" y="2976480"/>
            <a:ext cx="9021960" cy="1098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8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Classical_mechanics" TargetMode="External"/><Relationship Id="rId3" Type="http://schemas.openxmlformats.org/officeDocument/2006/relationships/hyperlink" Target="http://en.wikipedia.org/wiki/Einstein" TargetMode="External"/><Relationship Id="rId4" Type="http://schemas.openxmlformats.org/officeDocument/2006/relationships/hyperlink" Target="http://en.wikipedia.org/wiki/Mass&#8211;energy_equivalence" TargetMode="External"/><Relationship Id="rId5" Type="http://schemas.openxmlformats.org/officeDocument/2006/relationships/hyperlink" Target="http://en.wikipedia.org/wiki/Mass&#8211;energy_equivalence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Alumnos: Rubén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                     </a:t>
            </a: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Francisco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Profesora: Adela Gasc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Materia: Matema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Perpetua"/>
              </a:rPr>
              <a:t>Curso: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Émilie de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Chatele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1-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2-I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3-¿Quién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4-A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696464"/>
                </a:solidFill>
                <a:latin typeface="Perpetua"/>
              </a:rPr>
              <a:t>5-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3071880"/>
            <a:ext cx="6400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Nació en París, el 17 de Diciembre de 1706 y se crió en un medio culto. Pronto empezó a despuntar en el área académica, cosa que hizo que su padre le diera una educación que rara vez se le daba a las mujeres por aquella ép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Después falleció el 10 de septiembre del año 1749,al poco tiempo del parto de su hija, que murió a los  2-3 m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¿Quien era?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71880"/>
            <a:ext cx="26431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4280" y="3214800"/>
            <a:ext cx="6400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La marquesa de Chatelet, fue la persona que impulsó la obra de Newt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rancia con su traducción de los Principia del latín al francés. En Franc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e estudiaba a Descartes, siendo pocos los científicos que leían a New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Publicó varios ensayos como: Ensayo de óptica (1736) y Diser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sobre la naturaleza y propagación del fuego (17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ertaciones sobre la naturaleza y propagación del fuego surgió a raíz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un concurso de la Academia de Ciencias, ya que la materia del fuego 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discutida por aquel entonces. Tanto Voltaire como Émilie deciden partici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y empiezan a realizar experimentos llegando a conclusiones difer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96464"/>
                </a:solidFill>
                <a:latin typeface="Perpetua"/>
              </a:rPr>
              <a:t>Finalmente ganó el concurso Leonhard Eu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Aportacion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1- Instituciones de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696464"/>
                </a:solidFill>
                <a:latin typeface="Perpetua"/>
              </a:rPr>
              <a:t>2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ertación sur la nature et la propagación du f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3- Principes Matematicas de la philosophie naturelle par feue señora marquesa du Chât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4- Examen de la Gen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5- Examen des Livres du Nouveau Tes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6-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 Discours sur le bonh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Obra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Aunque los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2"/>
              </a:rPr>
              <a:t>mecánicos clásicos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de du Châtelet no se abordan con la misma precisión que 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3"/>
              </a:rPr>
              <a:t>Einstein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conceptos de la masa y la velocidad,  en su famosa ecuación de la enegí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4"/>
              </a:rPr>
              <a:t> equivalente de la materia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Perpetua"/>
                <a:hlinkClick r:id="rId5"/>
              </a:rPr>
              <a:t>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=mc ² 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biógrafos e historiadores modernos continúan viendo un acuerdo aseado con el principio </a:t>
            </a:r>
            <a:r>
              <a:rPr b="0" i="1" lang="es-ES" sz="2400" spc="-1" strike="noStrike">
                <a:solidFill>
                  <a:srgbClr val="696464"/>
                </a:solidFill>
                <a:latin typeface="Perpetua"/>
              </a:rPr>
              <a:t>E α mv ²</a:t>
            </a:r>
            <a:r>
              <a:rPr b="0" lang="es-ES" sz="2400" spc="-1" strike="noStrike">
                <a:solidFill>
                  <a:srgbClr val="696464"/>
                </a:solidFill>
                <a:latin typeface="Perpetua"/>
              </a:rPr>
              <a:t> primero reconocido por du Châtelet de más de 150 años 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Legado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WI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HMOL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AGNES SCOTT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ATEMATICO DE LA SEM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96464"/>
                </a:solidFill>
                <a:latin typeface="Perpetua"/>
              </a:rPr>
              <a:t>MUJERES EN INPORTANTES EN MATEMA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