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1A94-8D1A-4B2B-8B3F-AC76615A0A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B260-DE30-4548-9C41-99582EB1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5969-D747-4A14-8511-F47DD797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664B-2AAC-495A-B765-9186A47D76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2ADB-02BE-4581-910E-541CEB4A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BB47-BA13-4B2C-8DE4-C80CDDFB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AE21-1401-4926-B00A-E740F624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9484-2268-4263-AA3F-32EF1B03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06240"/>
            <a:ext cx="82281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178B-8EE7-4024-A880-ED07F96A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84D1-F2AD-4910-BF94-98A42BF0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0E0D-69F5-4CD3-B153-39583948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0FCD-4C07-4880-9BA7-80CD871F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 hidden="1"/>
          <p:cNvSpPr/>
          <p:nvPr/>
        </p:nvSpPr>
        <p:spPr>
          <a:xfrm>
            <a:off x="63360" y="69840"/>
            <a:ext cx="9012240" cy="6692760"/>
          </a:xfrm>
          <a:custGeom>
            <a:avLst/>
            <a:gdLst/>
            <a:ahLst/>
            <a:rect l="l" t="t" r="r" b="b"/>
            <a:pathLst>
              <a:path w="25037" h="18593">
                <a:moveTo>
                  <a:pt x="0" y="12246"/>
                </a:moveTo>
                <a:lnTo>
                  <a:pt x="12246" y="12246"/>
                </a:lnTo>
                <a:lnTo>
                  <a:pt x="180" y="90"/>
                </a:lnTo>
                <a:lnTo>
                  <a:pt x="12791" y="0"/>
                </a:lnTo>
                <a:lnTo>
                  <a:pt x="12246" y="12246"/>
                </a:lnTo>
                <a:lnTo>
                  <a:pt x="270" y="90"/>
                </a:lnTo>
                <a:lnTo>
                  <a:pt x="25037" y="6347"/>
                </a:lnTo>
                <a:lnTo>
                  <a:pt x="12246" y="1224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5160" y="69840"/>
            <a:ext cx="9012240" cy="6691320"/>
          </a:xfrm>
          <a:custGeom>
            <a:avLst/>
            <a:gdLst/>
            <a:ahLst/>
            <a:rect l="l" t="t" r="r" b="b"/>
            <a:pathLst>
              <a:path w="25037" h="18589">
                <a:moveTo>
                  <a:pt x="0" y="12243"/>
                </a:moveTo>
                <a:lnTo>
                  <a:pt x="12243" y="12243"/>
                </a:lnTo>
                <a:lnTo>
                  <a:pt x="180" y="90"/>
                </a:lnTo>
                <a:lnTo>
                  <a:pt x="12794" y="0"/>
                </a:lnTo>
                <a:lnTo>
                  <a:pt x="12243" y="12243"/>
                </a:lnTo>
                <a:lnTo>
                  <a:pt x="270" y="90"/>
                </a:lnTo>
                <a:lnTo>
                  <a:pt x="25037" y="6346"/>
                </a:lnTo>
                <a:lnTo>
                  <a:pt x="12243" y="1224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696464"/>
                </a:solidFill>
                <a:latin typeface="Perpet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99550-16C0-4DAE-804F-3C186ADE55C4}" type="datetime">
              <a:rPr b="0" lang="es-ES" sz="1400" spc="-1" strike="noStrike">
                <a:solidFill>
                  <a:srgbClr val="696464"/>
                </a:solidFill>
                <a:latin typeface="Perpetua"/>
                <a:ea typeface="DejaVu San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2"/>
          </p:nvPr>
        </p:nvSpPr>
        <p:spPr>
          <a:xfrm>
            <a:off x="145800" y="6210000"/>
            <a:ext cx="455400" cy="455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A018BA3-52C6-4CEF-8FD9-E3F892DC0119}" type="slidenum">
              <a: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e5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3360" y="2976480"/>
            <a:ext cx="9021960" cy="1098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Classical_mechanics" TargetMode="External"/><Relationship Id="rId3" Type="http://schemas.openxmlformats.org/officeDocument/2006/relationships/hyperlink" Target="http://en.wikipedia.org/wiki/Einstein" TargetMode="External"/><Relationship Id="rId4" Type="http://schemas.openxmlformats.org/officeDocument/2006/relationships/hyperlink" Target="http://en.wikipedia.org/wiki/Mass&#8211;energy_equivalence" TargetMode="External"/><Relationship Id="rId5" Type="http://schemas.openxmlformats.org/officeDocument/2006/relationships/hyperlink" Target="http://en.wikipedia.org/wiki/Mass&#8211;energy_equivalence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Alumnos: Rubén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                     </a:t>
            </a: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Francisco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Profesora: Adela Gasc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Materia: Matema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Curso: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Émilie de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Chatele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1-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2-I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3-¿Quién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4-A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5-o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43120" y="3071880"/>
            <a:ext cx="6400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Nació en París, el 17 de Diciembre de 1706 y se crió en un medio culto. Pronto empezó a despuntar en el área académica, cosa que hizo que su padre le diera una educación que rara vez se le daba a las mujeres por aquella ép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Después falleció el 10 de septiembre del año 1749,al poco tiempo del parto de su hija, que murió a los  2-3 m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¿Quien era?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071880"/>
            <a:ext cx="26431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4280" y="3214800"/>
            <a:ext cx="64008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La marquesa de Chatelet, fue la persona que impulsó la obra de Newt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rancia con su traducción de los Principia del latín al francés. En Franc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e estudiaba a Descartes, siendo pocos los científicos que leían a New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Publicó varios ensayos como: Ensayo de óptica (1736) y Disert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obre la naturaleza y propagación del fuego (17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ertaciones sobre la naturaleza y propagación del fuego surgió a raíz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un concurso de la Academia de Ciencias, ya que la materia del fuego 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cutida por aquel entonces. Tanto Voltaire como Émilie deciden partici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y empiezan a realizar experimentos llegando a conclusiones difer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inalmente ganó el concurso Leonhard Eu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Aportacion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1- Instituciones de phy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2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ertación sur la nature et la propagación du f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3- Principes Matematicas de la philosophie naturelle par feue señora marquesa du Chât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4- Examen de la Gen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5- Examen des Livres du Nouveau Tes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6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cours sur le bonh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Obra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Aunque los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2"/>
              </a:rPr>
              <a:t>mecánicos clásicos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de du Châtelet no se abordan con la misma precisión que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3"/>
              </a:rPr>
              <a:t>Einstein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conceptos de la masa y la velocidad,  en su famosa ecuación de la enegí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4"/>
              </a:rPr>
              <a:t> equivalente de la materi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5"/>
              </a:rPr>
              <a:t>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=mc ² 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biógrafos e historiadores modernos continúan viendo un acuerdo aseado con el principio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α mv ²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primero reconocido por du Châtelet de más de 150 años 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Legado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WI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HMOL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AGNES SCOTT COLL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ATEMATICO DE LA SEM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UJERES EN INPORTANTES EN MATEMA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