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D81-5163-4413-B929-00B4468E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797-2E48-453F-BFF8-F465B48F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B2E-59B8-4FF8-8CF6-54CB0D5A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285-B208-4650-9692-BB83451E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B8A-015D-4A88-A990-C4E9BC71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4FA-C9FD-4C05-BE6F-C5F7DD06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969-7A8C-4ED3-8261-2C419916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321-FC18-4E59-842B-AC90A8C8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30B-F36E-45A6-98EF-0C0C9191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507-CDFD-4F16-B3F9-F61890E2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FB0-C0AC-459A-88CB-2DEE205B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1A6-473D-4B6A-805A-1B65276E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47393-0AF7-469A-955D-59A420E745E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el mejor amigo de Step, es un chico que siempre está sonriendo y con humor. Es problemático también, pero muy buena persona. Se junta con Katrina, pero muere al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KAT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la mejor amiga de Babi, y es una chica que esta loca, es más lanzada, y es muy buena persona también. Pero lo pasa bastante mal por P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sta historia trata de un primer amor, ése que parece que nunca va a acabar y todos quieren seguir recordando aunque pase el tiempo. Ese amor que te envuelve en un mundo de felicidad, pero que acaba.. Serás feliz, pero sabes que jamás volverás a sentir lo mismo por nadie y que siempre permanecerá en tu cora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Opinió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A mi personalmente me ha gustado el libro,porque me gustan las historias de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Y se lo recomiendo a todos, porque es una historia muy bon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Mi libro favor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Título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“ A tres metros sobre el ciel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utor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Federico Moc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ditorial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Boo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yecto Multilateral Comenius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¿Qué le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fesor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lumn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Aroa León Mans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Grup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4º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Personaj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BA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DANI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KAT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BA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a de los protagonistas, es una joven, rubia, tiene los ojos marrones, tiene una familia perfecta. Con dinero, tiene un carácter dulce, y es una chica muy tranqu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DANI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Daniela, es la hermana pequeña de Babi, por lo tanto, tiene la misma familia que ella, pero es un poco más alocada, le gusta más el ries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rial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 chico al contrario de Babi, es un chico problemático,pero que en el fondo, a pesar de su carácter tiene un gran corazón. Él tiene un pasado que le cuesta olvidar para seguir adelante. Es uno de los motivos de su comportamiento tan violent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1:06Z</dcterms:created>
  <dc:creator>villena4dos17 villena4dos17</dc:creator>
  <dc:description/>
  <dc:language>en-US</dc:language>
  <cp:lastModifiedBy>villena4dos17 villena4dos17</cp:lastModifiedBy>
  <dcterms:modified xsi:type="dcterms:W3CDTF">2013-12-09T09:35:26Z</dcterms:modified>
  <cp:revision>1</cp:revision>
  <dc:subject/>
  <dc:title/>
</cp:coreProperties>
</file>