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27B-42EA-4992-BCE4-269A95B8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DE2-C81B-4120-BDB8-84FF04D9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D15F-376E-4AAE-BED1-B8CF3D25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063-0055-467C-9DF5-3D102D3E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7523-D32B-4020-A430-BD82CBE5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43D-6345-47D9-8B2E-6B063F39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C4E4-183C-4F11-92BC-707F8494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A51-FD52-4711-8C05-00DA44E9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8378-8DF8-4CA4-BBB6-1C19F964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5FEE-1428-474B-8979-A25CEE6E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2666-7B43-45E6-942F-D93BA37E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2C4-F15D-4705-91BE-F153120A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2293F-065B-4CD1-988B-6BA97A0806A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P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el mejor amigo de Step, es un chico que siempre está sonriendo y con humor. Es problemático también, pero muy buena persona. Se junta con Katrina, pero muere al f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KATR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la mejor amiga de Babi, y es una chica que esta loca, es más lanzada, y es muy buena persona también. Pero lo pasa bastante mal por P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Argu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Esta historia trata de un primer amor, ése que parece que nunca va a acabar y todos quieren seguir recordando aunque pase el tiempo. Ese amor que te envuelve en un mundo de felicidad, pero que acaba.. Serás feliz, pero sabes que jamás volverás a sentir lo mismo por nadie y que siempre permanecerá en tu coraz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Opinión 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A mi personalmente me ha gustado el libro,porque me gustan las historias de a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Y se lo recomiendo a todos, porque es una historia muy bon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Mi libro favori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328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Título: 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“ A tres metros sobre el cielo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Autor: 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Federico Moc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Editorial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Boo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Proyecto Multilateral Comenius: 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¿Qué le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IES Isabel de Vill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Profesor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José Andrés Mo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Alumno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Aroa León Mansi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Grupo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4º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dcff"/>
                </a:solidFill>
                <a:latin typeface="Andika Basic"/>
              </a:rPr>
              <a:t>Personaj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BA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DANI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KAT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dcff"/>
                </a:solidFill>
                <a:latin typeface="Andika Basic"/>
              </a:rPr>
              <a:t>BAB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una de los protagonistas, es una joven, rubia, tiene los ojos marrones, tiene una familia perfecta. Con dinero, tiene un carácter dulce, y es una chica muy tranqu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DANI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Daniela, es la hermana pequeña de Babi, por lo tanto, tiene la misma familia que ella, pero es un poco más alocada, le gusta más el ries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rial"/>
              </a:rPr>
              <a:t>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un chico al contrario de Babi, es un chico problemático,pero que en el fondo, a pesar de su carácter tiene un gran corazón. Él tiene un pasado que le cuesta olvidar para seguir adelante. Es uno de los motivos de su comportamiento tan violent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10:51:06Z</dcterms:created>
  <dc:creator>villena4dos17 villena4dos17</dc:creator>
  <dc:description/>
  <dc:language>en-US</dc:language>
  <cp:lastModifiedBy>villena4dos17 villena4dos17</cp:lastModifiedBy>
  <dcterms:modified xsi:type="dcterms:W3CDTF">2013-12-09T09:35:26Z</dcterms:modified>
  <cp:revision>1</cp:revision>
  <dc:subject/>
  <dc:title/>
</cp:coreProperties>
</file>