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A5F1-5DA0-4562-92D3-607CDDFF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E8DA-F051-48EF-849C-6FCEE5AB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1ECC-090E-47BE-B77D-F5E3F9D3C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A106-DF69-47CF-BF8B-995B6CBC4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E108-F240-4EB7-8628-F70DD839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C4B5-917F-4732-83C7-EF0AAAAA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CA07-7979-402E-BEC0-E5E5CC16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55C8-7799-4428-B090-8EA7A290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3AD0-311C-4646-9175-270A0EC3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B2A0-3900-4DBF-AA5E-C18B1A7C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761D-9A07-4BDA-BC44-77782361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B3CC-3DBE-4560-8526-98A56D50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F32A9-84DA-4690-ADA5-E585AB30ED86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8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9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Andika Basic"/>
              </a:rPr>
              <a:t>PO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ndika Basic"/>
              </a:rPr>
              <a:t>Es el mejor amigo de Step, es un chico que siempre está sonriendo y con humor. Es problemático también, pero muy buena persona. Se junta con Katrina, pero muere al f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Andika Basic"/>
              </a:rPr>
              <a:t>KATR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ndika Basic"/>
              </a:rPr>
              <a:t>Es la mejor amiga de Babi, y es una chica que esta loca, es más lanzada, y es muy buena persona también. Pero lo pasa bastante mal por Po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Andika Basic"/>
              </a:rPr>
              <a:t>Argu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Esta historia trata de un primer amor, ése que parece que nunca va a acabar y todos quieren seguir recordando aunque pase el tiempo. Ese amor que te envuelve en un mundo de felicidad, pero que acaba.. Serás feliz, pero sabes que jamás volverás a sentir lo mismo por nadie y que siempre permanecerá en tu coraz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Andika Basic"/>
              </a:rPr>
              <a:t>Opinión pers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ndika Basic"/>
              </a:rPr>
              <a:t>A mi personalmente me ha gustado el libro,porque me gustan las historias de am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ndika Basic"/>
              </a:rPr>
              <a:t>Y se lo recomiendo a todos, porque es una historia muy boni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Andika Basic"/>
              </a:rPr>
              <a:t>Mi libro favori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328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Título: </a:t>
            </a:r>
            <a:r>
              <a:rPr b="0" lang="es-ES" sz="2600" spc="-1" strike="noStrike">
                <a:solidFill>
                  <a:srgbClr val="000000"/>
                </a:solidFill>
                <a:latin typeface="Andika Basic"/>
              </a:rPr>
              <a:t>“ A tres metros sobre el cielo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Autor: </a:t>
            </a:r>
            <a:r>
              <a:rPr b="0" lang="es-ES" sz="2600" spc="-1" strike="noStrike">
                <a:solidFill>
                  <a:srgbClr val="000000"/>
                </a:solidFill>
                <a:latin typeface="Andika Basic"/>
              </a:rPr>
              <a:t>Federico Moc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Editorial:</a:t>
            </a:r>
            <a:r>
              <a:rPr b="0" lang="es-ES" sz="2600" spc="-1" strike="noStrike">
                <a:solidFill>
                  <a:srgbClr val="000000"/>
                </a:solidFill>
                <a:latin typeface="Andika Basic"/>
              </a:rPr>
              <a:t> Book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Proyecto Multilateral Comenius: </a:t>
            </a:r>
            <a:r>
              <a:rPr b="0" lang="es-ES" sz="2600" spc="-1" strike="noStrike">
                <a:solidFill>
                  <a:srgbClr val="000000"/>
                </a:solidFill>
                <a:latin typeface="Andika Basic"/>
              </a:rPr>
              <a:t>¿Qué le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IES Isabel de Vill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Profesor:</a:t>
            </a:r>
            <a:r>
              <a:rPr b="0" lang="es-ES" sz="2600" spc="-1" strike="noStrike">
                <a:solidFill>
                  <a:srgbClr val="000000"/>
                </a:solidFill>
                <a:latin typeface="Andika Basic"/>
              </a:rPr>
              <a:t> José Andrés Mol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Alumno:</a:t>
            </a:r>
            <a:r>
              <a:rPr b="0" lang="es-ES" sz="2600" spc="-1" strike="noStrike">
                <a:solidFill>
                  <a:srgbClr val="000000"/>
                </a:solidFill>
                <a:latin typeface="Andika Basic"/>
              </a:rPr>
              <a:t> Aroa León Mansil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Grupo:</a:t>
            </a:r>
            <a:r>
              <a:rPr b="0" lang="es-ES" sz="2600" spc="-1" strike="noStrike">
                <a:solidFill>
                  <a:srgbClr val="000000"/>
                </a:solidFill>
                <a:latin typeface="Andika Basic"/>
              </a:rPr>
              <a:t> 4º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dcff"/>
                </a:solidFill>
                <a:latin typeface="Andika Basic"/>
              </a:rPr>
              <a:t>Personaj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     </a:t>
            </a: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BAB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                      </a:t>
            </a: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DANI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                         </a:t>
            </a: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                        </a:t>
            </a: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P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                      </a:t>
            </a: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KATR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dcff"/>
                </a:solidFill>
                <a:latin typeface="Andika Basic"/>
              </a:rPr>
              <a:t>BAB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ndika Basic"/>
              </a:rPr>
              <a:t>Es una de los protagonistas, es una joven, rubia, tiene los ojos marrones, tiene una familia perfecta. Con dinero, tiene un carácter dulce, y es una chica muy tranqui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Andika Basic"/>
              </a:rPr>
              <a:t>DANIE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ndika Basic"/>
              </a:rPr>
              <a:t>Daniela, es la hermana pequeña de Babi, por lo tanto, tiene la misma familia que ella, pero es un poco más alocada, le gusta más el ries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Arial"/>
              </a:rPr>
              <a:t>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ndika Basic"/>
              </a:rPr>
              <a:t>Es un chico al contrario de Babi, es un chico problemático,pero que en el fondo, a pesar de su carácter tiene un gran corazón. Él tiene un pasado que le cuesta olvidar para seguir adelante. Es uno de los motivos de su comportamiento tan violent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9T10:51:06Z</dcterms:created>
  <dc:creator>villena4dos17 villena4dos17</dc:creator>
  <dc:description/>
  <dc:language>en-US</dc:language>
  <cp:lastModifiedBy>villena4dos17 villena4dos17</cp:lastModifiedBy>
  <dcterms:modified xsi:type="dcterms:W3CDTF">2013-12-09T09:35:26Z</dcterms:modified>
  <cp:revision>1</cp:revision>
  <dc:subject/>
  <dc:title/>
</cp:coreProperties>
</file>