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A15-5664-4563-AB44-4E7B43FA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E9F-522B-4BC0-8DB5-D5865D82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D4B-3B45-4704-8F19-C58DF558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2CB-8A49-4D4C-83A7-160D97FE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BF9-85A8-40C9-976B-41B61C1A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73C-BF8F-475C-BB54-FE302D5D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AE6-F766-4F9F-A56B-0EF82A6F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B62-68BC-4325-8E5D-2A11CF71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CBC-7540-4CC7-86E4-BE0A6892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FFA-DAA6-45DC-B186-FB23ED42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2A2-63FF-4D9B-946C-FCDC9931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3F4-D76E-427F-8231-9B59F3AC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D97C5-8C49-49C6-BB54-DF44047C1A7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el mejor amigo de Step, es un chico que siempre está sonriendo y con humor. Es problemático también, pero muy buena persona. Se junta con Katrina, pero muere al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KAT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la mejor amiga de Babi, y es una chica que esta loca, es más lanzada, y es muy buena persona también. Pero lo pasa bastante mal por P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sta historia trata de un primer amor, ése que parece que nunca va a acabar y todos quieren seguir recordando aunque pase el tiempo. Ese amor que te envuelve en un mundo de felicidad, pero que acaba.. Serás feliz, pero sabes que jamás volverás a sentir lo mismo por nadie y que siempre permanecerá en tu coraz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Opinió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A mi personalmente me ha gustado el libro,porque me gustan las historias de a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Y se lo recomiendo a todos, porque es una historia muy bon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Mi libro favor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Título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“ A tres metros sobre el ciel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utor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Federico Moc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ditorial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Boo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yecto Multilateral Comenius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¿Qué le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fesor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lumn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Aroa León Mans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Grup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4º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Personaj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BA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DANI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KAT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BA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a de los protagonistas, es una joven, rubia, tiene los ojos marrones, tiene una familia perfecta. Con dinero, tiene un carácter dulce, y es una chica muy tranqu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DANI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Daniela, es la hermana pequeña de Babi, por lo tanto, tiene la misma familia que ella, pero es un poco más alocada, le gusta más el ries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rial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 chico al contrario de Babi, es un chico problemático,pero que en el fondo, a pesar de su carácter tiene un gran corazón. Él tiene un pasado que le cuesta olvidar para seguir adelante. Es uno de los motivos de su comportamiento tan violent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1:06Z</dcterms:created>
  <dc:creator>villena4dos17 villena4dos17</dc:creator>
  <dc:description/>
  <dc:language>en-US</dc:language>
  <cp:lastModifiedBy>villena4dos17 villena4dos17</cp:lastModifiedBy>
  <dcterms:modified xsi:type="dcterms:W3CDTF">2013-12-09T09:35:26Z</dcterms:modified>
  <cp:revision>1</cp:revision>
  <dc:subject/>
  <dc:title/>
</cp:coreProperties>
</file>