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8D8-BBDE-4C92-80BF-A5E4112E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8E2-E847-4CBF-BF7F-02EA6150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7FA-2CD1-47B3-890A-998717E7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347-D0E2-496B-8FAC-8B7A2A3F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525-F95E-4743-B38A-7AFB5A17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CAE-B45C-4A51-8DC2-9FD380C2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D98-93C0-469A-9601-81E9DE8E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C72-CF9F-4B6E-94A1-EFCBDEB0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5CF-75C8-4B44-9195-9A821A6A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5B9-B03D-448A-9DB0-C0A35E18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312-E874-4034-9F52-4DF84E7C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E7E-838E-4178-8A63-400C5102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0BAD0-707A-4B6E-BAFA-D3FF3F5AF05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el mejor amigo de Step, es un chico que siempre está sonriendo y con humor. Es problemático también, pero muy buena persona. Se junta con Katrina, pero muere al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KAT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la mejor amiga de Babi, y es una chica que esta loca, es más lanzada, y es muy buena persona también. Pero lo pasa bastante mal por P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Argu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Esta historia trata de un primer amor, ése que parece que nunca va a acabar y todos quieren seguir recordando aunque pase el tiempo. Ese amor que te envuelve en un mundo de felicidad, pero que acaba.. Serás feliz, pero sabes que jamás volverás a sentir lo mismo por nadie y que siempre permanecerá en tu coraz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Opinió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A mi personalmente me ha gustado el libro,porque me gustan las historias de a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Y se lo recomiendo a todos, porque es una historia muy bon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Mi libro favori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Título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“ A tres metros sobre el ciel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Autor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Federico Moc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Editorial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Boo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Proyecto Multilateral Comenius: 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¿Qué le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Profesor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Alumno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Aroa León Mans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8080"/>
                </a:solidFill>
                <a:latin typeface="Andika Basic"/>
              </a:rPr>
              <a:t>Grupo:</a:t>
            </a:r>
            <a:r>
              <a:rPr b="0" lang="es-ES" sz="2600" spc="-1" strike="noStrike">
                <a:solidFill>
                  <a:srgbClr val="000000"/>
                </a:solidFill>
                <a:latin typeface="Andika Basic"/>
              </a:rPr>
              <a:t> 4º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dcff"/>
                </a:solidFill>
                <a:latin typeface="Andika Basic"/>
              </a:rPr>
              <a:t>Personaj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BA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DANI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                      </a:t>
            </a:r>
            <a:r>
              <a:rPr b="1" lang="es-ES" sz="3200" spc="-1" strike="noStrike">
                <a:solidFill>
                  <a:srgbClr val="ff8080"/>
                </a:solidFill>
                <a:latin typeface="Andika Basic"/>
              </a:rPr>
              <a:t>KAT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dcff"/>
                </a:solidFill>
                <a:latin typeface="Andika Basic"/>
              </a:rPr>
              <a:t>BA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una de los protagonistas, es una joven, rubia, tiene los ojos marrones, tiene una familia perfecta. Con dinero, tiene un carácter dulce, y es una chica muy tranqu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ndika Basic"/>
              </a:rPr>
              <a:t>DANI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Daniela, es la hermana pequeña de Babi, por lo tanto, tiene la misma familia que ella, pero es un poco más alocada, le gusta más el ries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Arial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3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ndika Basic"/>
              </a:rPr>
              <a:t>Es un chico al contrario de Babi, es un chico problemático,pero que en el fondo, a pesar de su carácter tiene un gran corazón. Él tiene un pasado que le cuesta olvidar para seguir adelante. Es uno de los motivos de su comportamiento tan violent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0:51:06Z</dcterms:created>
  <dc:creator>villena4dos17 villena4dos17</dc:creator>
  <dc:description/>
  <dc:language>en-US</dc:language>
  <cp:lastModifiedBy>villena4dos17 villena4dos17</cp:lastModifiedBy>
  <dcterms:modified xsi:type="dcterms:W3CDTF">2013-12-09T09:35:26Z</dcterms:modified>
  <cp:revision>1</cp:revision>
  <dc:subject/>
  <dc:title/>
</cp:coreProperties>
</file>