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07E-8349-47F4-9B2D-8A5AC54D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92B-8D6B-4329-A5AD-71FE4261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D75-F426-412D-9F9B-C8533BD3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8D4-C2C6-4C3A-A6BA-CF08F933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6F2-3AAA-4E6A-A816-4BE7F7BD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E72-DFD8-4807-80ED-D76F0E6E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1DE-C62E-424F-8FD9-6F137A02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134-0FE6-45A1-AF40-F3F49DE6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C81-6E8B-4589-B312-034127C9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C50-5CE8-4AE9-B88E-1FDFD89E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34C-E0B7-47EA-8628-CB63B366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CFD-6CA9-47E7-983E-5A146EE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C53DF-C9EE-4247-A49B-B23435095AF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el mejor amigo de Step, es un chico que siempre está sonriendo y con humor. Es problemático también, pero muy buena persona. Se junta con Katrina, pero muere al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KAT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la mejor amiga de Babi, y es una chica que esta loca, es más lanzada, y es muy buena persona también. Pero lo pasa bastante mal por P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sta historia trata de un primer amor, ése que parece que nunca va a acabar y todos quieren seguir recordando aunque pase el tiempo. Ese amor que te envuelve en un mundo de felicidad, pero que acaba.. Serás feliz, pero sabes que jamás volverás a sentir lo mismo por nadie y que siempre permanecerá en tu cora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Opinió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A mi personalmente me ha gustado el libro,porque me gustan las historias de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Y se lo recomiendo a todos, porque es una historia muy bon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Mi libro favor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Título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“ A tres metros sobre el ciel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utor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Federico Moc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ditorial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Boo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yecto Multilateral Comenius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¿Qué le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fesor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lumn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Aroa León Mans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Grup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4º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Personaj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BA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DANI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KAT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BA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a de los protagonistas, es una joven, rubia, tiene los ojos marrones, tiene una familia perfecta. Con dinero, tiene un carácter dulce, y es una chica muy tranqu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DANI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Daniela, es la hermana pequeña de Babi, por lo tanto, tiene la misma familia que ella, pero es un poco más alocada, le gusta más el ries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rial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 chico al contrario de Babi, es un chico problemático,pero que en el fondo, a pesar de su carácter tiene un gran corazón. Él tiene un pasado que le cuesta olvidar para seguir adelante. Es uno de los motivos de su comportamiento tan violent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1:06Z</dcterms:created>
  <dc:creator>villena4dos17 villena4dos17</dc:creator>
  <dc:description/>
  <dc:language>en-US</dc:language>
  <cp:lastModifiedBy>villena4dos17 villena4dos17</cp:lastModifiedBy>
  <dcterms:modified xsi:type="dcterms:W3CDTF">2013-12-09T09:35:26Z</dcterms:modified>
  <cp:revision>1</cp:revision>
  <dc:subject/>
  <dc:title/>
</cp:coreProperties>
</file>