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655-09D3-4F61-ABF3-CDAF0804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16E-A47D-441D-844F-2197DDE4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3D1-634C-48DD-8DC8-2D06B73D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F42-3E7A-4890-9206-F7FB9DAC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BD5E-16D6-46FE-BCA0-C5B04E0E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8D50-3378-41B8-9763-14B0BF87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0B87-9091-4652-A8EB-0F396AAD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4D15-BB1B-4433-92B5-A02EBAA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D2EE-FA32-4109-8BEB-9E8BA279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2D91-ED6E-4746-8682-DB1F8E62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E739-D8FE-4C32-9FB1-2D3E65B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3FC-F1E1-4B49-AF07-B4B56DA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DF5-C321-445A-B854-8C81C018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A3BF-87E2-47DD-8B0D-C62E7A8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9AEA-8AFE-49BB-99BE-E8CCE062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9A8D-8333-4860-B1E6-79DB811A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6B11-00C2-4C58-A898-27EE261F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A35-CF06-49D6-AD47-29726894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9C2-7248-4395-8E77-BB9F2847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987-ACDF-49A5-8BCA-AA07C6B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05F-96F6-4AC7-B003-A10C706A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8FF-2A0D-4420-92F9-7DB0EA0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7DF-2A62-404F-ADD5-1232D4F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152-D27B-438F-8CA0-DC35FFD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FCAFD-44EF-4D29-ABEB-CB47E383D68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E3179-7A85-44CC-A037-C39EF96D5C84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13000" y="26352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8360" y="4967280"/>
            <a:ext cx="309564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Andrea Rom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antástico producto se encontrará por solo 49,99</a:t>
            </a:r>
            <a:r>
              <a:rPr b="0" lang="es-ES" sz="3200" spc="-1" strike="noStrike">
                <a:solidFill>
                  <a:srgbClr val="ffffff"/>
                </a:solidFill>
                <a:latin typeface="Ubuntu"/>
                <a:ea typeface="Ubuntu"/>
              </a:rPr>
              <a:t>€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, es un chollo, no desperdiciéis esta oportunidad, no ocurre todos los 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Se comenzará a vender en los establecimientos de Corte Inglés y solo durante unos meses de prueba en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Puedes comprarlo en los establecimientos o llamar por teléfo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Este es nuestro número. 963 65 45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LLAMA AHORA ¿A QUÉ ESPER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1768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 llegado el producto que llevas esperando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hizo su primera aparición en Mary Popp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98920" y="4176720"/>
            <a:ext cx="42861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s preguntareis para que sirve esta bolsa si no habéis visto la película. Pues para guardar cosas y lo mejor es que nunca se ll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2880" y="64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60720" y="4032360"/>
            <a:ext cx="5832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8552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ensamos en nuestros clientes las bolsas se pueden plegar y guardar en una bolsa con los contenidos que conten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28720" y="3959280"/>
            <a:ext cx="415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no todas las personas les gusta el mismo color hay mucha variedad de c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4960" y="-712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39880" y="3830760"/>
            <a:ext cx="38037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no os gusta de colores lisos, porqué os parecen muy soso, también las hay de estamp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21000" y="3527280"/>
            <a:ext cx="4707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nuestra empresas estamos concienciados en reciclar, vamos a intentar convenceros a vosotros de que también tenéis que reciclar, así que también tenemos bolsos recicl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48360" y="439272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0000" y="4608360"/>
            <a:ext cx="3527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olsas también saldrán en las marcas famosas como desigual, carolina herrera, totto 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4680" y="3816360"/>
            <a:ext cx="2587680" cy="283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27640" y="3587760"/>
            <a:ext cx="3247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on algunos modelos de los cuales puedes esco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4160" y="7128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20680" y="3417840"/>
            <a:ext cx="4351320" cy="335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72000" y="2955960"/>
            <a:ext cx="47516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0:17Z</dcterms:created>
  <dc:creator>villena1ade03 villena1ade03</dc:creator>
  <dc:description/>
  <dc:language>en-US</dc:language>
  <cp:lastModifiedBy>villena1ade03 villena1ade03</cp:lastModifiedBy>
  <dcterms:modified xsi:type="dcterms:W3CDTF">2014-06-09T07:31:44Z</dcterms:modified>
  <cp:revision>5</cp:revision>
  <dc:subject/>
  <dc:title/>
</cp:coreProperties>
</file>