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78F1-D520-4C1A-A98F-C5C52A480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0000" y="2128320"/>
            <a:ext cx="83106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60000" y="4602600"/>
            <a:ext cx="83106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A146-C834-42E5-A130-514E7E2ED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60000" y="2128320"/>
            <a:ext cx="4055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18440" y="2128320"/>
            <a:ext cx="4055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60000" y="4602600"/>
            <a:ext cx="4055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18440" y="4602600"/>
            <a:ext cx="4055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EBCB-393D-4F6D-8ED5-1065A0DB9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60000" y="2128320"/>
            <a:ext cx="2675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70160" y="2128320"/>
            <a:ext cx="2675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79960" y="2128320"/>
            <a:ext cx="2675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60000" y="4602600"/>
            <a:ext cx="2675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70160" y="4602600"/>
            <a:ext cx="2675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879960" y="4602600"/>
            <a:ext cx="2675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8456-CFC3-449E-B72A-4D6647AEC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F8F0F-BF3B-446B-AE97-C329C8CDA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60000" y="2128320"/>
            <a:ext cx="831060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B2B96-F7FB-4E9B-90AC-B74251D3F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60000" y="2128320"/>
            <a:ext cx="831060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05C40-28A9-4853-AB2C-6E3783BF6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60000" y="2128320"/>
            <a:ext cx="405540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518440" y="2128320"/>
            <a:ext cx="405540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AA27A-20BB-40E2-96E2-000D84AE4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56DB5-40ED-44B3-B4C7-301EECBDE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661680"/>
            <a:ext cx="867096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0E62B-7426-4330-B83D-7034FEF65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60000" y="2128320"/>
            <a:ext cx="4055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18440" y="2128320"/>
            <a:ext cx="405540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60000" y="4602600"/>
            <a:ext cx="4055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CEB48-D6F1-4018-8085-8BE1BFDE5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60000" y="2128320"/>
            <a:ext cx="831060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7A7B-B5F3-4AF1-8DA5-B8FF6CB1D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60000" y="2128320"/>
            <a:ext cx="405540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8440" y="2128320"/>
            <a:ext cx="4055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518440" y="4602600"/>
            <a:ext cx="4055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61740-56A6-4609-8F9D-81081073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60000" y="2128320"/>
            <a:ext cx="4055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8440" y="2128320"/>
            <a:ext cx="4055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60000" y="4602600"/>
            <a:ext cx="83106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5EDC3-814E-4C13-AE7B-EED983741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60000" y="2128320"/>
            <a:ext cx="83106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60000" y="4602600"/>
            <a:ext cx="83106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A7418-F8F1-41BB-A286-FE345809A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60000" y="2128320"/>
            <a:ext cx="4055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18440" y="2128320"/>
            <a:ext cx="4055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60000" y="4602600"/>
            <a:ext cx="4055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518440" y="4602600"/>
            <a:ext cx="4055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187F7-50CB-4037-8919-B550E9646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60000" y="2128320"/>
            <a:ext cx="2675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70160" y="2128320"/>
            <a:ext cx="2675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79960" y="2128320"/>
            <a:ext cx="2675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60000" y="4602600"/>
            <a:ext cx="2675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70160" y="4602600"/>
            <a:ext cx="2675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879960" y="4602600"/>
            <a:ext cx="2675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A55C4-6162-42FF-98F9-34ACFD9FD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60000" y="2128320"/>
            <a:ext cx="831060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5698-BE44-4C67-9D0B-0564A9C2D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60000" y="2128320"/>
            <a:ext cx="405540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18440" y="2128320"/>
            <a:ext cx="405540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CAF3-9626-4AED-9B81-4A55253B1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52FA-205B-4029-9B9A-0FC5F7F28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661680"/>
            <a:ext cx="867096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A7FA-2705-4D94-8D78-25C07F4CA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60000" y="2128320"/>
            <a:ext cx="4055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18440" y="2128320"/>
            <a:ext cx="405540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60000" y="4602600"/>
            <a:ext cx="4055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8F8E-A3FF-4126-B40E-E993ECB96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60000" y="2128320"/>
            <a:ext cx="405540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18440" y="2128320"/>
            <a:ext cx="4055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18440" y="4602600"/>
            <a:ext cx="4055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7D36-C2C8-4162-A677-768F527A4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60000" y="2128320"/>
            <a:ext cx="4055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18440" y="2128320"/>
            <a:ext cx="4055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60000" y="4602600"/>
            <a:ext cx="83106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4462-2D56-464A-A86F-F975D766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931953-C1A1-4688-9929-2CEA0292B4B9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60000" y="2128320"/>
            <a:ext cx="831060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971280" y="6743520"/>
            <a:ext cx="234324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698640" y="6743520"/>
            <a:ext cx="319068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335360" y="6743520"/>
            <a:ext cx="234324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49DFA2-75BD-4B13-B6A0-3D330519F581}" type="slidenum">
              <a: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413000" y="263520"/>
            <a:ext cx="7414920" cy="2303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20648"/>
                <a:gd name="adj2" fmla="val 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108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52735" dir="2700000" blurRad="0" rotWithShape="0">
                    <a:srgbClr val="00ffff">
                      <a:alpha val="20000"/>
                    </a:srgbClr>
                  </a:outerShdw>
                </a:effectLst>
                <a:latin typeface="Arial Black"/>
              </a:rPr>
              <a:t>LA BOLSA MAGICA</a:t>
            </a:r>
            <a:endParaRPr b="0" lang="en-US" sz="1800" spc="-1" strike="noStrike">
              <a:ln w="108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52735" dir="2700000" blurRad="0" rotWithShape="0">
                  <a:srgbClr val="00ffff">
                    <a:alpha val="2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048360" y="4967280"/>
            <a:ext cx="3095640" cy="2232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280" y="750600"/>
            <a:ext cx="867564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8315280" cy="491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Aft>
                <a:spcPts val="1426"/>
              </a:spcAft>
              <a:buSzPct val="100000"/>
              <a:buBlip>
                <a:blip r:embed="rId3"/>
              </a:buBlip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royecto Multilateral Comenius: ‘¿Qué lees?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Aft>
                <a:spcPts val="1426"/>
              </a:spcAft>
              <a:buSzPct val="100000"/>
              <a:buBlip>
                <a:blip r:embed="rId4"/>
              </a:buBlip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IES Isabel de Ville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Aft>
                <a:spcPts val="1426"/>
              </a:spcAft>
              <a:buSzPct val="100000"/>
              <a:buBlip>
                <a:blip r:embed="rId5"/>
              </a:buBlip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rofesor: José Andrés Mol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Aft>
                <a:spcPts val="1426"/>
              </a:spcAft>
              <a:buSzPct val="100000"/>
              <a:buBlip>
                <a:blip r:embed="rId6"/>
              </a:buBlip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lumno: Andrea Rome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Aft>
                <a:spcPts val="1426"/>
              </a:spcAft>
              <a:buSzPct val="100000"/>
              <a:buBlip>
                <a:blip r:embed="rId7"/>
              </a:buBlip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Grupo: 1º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71280" y="750600"/>
            <a:ext cx="867564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60360" y="2128320"/>
            <a:ext cx="8315280" cy="5288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SzPct val="100000"/>
              <a:buBlip>
                <a:blip r:embed="rId2"/>
              </a:buBlip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te fantástico producto se encontrará por solo 49,99</a:t>
            </a:r>
            <a:r>
              <a:rPr b="0" lang="es-ES" sz="3200" spc="-1" strike="noStrike">
                <a:solidFill>
                  <a:srgbClr val="ffffff"/>
                </a:solidFill>
                <a:latin typeface="Ubuntu"/>
                <a:ea typeface="Ubuntu"/>
              </a:rPr>
              <a:t>€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Ubuntu"/>
              </a:rPr>
              <a:t>, es un chollo, no desperdiciéis esta oportunidad, no ocurre todos los dí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SzPct val="100000"/>
              <a:buBlip>
                <a:blip r:embed="rId3"/>
              </a:buBlip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Ubuntu"/>
              </a:rPr>
              <a:t>Se comenzará a vender en los establecimientos de Corte Inglés y solo durante unos meses de prueba en Españ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SzPct val="100000"/>
              <a:buBlip>
                <a:blip r:embed="rId4"/>
              </a:buBlip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Ubuntu"/>
              </a:rPr>
              <a:t>Puedes comprarlo en los establecimientos o llamar por teléfon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SzPct val="100000"/>
              <a:buBlip>
                <a:blip r:embed="rId5"/>
              </a:buBlip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Ubuntu"/>
              </a:rPr>
              <a:t>Este es nuestro número. 963 65 45 2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SzPct val="100000"/>
              <a:buBlip>
                <a:blip r:embed="rId6"/>
              </a:buBlip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Ubuntu"/>
              </a:rPr>
              <a:t>LLAMA AHORA ¿A QUÉ ESPERA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73080" y="662040"/>
            <a:ext cx="8675640" cy="13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73080" y="662040"/>
            <a:ext cx="8675640" cy="13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417680" y="71280"/>
            <a:ext cx="7415280" cy="2303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20648"/>
                <a:gd name="adj2" fmla="val 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108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52735" dir="2700000" blurRad="0" rotWithShape="0">
                    <a:srgbClr val="00ffff">
                      <a:alpha val="20000"/>
                    </a:srgbClr>
                  </a:outerShdw>
                </a:effectLst>
                <a:latin typeface="Arial Black"/>
              </a:rPr>
              <a:t>LA BOLSA MAGICA</a:t>
            </a:r>
            <a:endParaRPr b="0" lang="en-US" sz="1800" spc="-1" strike="noStrike">
              <a:ln w="108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52735" dir="2700000" blurRad="0" rotWithShape="0">
                  <a:srgbClr val="00ffff">
                    <a:alpha val="2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280" y="750600"/>
            <a:ext cx="867564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831528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SzPct val="100000"/>
              <a:buBlip>
                <a:blip r:embed="rId2"/>
              </a:buBlip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Ha llegado el producto que llevas esperando año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SzPct val="100000"/>
              <a:buBlip>
                <a:blip r:embed="rId3"/>
              </a:buBlip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nteriormente hizo su primera aparición en Mary Poppi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2698920" y="4176720"/>
            <a:ext cx="4286160" cy="2457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1440000" y="0"/>
            <a:ext cx="7414920" cy="2303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20648"/>
                <a:gd name="adj2" fmla="val 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108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52735" dir="2700000" blurRad="0" rotWithShape="0">
                    <a:srgbClr val="00ffff">
                      <a:alpha val="20000"/>
                    </a:srgbClr>
                  </a:outerShdw>
                </a:effectLst>
                <a:latin typeface="Arial Black"/>
              </a:rPr>
              <a:t>LA BOLSA MAGICA</a:t>
            </a:r>
            <a:endParaRPr b="0" lang="en-US" sz="1800" spc="-1" strike="noStrike">
              <a:ln w="108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52735" dir="2700000" blurRad="0" rotWithShape="0">
                  <a:srgbClr val="00ffff">
                    <a:alpha val="2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71280" y="750600"/>
            <a:ext cx="867564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831528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SzPct val="100000"/>
              <a:buBlip>
                <a:blip r:embed="rId2"/>
              </a:buBlip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Os preguntareis para que sirve esta bolsa si no habéis visto la película. Pues para guardar cosas y lo mejor es que nunca se lle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442880" y="6480"/>
            <a:ext cx="7415280" cy="2303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20648"/>
                <a:gd name="adj2" fmla="val 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108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52735" dir="2700000" blurRad="0" rotWithShape="0">
                    <a:srgbClr val="00ffff">
                      <a:alpha val="20000"/>
                    </a:srgbClr>
                  </a:outerShdw>
                </a:effectLst>
                <a:latin typeface="Arial Black"/>
              </a:rPr>
              <a:t>LA BOLSA MAGICA</a:t>
            </a:r>
            <a:endParaRPr b="0" lang="en-US" sz="1800" spc="-1" strike="noStrike">
              <a:ln w="108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52735" dir="2700000" blurRad="0" rotWithShape="0">
                  <a:srgbClr val="00ffff">
                    <a:alpha val="2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2160720" y="4032360"/>
            <a:ext cx="583236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15640" y="785520"/>
            <a:ext cx="867564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831528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SzPct val="100000"/>
              <a:buBlip>
                <a:blip r:embed="rId2"/>
              </a:buBlip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omo pensamos en nuestros clientes las bolsas se pueden plegar y guardar en una bolsa con los contenidos que conteng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440000" y="0"/>
            <a:ext cx="7414920" cy="2303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20648"/>
                <a:gd name="adj2" fmla="val 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108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52735" dir="2700000" blurRad="0" rotWithShape="0">
                    <a:srgbClr val="00ffff">
                      <a:alpha val="20000"/>
                    </a:srgbClr>
                  </a:outerShdw>
                </a:effectLst>
                <a:latin typeface="Arial Black"/>
              </a:rPr>
              <a:t>LA BOLSA MAGICA</a:t>
            </a:r>
            <a:endParaRPr b="0" lang="en-US" sz="1800" spc="-1" strike="noStrike">
              <a:ln w="108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52735" dir="2700000" blurRad="0" rotWithShape="0">
                  <a:srgbClr val="00ffff">
                    <a:alpha val="2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1728720" y="3959280"/>
            <a:ext cx="4157640" cy="27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280" y="750600"/>
            <a:ext cx="867564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831528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SzPct val="100000"/>
              <a:buBlip>
                <a:blip r:embed="rId2"/>
              </a:buBlip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omo no todas las personas les gusta el mismo color hay mucha variedad de colo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434960" y="-71280"/>
            <a:ext cx="7415280" cy="2303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20648"/>
                <a:gd name="adj2" fmla="val 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108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52735" dir="2700000" blurRad="0" rotWithShape="0">
                    <a:srgbClr val="00ffff">
                      <a:alpha val="20000"/>
                    </a:srgbClr>
                  </a:outerShdw>
                </a:effectLst>
                <a:latin typeface="Arial Black"/>
              </a:rPr>
              <a:t>LA BOLSA MAGICA</a:t>
            </a:r>
            <a:endParaRPr b="0" lang="en-US" sz="1800" spc="-1" strike="noStrike">
              <a:ln w="108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52735" dir="2700000" blurRad="0" rotWithShape="0">
                  <a:srgbClr val="00ffff">
                    <a:alpha val="2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739880" y="3830760"/>
            <a:ext cx="3803760" cy="257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1280" y="750600"/>
            <a:ext cx="867564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428840" y="71280"/>
            <a:ext cx="7415280" cy="2303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20648"/>
                <a:gd name="adj2" fmla="val 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108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52735" dir="2700000" blurRad="0" rotWithShape="0">
                    <a:srgbClr val="00ffff">
                      <a:alpha val="20000"/>
                    </a:srgbClr>
                  </a:outerShdw>
                </a:effectLst>
                <a:latin typeface="Arial Black"/>
              </a:rPr>
              <a:t>LA BOLSA MAGICA</a:t>
            </a:r>
            <a:endParaRPr b="0" lang="en-US" sz="1800" spc="-1" strike="noStrike">
              <a:ln w="108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52735" dir="2700000" blurRad="0" rotWithShape="0">
                  <a:srgbClr val="00ffff">
                    <a:alpha val="2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831528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SzPct val="100000"/>
              <a:buBlip>
                <a:blip r:embed="rId2"/>
              </a:buBlip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Y si no os gusta de colores lisos, porqué os parecen muy soso, también las hay de estampad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221000" y="3527280"/>
            <a:ext cx="4707000" cy="33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280" y="750600"/>
            <a:ext cx="867564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428840" y="71280"/>
            <a:ext cx="7415280" cy="2303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20648"/>
                <a:gd name="adj2" fmla="val 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108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52735" dir="2700000" blurRad="0" rotWithShape="0">
                    <a:srgbClr val="00ffff">
                      <a:alpha val="20000"/>
                    </a:srgbClr>
                  </a:outerShdw>
                </a:effectLst>
                <a:latin typeface="Arial Black"/>
              </a:rPr>
              <a:t>LA BOLSA MAGICA</a:t>
            </a:r>
            <a:endParaRPr b="0" lang="en-US" sz="1800" spc="-1" strike="noStrike">
              <a:ln w="108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52735" dir="2700000" blurRad="0" rotWithShape="0">
                  <a:srgbClr val="00ffff">
                    <a:alpha val="2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831528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SzPct val="100000"/>
              <a:buBlip>
                <a:blip r:embed="rId2"/>
              </a:buBlip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n nuestra empresas estamos concienciados en reciclar, vamos a intentar convenceros a vosotros de que también tenéis que reciclar, así que también tenemos bolsos reciclad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6048360" y="4392720"/>
            <a:ext cx="3527280" cy="28083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1440000" y="4608360"/>
            <a:ext cx="3527280" cy="23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280" y="750600"/>
            <a:ext cx="867564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831528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SzPct val="100000"/>
              <a:buBlip>
                <a:blip r:embed="rId2"/>
              </a:buBlip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tas bolsas también saldrán en las marcas famosas como desigual, carolina herrera, totto ..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428840" y="71280"/>
            <a:ext cx="7415280" cy="2303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20648"/>
                <a:gd name="adj2" fmla="val 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108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52735" dir="2700000" blurRad="0" rotWithShape="0">
                    <a:srgbClr val="00ffff">
                      <a:alpha val="20000"/>
                    </a:srgbClr>
                  </a:outerShdw>
                </a:effectLst>
                <a:latin typeface="Arial Black"/>
              </a:rPr>
              <a:t>LA BOLSA MAGICA</a:t>
            </a:r>
            <a:endParaRPr b="0" lang="en-US" sz="1800" spc="-1" strike="noStrike">
              <a:ln w="108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52735" dir="2700000" blurRad="0" rotWithShape="0">
                  <a:srgbClr val="00ffff">
                    <a:alpha val="2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444680" y="3816360"/>
            <a:ext cx="2587680" cy="28353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5327640" y="3587760"/>
            <a:ext cx="3247920" cy="33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71280" y="750600"/>
            <a:ext cx="867564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831528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SzPct val="100000"/>
              <a:buBlip>
                <a:blip r:embed="rId2"/>
              </a:buBlip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tos son algunos modelos de los cuales puedes escoge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424160" y="71280"/>
            <a:ext cx="7414920" cy="2303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20648"/>
                <a:gd name="adj2" fmla="val 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108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52735" dir="2700000" blurRad="0" rotWithShape="0">
                    <a:srgbClr val="00ffff">
                      <a:alpha val="20000"/>
                    </a:srgbClr>
                  </a:outerShdw>
                </a:effectLst>
                <a:latin typeface="Arial Black"/>
              </a:rPr>
              <a:t>LA BOLSA MAGICA</a:t>
            </a:r>
            <a:endParaRPr b="0" lang="en-US" sz="1800" spc="-1" strike="noStrike">
              <a:ln w="108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52735" dir="2700000" blurRad="0" rotWithShape="0">
                  <a:srgbClr val="00ffff">
                    <a:alpha val="2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120680" y="3417840"/>
            <a:ext cx="4351320" cy="33512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5472000" y="2955960"/>
            <a:ext cx="4751640" cy="2732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6T07:30:17Z</dcterms:created>
  <dc:creator>villena1ade03 villena1ade03</dc:creator>
  <dc:description/>
  <dc:language>en-US</dc:language>
  <cp:lastModifiedBy>villena1ade03 villena1ade03</cp:lastModifiedBy>
  <dcterms:modified xsi:type="dcterms:W3CDTF">2014-06-09T07:31:44Z</dcterms:modified>
  <cp:revision>5</cp:revision>
  <dc:subject/>
  <dc:title/>
</cp:coreProperties>
</file>