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5D0-4FDD-49FA-A353-C1D38FE9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C3C-43E2-4AE9-B3A8-85CC1EAA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0AB-84F1-4663-9622-776E71D0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99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00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99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ADD-796A-4A89-864A-7D209CD1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F85A-9D9F-4774-A222-D1AF688E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32FB-EB88-441C-9A8E-197FC96D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373A-55F5-4FFA-8367-30949C64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2807-6A96-4345-B9CC-3405FCFE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AB9E-A416-4FB6-A19B-E2589AA0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661680"/>
            <a:ext cx="867096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F63B-B343-4BD8-8754-AAF09D85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89EC-989B-4689-AAFF-CA3D56EE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E30-BE6C-466E-9932-3B6DCFF7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ED62-247A-453A-8091-6F40D4BE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D5E3-8F62-4524-AD31-35557D6B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5225-164B-4F4B-AE15-97793950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44F1-1E31-466F-81C3-CF6F1138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01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799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00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01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799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9898-D117-40A0-8739-ED9E95CF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518-89DF-4627-A25C-FF665ED5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541-FF65-4D80-A2ED-8A177195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0A9-2FCD-4F1C-BBC4-EA80D97A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1680"/>
            <a:ext cx="867096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3F5-03B7-4FDA-BF1E-5F70F986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290-D1B1-4065-B3B4-A54433EA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176-6465-4C89-A9D4-D4A9AFE8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14E-C558-4749-ADF7-D147E569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8DDBB-B2DD-400F-9255-A081D7F880F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7128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98640" y="674352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36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68F9F-921B-4EB8-8787-0F7656E7C479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13000" y="26352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48360" y="4967280"/>
            <a:ext cx="3095640" cy="2232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to Multilateral Comenius: ‘¿Qué lees?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umno: Andrea Rom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upo: 1º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e fantástico producto se encontrará por solo 49,99</a:t>
            </a:r>
            <a:r>
              <a:rPr b="0" lang="es-ES" sz="3200" spc="-1" strike="noStrike">
                <a:solidFill>
                  <a:srgbClr val="ffffff"/>
                </a:solidFill>
                <a:latin typeface="Ubuntu"/>
                <a:ea typeface="Ubuntu"/>
              </a:rPr>
              <a:t>€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, es un chollo, no desperdiciéis esta oportunidad, no ocurre todos los dí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Se comenzará a vender en los establecimientos de Corte Inglés y solo durante unos meses de prueba en Españ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Puedes comprarlo en los establecimientos o llamar por teléfo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Este es nuestro número. 963 65 45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LLAMA AHORA ¿A QUÉ ESPER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30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30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1768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 llegado el producto que llevas esperando añ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nteriormente hizo su primera aparición en Mary Popp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698920" y="4176720"/>
            <a:ext cx="4286160" cy="2457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440000" y="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s preguntareis para que sirve esta bolsa si no habéis visto la película. Pues para guardar cosas y lo mejor es que nunca se ll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42880" y="6480"/>
            <a:ext cx="7415280" cy="23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160720" y="4032360"/>
            <a:ext cx="5832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78552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pensamos en nuestros clientes las bolsas se pueden plegar y guardar en una bolsa con los contenidos que conteng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40000" y="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728720" y="3959280"/>
            <a:ext cx="41576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no todas las personas les gusta el mismo color hay mucha variedad de col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34960" y="-71280"/>
            <a:ext cx="7415280" cy="23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739880" y="3830760"/>
            <a:ext cx="3803760" cy="25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2884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 si no os gusta de colores lisos, porqué os parecen muy soso, también las hay de estamp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221000" y="3527280"/>
            <a:ext cx="47070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2884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nuestra empresas estamos concienciados en reciclar, vamos a intentar convenceros a vosotros de que también tenéis que reciclar, así que también tenemos bolsos recicl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48360" y="4392720"/>
            <a:ext cx="3527280" cy="280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440000" y="4608360"/>
            <a:ext cx="35272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as bolsas también saldrán en las marcas famosas como desigual, carolina herrera, totto ..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2884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444680" y="3816360"/>
            <a:ext cx="2587680" cy="2835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327640" y="3587760"/>
            <a:ext cx="324792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os son algunos modelos de los cuales puedes escog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24160" y="7128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20680" y="3417840"/>
            <a:ext cx="4351320" cy="3351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72000" y="2955960"/>
            <a:ext cx="4751640" cy="273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7:30:17Z</dcterms:created>
  <dc:creator>villena1ade03 villena1ade03</dc:creator>
  <dc:description/>
  <dc:language>en-US</dc:language>
  <cp:lastModifiedBy>villena1ade03 villena1ade03</cp:lastModifiedBy>
  <dcterms:modified xsi:type="dcterms:W3CDTF">2014-06-09T07:31:44Z</dcterms:modified>
  <cp:revision>5</cp:revision>
  <dc:subject/>
  <dc:title/>
</cp:coreProperties>
</file>