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DE01-084C-4905-9E14-5707B574B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71640" y="661680"/>
            <a:ext cx="8670960" cy="13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0000" y="2128320"/>
            <a:ext cx="831060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60000" y="4602600"/>
            <a:ext cx="831060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E2F7-4CC0-4493-8C10-918E7B59A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71640" y="661680"/>
            <a:ext cx="8670960" cy="13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60000" y="2128320"/>
            <a:ext cx="405540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518440" y="2128320"/>
            <a:ext cx="405540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60000" y="4602600"/>
            <a:ext cx="405540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518440" y="4602600"/>
            <a:ext cx="405540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2B4B-85B1-4953-9C35-1ED830A15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71640" y="661680"/>
            <a:ext cx="8670960" cy="13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60000" y="2128320"/>
            <a:ext cx="267588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70160" y="2128320"/>
            <a:ext cx="267588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79960" y="2128320"/>
            <a:ext cx="267588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60000" y="4602600"/>
            <a:ext cx="267588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70160" y="4602600"/>
            <a:ext cx="267588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879960" y="4602600"/>
            <a:ext cx="267588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E909-88D6-42FC-B071-B9942307D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76E6A-81AD-4D71-85C7-4E087AC64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71640" y="661680"/>
            <a:ext cx="8670960" cy="13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60000" y="2128320"/>
            <a:ext cx="831060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0487D-04E3-4697-88AA-A954B59C0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71640" y="661680"/>
            <a:ext cx="8670960" cy="13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60000" y="2128320"/>
            <a:ext cx="831060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86662-1885-460E-B21E-2AA56116F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71640" y="661680"/>
            <a:ext cx="8670960" cy="13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60000" y="2128320"/>
            <a:ext cx="405540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518440" y="2128320"/>
            <a:ext cx="405540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5E200-6B97-4D12-A003-1ED7D3459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71640" y="661680"/>
            <a:ext cx="8670960" cy="13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49CBD-4A51-4633-AA95-DC546B83A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71640" y="661680"/>
            <a:ext cx="867096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AD665-5EE1-4AA7-AA49-8A18D8DB4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71640" y="661680"/>
            <a:ext cx="8670960" cy="13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60000" y="2128320"/>
            <a:ext cx="405540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518440" y="2128320"/>
            <a:ext cx="405540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60000" y="4602600"/>
            <a:ext cx="405540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011D9-8695-4A2A-8E6D-AAE30C682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71640" y="661680"/>
            <a:ext cx="8670960" cy="13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60000" y="2128320"/>
            <a:ext cx="831060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CE89-A0E2-4A2F-B46E-50504A7F1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71640" y="661680"/>
            <a:ext cx="8670960" cy="13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60000" y="2128320"/>
            <a:ext cx="405540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18440" y="2128320"/>
            <a:ext cx="405540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518440" y="4602600"/>
            <a:ext cx="405540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526FA-2D08-4F25-9227-5F4A1E942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71640" y="661680"/>
            <a:ext cx="8670960" cy="13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60000" y="2128320"/>
            <a:ext cx="405540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18440" y="2128320"/>
            <a:ext cx="405540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60000" y="4602600"/>
            <a:ext cx="831060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C2155-495C-418B-83C7-EE45E3120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71640" y="661680"/>
            <a:ext cx="8670960" cy="13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60000" y="2128320"/>
            <a:ext cx="831060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60000" y="4602600"/>
            <a:ext cx="831060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83AF4-228B-47A9-B904-E4ED8A8FC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71640" y="661680"/>
            <a:ext cx="8670960" cy="13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60000" y="2128320"/>
            <a:ext cx="405540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518440" y="2128320"/>
            <a:ext cx="405540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60000" y="4602600"/>
            <a:ext cx="405540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518440" y="4602600"/>
            <a:ext cx="405540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FB133-9F2D-4436-AA01-E33434C89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71640" y="661680"/>
            <a:ext cx="8670960" cy="13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60000" y="2128320"/>
            <a:ext cx="267588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070160" y="2128320"/>
            <a:ext cx="267588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79960" y="2128320"/>
            <a:ext cx="267588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60000" y="4602600"/>
            <a:ext cx="267588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070160" y="4602600"/>
            <a:ext cx="267588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879960" y="4602600"/>
            <a:ext cx="267588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0B7C5-7A07-4C33-A9DF-32AF1563A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71640" y="661680"/>
            <a:ext cx="8670960" cy="13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60000" y="2128320"/>
            <a:ext cx="831060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E138-4F05-4F0F-8951-3CF0F0724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71640" y="661680"/>
            <a:ext cx="8670960" cy="13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60000" y="2128320"/>
            <a:ext cx="405540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518440" y="2128320"/>
            <a:ext cx="405540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6742-7B4E-42A8-A658-0DC884ADC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71640" y="661680"/>
            <a:ext cx="8670960" cy="13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55CC-C9C2-4445-A648-FF6BC7793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71640" y="661680"/>
            <a:ext cx="867096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62F4-4484-408A-A7B4-833BB9545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71640" y="661680"/>
            <a:ext cx="8670960" cy="13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60000" y="2128320"/>
            <a:ext cx="405540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518440" y="2128320"/>
            <a:ext cx="405540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60000" y="4602600"/>
            <a:ext cx="405540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E7FA-BB88-4F10-A492-5E072C68C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71640" y="661680"/>
            <a:ext cx="8670960" cy="13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60000" y="2128320"/>
            <a:ext cx="405540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518440" y="2128320"/>
            <a:ext cx="405540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518440" y="4602600"/>
            <a:ext cx="405540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8841-8A4D-4E0F-882F-44C0921C9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71640" y="661680"/>
            <a:ext cx="8670960" cy="13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60000" y="2128320"/>
            <a:ext cx="405540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18440" y="2128320"/>
            <a:ext cx="405540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60000" y="4602600"/>
            <a:ext cx="831060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A91C-A827-44A8-B2A3-C23E51B1F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365FB6-AF61-47BE-9233-5BCEEFEA4A08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71640" y="661680"/>
            <a:ext cx="8670960" cy="13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260000" y="2128320"/>
            <a:ext cx="831060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971280" y="6743520"/>
            <a:ext cx="234324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698640" y="6743520"/>
            <a:ext cx="319068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335360" y="6743520"/>
            <a:ext cx="234324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103707-36D1-40FF-88E3-94EC31B625FE}" type="slidenum">
              <a:rPr b="0" lang="es-ES" sz="14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1413000" y="263520"/>
            <a:ext cx="7414920" cy="2303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Wave1">
              <a:avLst>
                <a:gd name="adj1" fmla="val 20648"/>
                <a:gd name="adj2" fmla="val 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ln w="108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52735" dir="2700000" blurRad="0" rotWithShape="0">
                    <a:srgbClr val="00ffff">
                      <a:alpha val="20000"/>
                    </a:srgbClr>
                  </a:outerShdw>
                </a:effectLst>
                <a:latin typeface="Arial Black"/>
              </a:rPr>
              <a:t>LA BOLSA MAGICA</a:t>
            </a:r>
            <a:endParaRPr b="0" lang="en-US" sz="1800" spc="-1" strike="noStrike">
              <a:ln w="108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52735" dir="2700000" blurRad="0" rotWithShape="0">
                  <a:srgbClr val="00ffff">
                    <a:alpha val="2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6048360" y="4967280"/>
            <a:ext cx="3095640" cy="2232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71280" y="750600"/>
            <a:ext cx="867564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60360" y="2128680"/>
            <a:ext cx="8315280" cy="491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Aft>
                <a:spcPts val="1426"/>
              </a:spcAft>
              <a:buSzPct val="100000"/>
              <a:buBlip>
                <a:blip r:embed="rId3"/>
              </a:buBlip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royecto Multilateral Comenius: ‘¿Qué lees?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Aft>
                <a:spcPts val="1426"/>
              </a:spcAft>
              <a:buSzPct val="100000"/>
              <a:buBlip>
                <a:blip r:embed="rId4"/>
              </a:buBlip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IES Isabel de Ville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Aft>
                <a:spcPts val="1426"/>
              </a:spcAft>
              <a:buSzPct val="100000"/>
              <a:buBlip>
                <a:blip r:embed="rId5"/>
              </a:buBlip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rofesor: José Andrés Moli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Aft>
                <a:spcPts val="1426"/>
              </a:spcAft>
              <a:buSzPct val="100000"/>
              <a:buBlip>
                <a:blip r:embed="rId6"/>
              </a:buBlip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Alumno: Andrea Romer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Aft>
                <a:spcPts val="1426"/>
              </a:spcAft>
              <a:buSzPct val="100000"/>
              <a:buBlip>
                <a:blip r:embed="rId7"/>
              </a:buBlip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Grupo: 1º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71280" y="750600"/>
            <a:ext cx="867564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60360" y="2128320"/>
            <a:ext cx="8315280" cy="5288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4440" indent="-320760">
              <a:lnSpc>
                <a:spcPct val="93000"/>
              </a:lnSpc>
              <a:spcAft>
                <a:spcPts val="1426"/>
              </a:spcAft>
              <a:buSzPct val="100000"/>
              <a:buBlip>
                <a:blip r:embed="rId2"/>
              </a:buBlip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ste fantástico producto se encontrará por solo 49,99</a:t>
            </a:r>
            <a:r>
              <a:rPr b="0" lang="es-ES" sz="3200" spc="-1" strike="noStrike">
                <a:solidFill>
                  <a:srgbClr val="ffffff"/>
                </a:solidFill>
                <a:latin typeface="Ubuntu"/>
                <a:ea typeface="Ubuntu"/>
              </a:rPr>
              <a:t>€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Ubuntu"/>
              </a:rPr>
              <a:t>, es un chollo, no desperdiciéis esta oportunidad, no ocurre todos los dí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SzPct val="100000"/>
              <a:buBlip>
                <a:blip r:embed="rId3"/>
              </a:buBlip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Ubuntu"/>
              </a:rPr>
              <a:t>Se comenzará a vender en los establecimientos de Corte Inglés y solo durante unos meses de prueba en Españ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SzPct val="100000"/>
              <a:buBlip>
                <a:blip r:embed="rId4"/>
              </a:buBlip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Ubuntu"/>
              </a:rPr>
              <a:t>Puedes comprarlo en los establecimientos o llamar por teléfon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SzPct val="100000"/>
              <a:buBlip>
                <a:blip r:embed="rId5"/>
              </a:buBlip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Ubuntu"/>
              </a:rPr>
              <a:t>Este es nuestro número. 963 65 45 2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SzPct val="100000"/>
              <a:buBlip>
                <a:blip r:embed="rId6"/>
              </a:buBlip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Ubuntu"/>
              </a:rPr>
              <a:t>LLAMA AHORA ¿A QUÉ ESPERA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973080" y="662040"/>
            <a:ext cx="8675640" cy="13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973080" y="662040"/>
            <a:ext cx="8675640" cy="13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417680" y="71280"/>
            <a:ext cx="7415280" cy="2303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Wave1">
              <a:avLst>
                <a:gd name="adj1" fmla="val 20648"/>
                <a:gd name="adj2" fmla="val 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ln w="108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52735" dir="2700000" blurRad="0" rotWithShape="0">
                    <a:srgbClr val="00ffff">
                      <a:alpha val="20000"/>
                    </a:srgbClr>
                  </a:outerShdw>
                </a:effectLst>
                <a:latin typeface="Arial Black"/>
              </a:rPr>
              <a:t>LA BOLSA MAGICA</a:t>
            </a:r>
            <a:endParaRPr b="0" lang="en-US" sz="1800" spc="-1" strike="noStrike">
              <a:ln w="108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52735" dir="2700000" blurRad="0" rotWithShape="0">
                  <a:srgbClr val="00ffff">
                    <a:alpha val="2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71280" y="750600"/>
            <a:ext cx="867564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60360" y="2128680"/>
            <a:ext cx="831528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SzPct val="100000"/>
              <a:buBlip>
                <a:blip r:embed="rId2"/>
              </a:buBlip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Ha llegado el producto que llevas esperando año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SzPct val="100000"/>
              <a:buBlip>
                <a:blip r:embed="rId3"/>
              </a:buBlip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Anteriormente hizo su primera aparición en Mary Poppi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2698920" y="4176720"/>
            <a:ext cx="4286160" cy="24573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1440000" y="0"/>
            <a:ext cx="7414920" cy="2303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Wave1">
              <a:avLst>
                <a:gd name="adj1" fmla="val 20648"/>
                <a:gd name="adj2" fmla="val 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ln w="108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52735" dir="2700000" blurRad="0" rotWithShape="0">
                    <a:srgbClr val="00ffff">
                      <a:alpha val="20000"/>
                    </a:srgbClr>
                  </a:outerShdw>
                </a:effectLst>
                <a:latin typeface="Arial Black"/>
              </a:rPr>
              <a:t>LA BOLSA MAGICA</a:t>
            </a:r>
            <a:endParaRPr b="0" lang="en-US" sz="1800" spc="-1" strike="noStrike">
              <a:ln w="108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52735" dir="2700000" blurRad="0" rotWithShape="0">
                  <a:srgbClr val="00ffff">
                    <a:alpha val="2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71280" y="750600"/>
            <a:ext cx="867564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60360" y="2128680"/>
            <a:ext cx="831528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SzPct val="100000"/>
              <a:buBlip>
                <a:blip r:embed="rId2"/>
              </a:buBlip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Os preguntareis para que sirve esta bolsa si no habéis visto la película. Pues para guardar cosas y lo mejor es que nunca se llen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442880" y="6480"/>
            <a:ext cx="7415280" cy="2303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Wave1">
              <a:avLst>
                <a:gd name="adj1" fmla="val 20648"/>
                <a:gd name="adj2" fmla="val 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ln w="108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52735" dir="2700000" blurRad="0" rotWithShape="0">
                    <a:srgbClr val="00ffff">
                      <a:alpha val="20000"/>
                    </a:srgbClr>
                  </a:outerShdw>
                </a:effectLst>
                <a:latin typeface="Arial Black"/>
              </a:rPr>
              <a:t>LA BOLSA MAGICA</a:t>
            </a:r>
            <a:endParaRPr b="0" lang="en-US" sz="1800" spc="-1" strike="noStrike">
              <a:ln w="108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52735" dir="2700000" blurRad="0" rotWithShape="0">
                  <a:srgbClr val="00ffff">
                    <a:alpha val="2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2160720" y="4032360"/>
            <a:ext cx="583236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15640" y="785520"/>
            <a:ext cx="867564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60360" y="2128680"/>
            <a:ext cx="831528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SzPct val="100000"/>
              <a:buBlip>
                <a:blip r:embed="rId2"/>
              </a:buBlip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Como pensamos en nuestros clientes las bolsas se pueden plegar y guardar en una bolsa con los contenidos que contenga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440000" y="0"/>
            <a:ext cx="7414920" cy="2303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Wave1">
              <a:avLst>
                <a:gd name="adj1" fmla="val 20648"/>
                <a:gd name="adj2" fmla="val 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ln w="108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52735" dir="2700000" blurRad="0" rotWithShape="0">
                    <a:srgbClr val="00ffff">
                      <a:alpha val="20000"/>
                    </a:srgbClr>
                  </a:outerShdw>
                </a:effectLst>
                <a:latin typeface="Arial Black"/>
              </a:rPr>
              <a:t>LA BOLSA MAGICA</a:t>
            </a:r>
            <a:endParaRPr b="0" lang="en-US" sz="1800" spc="-1" strike="noStrike">
              <a:ln w="108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52735" dir="2700000" blurRad="0" rotWithShape="0">
                  <a:srgbClr val="00ffff">
                    <a:alpha val="2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1728720" y="3959280"/>
            <a:ext cx="4157640" cy="273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71280" y="750600"/>
            <a:ext cx="867564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60360" y="2128680"/>
            <a:ext cx="831528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SzPct val="100000"/>
              <a:buBlip>
                <a:blip r:embed="rId2"/>
              </a:buBlip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Como no todas las personas les gusta el mismo color hay mucha variedad de color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434960" y="-71280"/>
            <a:ext cx="7415280" cy="2303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Wave1">
              <a:avLst>
                <a:gd name="adj1" fmla="val 20648"/>
                <a:gd name="adj2" fmla="val 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ln w="108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52735" dir="2700000" blurRad="0" rotWithShape="0">
                    <a:srgbClr val="00ffff">
                      <a:alpha val="20000"/>
                    </a:srgbClr>
                  </a:outerShdw>
                </a:effectLst>
                <a:latin typeface="Arial Black"/>
              </a:rPr>
              <a:t>LA BOLSA MAGICA</a:t>
            </a:r>
            <a:endParaRPr b="0" lang="en-US" sz="1800" spc="-1" strike="noStrike">
              <a:ln w="108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52735" dir="2700000" blurRad="0" rotWithShape="0">
                  <a:srgbClr val="00ffff">
                    <a:alpha val="2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1739880" y="3830760"/>
            <a:ext cx="3803760" cy="257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71280" y="750600"/>
            <a:ext cx="867564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428840" y="71280"/>
            <a:ext cx="7415280" cy="2303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Wave1">
              <a:avLst>
                <a:gd name="adj1" fmla="val 20648"/>
                <a:gd name="adj2" fmla="val 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ln w="108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52735" dir="2700000" blurRad="0" rotWithShape="0">
                    <a:srgbClr val="00ffff">
                      <a:alpha val="20000"/>
                    </a:srgbClr>
                  </a:outerShdw>
                </a:effectLst>
                <a:latin typeface="Arial Black"/>
              </a:rPr>
              <a:t>LA BOLSA MAGICA</a:t>
            </a:r>
            <a:endParaRPr b="0" lang="en-US" sz="1800" spc="-1" strike="noStrike">
              <a:ln w="108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52735" dir="2700000" blurRad="0" rotWithShape="0">
                  <a:srgbClr val="00ffff">
                    <a:alpha val="2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60360" y="2128680"/>
            <a:ext cx="831528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SzPct val="100000"/>
              <a:buBlip>
                <a:blip r:embed="rId2"/>
              </a:buBlip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Y si no os gusta de colores lisos, porqué os parecen muy soso, también las hay de estampad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4221000" y="3527280"/>
            <a:ext cx="4707000" cy="331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280" y="750600"/>
            <a:ext cx="867564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428840" y="71280"/>
            <a:ext cx="7415280" cy="2303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Wave1">
              <a:avLst>
                <a:gd name="adj1" fmla="val 20648"/>
                <a:gd name="adj2" fmla="val 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ln w="108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52735" dir="2700000" blurRad="0" rotWithShape="0">
                    <a:srgbClr val="00ffff">
                      <a:alpha val="20000"/>
                    </a:srgbClr>
                  </a:outerShdw>
                </a:effectLst>
                <a:latin typeface="Arial Black"/>
              </a:rPr>
              <a:t>LA BOLSA MAGICA</a:t>
            </a:r>
            <a:endParaRPr b="0" lang="en-US" sz="1800" spc="-1" strike="noStrike">
              <a:ln w="108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52735" dir="2700000" blurRad="0" rotWithShape="0">
                  <a:srgbClr val="00ffff">
                    <a:alpha val="2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60360" y="2128680"/>
            <a:ext cx="831528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SzPct val="100000"/>
              <a:buBlip>
                <a:blip r:embed="rId2"/>
              </a:buBlip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n nuestra empresas estamos concienciados en reciclar, vamos a intentar convenceros a vosotros de que también tenéis que reciclar, así que también tenemos bolsos reciclad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6048360" y="4392720"/>
            <a:ext cx="3527280" cy="28083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1440000" y="4608360"/>
            <a:ext cx="3527280" cy="23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71280" y="750600"/>
            <a:ext cx="867564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60360" y="2128680"/>
            <a:ext cx="831528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SzPct val="100000"/>
              <a:buBlip>
                <a:blip r:embed="rId2"/>
              </a:buBlip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stas bolsas también saldrán en las marcas famosas como desigual, carolina herrera, totto ..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428840" y="71280"/>
            <a:ext cx="7415280" cy="2303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Wave1">
              <a:avLst>
                <a:gd name="adj1" fmla="val 20648"/>
                <a:gd name="adj2" fmla="val 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ln w="108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52735" dir="2700000" blurRad="0" rotWithShape="0">
                    <a:srgbClr val="00ffff">
                      <a:alpha val="20000"/>
                    </a:srgbClr>
                  </a:outerShdw>
                </a:effectLst>
                <a:latin typeface="Arial Black"/>
              </a:rPr>
              <a:t>LA BOLSA MAGICA</a:t>
            </a:r>
            <a:endParaRPr b="0" lang="en-US" sz="1800" spc="-1" strike="noStrike">
              <a:ln w="108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52735" dir="2700000" blurRad="0" rotWithShape="0">
                  <a:srgbClr val="00ffff">
                    <a:alpha val="2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1444680" y="3816360"/>
            <a:ext cx="2587680" cy="28353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5327640" y="3587760"/>
            <a:ext cx="3247920" cy="332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71280" y="750600"/>
            <a:ext cx="867564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60360" y="2128680"/>
            <a:ext cx="831528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SzPct val="100000"/>
              <a:buBlip>
                <a:blip r:embed="rId2"/>
              </a:buBlip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stos son algunos modelos de los cuales puedes escoger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424160" y="71280"/>
            <a:ext cx="7414920" cy="2303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Wave1">
              <a:avLst>
                <a:gd name="adj1" fmla="val 20648"/>
                <a:gd name="adj2" fmla="val 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ln w="108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52735" dir="2700000" blurRad="0" rotWithShape="0">
                    <a:srgbClr val="00ffff">
                      <a:alpha val="20000"/>
                    </a:srgbClr>
                  </a:outerShdw>
                </a:effectLst>
                <a:latin typeface="Arial Black"/>
              </a:rPr>
              <a:t>LA BOLSA MAGICA</a:t>
            </a:r>
            <a:endParaRPr b="0" lang="en-US" sz="1800" spc="-1" strike="noStrike">
              <a:ln w="108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52735" dir="2700000" blurRad="0" rotWithShape="0">
                  <a:srgbClr val="00ffff">
                    <a:alpha val="2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1120680" y="3417840"/>
            <a:ext cx="4351320" cy="33512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5472000" y="2955960"/>
            <a:ext cx="4751640" cy="27320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6T07:30:17Z</dcterms:created>
  <dc:creator>villena1ade03 villena1ade03</dc:creator>
  <dc:description/>
  <dc:language>en-US</dc:language>
  <cp:lastModifiedBy>villena1ade03 villena1ade03</cp:lastModifiedBy>
  <dcterms:modified xsi:type="dcterms:W3CDTF">2014-06-09T07:31:44Z</dcterms:modified>
  <cp:revision>5</cp:revision>
  <dc:subject/>
  <dc:title/>
</cp:coreProperties>
</file>