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D22F-FBA7-4A5E-9D2B-14D31BA2B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8310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60000" y="4602600"/>
            <a:ext cx="8310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AE0B-187F-4E45-9779-243E14A8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6000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1844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55CE-DE55-4E15-A84C-C1C9E7E7B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0160" y="212832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79960" y="212832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60000" y="460260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0160" y="460260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79960" y="460260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27E2-2F7F-456E-825F-7B003DC9F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FEE0-CAFD-401C-8D74-83133650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60000" y="2128320"/>
            <a:ext cx="83106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8F23-DF42-4395-AE25-051EEB5F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83106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2BA8-FE71-4EB2-B572-8CAEA196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E422-4AE5-4C35-961A-B78C82F5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D584-B8EC-4346-AEEF-F85BDC41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661680"/>
            <a:ext cx="867096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1455-70D1-46B2-AD4D-5A6697DC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6000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463B-13FD-460B-BEB9-E2891002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60000" y="2128320"/>
            <a:ext cx="83106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14DE-37D8-4BA2-8B9E-79D86A51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1844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46A0-7AD3-4B76-A78F-C0E8608F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0000" y="4602600"/>
            <a:ext cx="8310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1FE5-BFC7-4DE9-9A9F-6F740B94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8310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60000" y="4602600"/>
            <a:ext cx="8310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0751-829E-4F13-8C0A-F10D87A6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000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1844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4B26-90FA-4E5B-9715-04F307AB2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70160" y="212832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79960" y="212832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60000" y="460260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70160" y="460260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79960" y="460260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9668-FD22-4EE3-812E-F7A093E04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83106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F8E6-4D5E-4294-BBA1-47095B0F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3785-B920-43A6-BC32-4155F46F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02FB-9CA5-4A34-82BA-534D1149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661680"/>
            <a:ext cx="867096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4F69-9F31-4449-A0E6-99C77BF2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6000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7AF4-2C4A-4D77-BB7B-1CB8013D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1844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5A61-4CCE-4C96-811E-12502D93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60000" y="4602600"/>
            <a:ext cx="8310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4603-E313-4FE5-B45C-A02C5872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17A2F-338F-440D-883F-A228B6618B03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60000" y="2128320"/>
            <a:ext cx="83106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71280" y="674352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698640" y="6743520"/>
            <a:ext cx="31906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335360" y="674352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5BB94-EC22-4B2A-93B6-C80CDBB1C594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413000" y="263520"/>
            <a:ext cx="741492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048360" y="4967280"/>
            <a:ext cx="3095640" cy="2232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yecto Multilateral Comenius: ‘¿Qué lees?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ES Isabel de Vill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fesor: José Andrés Mol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lumno: Andrea Rom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7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Grupo: 1º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60360" y="2128320"/>
            <a:ext cx="8315280" cy="5288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te fantástico producto se encontrará por solo 49,99</a:t>
            </a:r>
            <a:r>
              <a:rPr b="0" lang="es-ES" sz="3200" spc="-1" strike="noStrike">
                <a:solidFill>
                  <a:srgbClr val="ffffff"/>
                </a:solidFill>
                <a:latin typeface="Ubuntu"/>
                <a:ea typeface="Ubuntu"/>
              </a:rPr>
              <a:t>€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Ubuntu"/>
              </a:rPr>
              <a:t>, es un chollo, no desperdiciéis esta oportunidad, no ocurre todos los dí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Ubuntu"/>
              </a:rPr>
              <a:t>Se comenzará a vender en los establecimientos de Corte Inglés y solo durante unos meses de prueba en Españ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Ubuntu"/>
              </a:rPr>
              <a:t>Puedes comprarlo en los establecimientos o llamar por teléfo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Ubuntu"/>
              </a:rPr>
              <a:t>Este es nuestro número. 963 65 45 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Ubuntu"/>
              </a:rPr>
              <a:t>LLAMA AHORA ¿A QUÉ ESPERA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30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30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417680" y="71280"/>
            <a:ext cx="741528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a llegado el producto que llevas esperando año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nteriormente hizo su primera aparición en Mary Poppi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698920" y="4176720"/>
            <a:ext cx="4286160" cy="2457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440000" y="0"/>
            <a:ext cx="741492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Os preguntareis para que sirve esta bolsa si no habéis visto la película. Pues para guardar cosas y lo mejor es que nunca se lle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442880" y="6480"/>
            <a:ext cx="7415280" cy="23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160720" y="4032360"/>
            <a:ext cx="58323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5640" y="78552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o pensamos en nuestros clientes las bolsas se pueden plegar y guardar en una bolsa con los contenidos que conteng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440000" y="0"/>
            <a:ext cx="741492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728720" y="3959280"/>
            <a:ext cx="415764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o no todas las personas les gusta el mismo color hay mucha variedad de col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434960" y="-71280"/>
            <a:ext cx="7415280" cy="23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739880" y="3830760"/>
            <a:ext cx="3803760" cy="25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28840" y="71280"/>
            <a:ext cx="741528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Y si no os gusta de colores lisos, porqué os parecen muy soso, también las hay de estamp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221000" y="3527280"/>
            <a:ext cx="470700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428840" y="71280"/>
            <a:ext cx="741528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nuestra empresas estamos concienciados en reciclar, vamos a intentar convenceros a vosotros de que también tenéis que reciclar, así que también tenemos bolsos recicl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048360" y="4392720"/>
            <a:ext cx="3527280" cy="2808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440000" y="4608360"/>
            <a:ext cx="352728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tas bolsas también saldrán en las marcas famosas como desigual, carolina herrera, totto ..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428840" y="71280"/>
            <a:ext cx="741528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444680" y="3816360"/>
            <a:ext cx="2587680" cy="2835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327640" y="3587760"/>
            <a:ext cx="3247920" cy="33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tos son algunos modelos de los cuales puedes escog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24160" y="71280"/>
            <a:ext cx="741492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120680" y="3417840"/>
            <a:ext cx="4351320" cy="3351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72000" y="2955960"/>
            <a:ext cx="4751640" cy="2732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6T07:30:17Z</dcterms:created>
  <dc:creator>villena1ade03 villena1ade03</dc:creator>
  <dc:description/>
  <dc:language>en-US</dc:language>
  <cp:lastModifiedBy>villena1ade03 villena1ade03</cp:lastModifiedBy>
  <dcterms:modified xsi:type="dcterms:W3CDTF">2014-06-09T07:31:44Z</dcterms:modified>
  <cp:revision>5</cp:revision>
  <dc:subject/>
  <dc:title/>
</cp:coreProperties>
</file>