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6C3-29E9-45AD-B65B-75BEF0C4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662-29D2-4AD5-A0C6-0544A67A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8BC-D43D-411E-8269-42094EF9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99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00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99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D3F-172F-4CA9-99F0-9C557284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A77B-1634-4660-AA81-0BC16E99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8E1C-4E27-42CC-8B7B-35DF0885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EECC-1F47-4ABE-9F62-5B804CBF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9DFA-F8F3-4B81-92D3-E55F1C1E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06D3-AC00-493F-A31D-C2289EBD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4A9F-09DF-46A7-A339-ECFE548A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6817-D1F0-46D9-AA79-719BD658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889-6363-425D-99B1-03D12AC9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B02C-49C4-4633-8D84-6495BCEE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0703-000D-454D-A109-AC8F8CDF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4A0B-F514-4C07-9F03-C20917CD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543D-2D5C-40ED-9310-11A89F31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1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9960" y="212832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00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01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9960" y="4602600"/>
            <a:ext cx="2675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5E6F-BBA1-496F-ACFF-0A1CE776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DC5-966C-4C6A-9627-A35FBB3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42C-3A95-44A6-8A6C-50EBEDDA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A04-E0F2-423D-B770-1AED9E57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1680"/>
            <a:ext cx="867096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054-3164-4705-9ABF-35DA9B2E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255-5F0F-49FF-B5E9-031B366B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18440" y="460260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808-7EE4-43F2-972A-EF116239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00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8440" y="2128320"/>
            <a:ext cx="4055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000" y="4602600"/>
            <a:ext cx="83106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D39-3336-4AD9-BE74-B98DA2B6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40BB2-FC16-461F-82FD-7F3F8BE099A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1680"/>
            <a:ext cx="86709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000" y="2128320"/>
            <a:ext cx="83106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8640" y="674352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360" y="6743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99514-10DF-4C8D-9D27-E0D0B70B655A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13000" y="26352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48360" y="4967280"/>
            <a:ext cx="309564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Multilateral Comenius: ‘¿Qué lees?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umno: Andrea Rom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: 1º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e fantástico producto se encontrará por solo 49,99</a:t>
            </a:r>
            <a:r>
              <a:rPr b="0" lang="es-ES" sz="3200" spc="-1" strike="noStrike">
                <a:solidFill>
                  <a:srgbClr val="ffffff"/>
                </a:solidFill>
                <a:latin typeface="Ubuntu"/>
                <a:ea typeface="Ubuntu"/>
              </a:rPr>
              <a:t>€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, es un chollo, no desperdiciéis esta oportunidad, no ocurre todos los dí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Se comenzará a vender en los establecimientos de Corte Inglés y solo durante unos meses de prueba en Españ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Puedes comprarlo en los establecimientos o llamar por teléfo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Este es nuestro número. 963 65 45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Ubuntu"/>
              </a:rPr>
              <a:t>LLAMA AHORA ¿A QUÉ ESPER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30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30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1768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 llegado el producto que llevas esperando añ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teriormente hizo su primera aparición en Mary Popp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698920" y="4176720"/>
            <a:ext cx="4286160" cy="2457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440000" y="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s preguntareis para que sirve esta bolsa si no habéis visto la película. Pues para guardar cosas y lo mejor es que nunca se ll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42880" y="6480"/>
            <a:ext cx="741528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160720" y="4032360"/>
            <a:ext cx="5832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8552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ensamos en nuestros clientes las bolsas se pueden plegar y guardar en una bolsa con los contenidos que conteng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0000" y="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728720" y="3959280"/>
            <a:ext cx="41576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no todas las personas les gusta el mismo color hay mucha variedad de col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34960" y="-71280"/>
            <a:ext cx="741528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39880" y="3830760"/>
            <a:ext cx="380376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si no os gusta de colores lisos, porqué os parecen muy soso, también las hay de estamp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21000" y="3527280"/>
            <a:ext cx="4707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nuestra empresas estamos concienciados en reciclar, vamos a intentar convenceros a vosotros de que también tenéis que reciclar, así que también tenemos bolsos recicl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48360" y="439272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40000" y="4608360"/>
            <a:ext cx="3527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as bolsas también saldrán en las marcas famosas como desigual, carolina herrera, totto ..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28840" y="71280"/>
            <a:ext cx="741528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444680" y="3816360"/>
            <a:ext cx="2587680" cy="2835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27640" y="3587760"/>
            <a:ext cx="324792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50600"/>
            <a:ext cx="8675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os son algunos modelos de los cuales puedes escog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24160" y="71280"/>
            <a:ext cx="741492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108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ffff">
                      <a:alpha val="20000"/>
                    </a:srgbClr>
                  </a:outerShdw>
                </a:effectLst>
                <a:latin typeface="Arial Black"/>
              </a:rPr>
              <a:t>LA BOLSA MAGICA</a:t>
            </a:r>
            <a:endParaRPr b="0" lang="en-US" sz="1800" spc="-1" strike="noStrike">
              <a:ln w="108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ffff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20680" y="3417840"/>
            <a:ext cx="4351320" cy="3351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72000" y="2955960"/>
            <a:ext cx="4751640" cy="27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7:30:17Z</dcterms:created>
  <dc:creator>villena1ade03 villena1ade03</dc:creator>
  <dc:description/>
  <dc:language>en-US</dc:language>
  <cp:lastModifiedBy>villena1ade03 villena1ade03</cp:lastModifiedBy>
  <dcterms:modified xsi:type="dcterms:W3CDTF">2014-06-09T07:31:44Z</dcterms:modified>
  <cp:revision>5</cp:revision>
  <dc:subject/>
  <dc:title/>
</cp:coreProperties>
</file>