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1C2F-8E26-4EB2-885B-E2FAF4552B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590BA-8889-4288-920B-A175333E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8B69-644B-47EE-90C4-79D61634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5A08-1FD8-43FD-85F5-C269002380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A6644-F51F-46DB-97CC-2B03A32F76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AA88B-E8F4-41D7-A3DA-C8419F28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EA6A6-CBDF-447D-8798-BE54E429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62720-215D-4B5C-BB42-3F70D4B9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9BBB8-0167-4793-91D4-40A523C0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2FF04-E191-44AD-988F-39806AB5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7EC57-75A2-4F7E-AA61-0A61D1E1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ACA03-ECB9-4BBA-A173-1B6800C2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FBB4F-7C2B-49B4-A1FA-80C32CE9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C60B0-581C-4C6A-B9EE-807BEB86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12CAE-E9A2-40B8-9F30-911A72CB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E99D5-F4E8-4588-B13C-C7BC6ADC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2AAA7-CE34-4D82-B17C-4BA22B4D0D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CA8FDF-1C01-4FB5-8BF1-09FB5F84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9188E1-C7AC-47F5-9495-0C495923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AA5DDD-C990-42B1-AC50-10BE26DB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2183D7-EB39-4B34-AD9C-421B6DF6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07C977-53A1-46D1-8A79-4440C3EA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C4C33-9C1C-434E-BD3E-84BD0883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1F18EF-A40C-45E2-B987-42922C98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330B0B-DE1A-47B0-88D4-EF718AED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D7FCC5-BD80-47CE-9629-58C6AE74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69552-4C71-4DDF-8A8C-C49EBD54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7864E-E4F9-4A32-AB27-D09EE431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9DC9FF-09F4-41EA-8FFD-86458E61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70AF92-E1C1-46BC-8FBA-51B7D6BD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4092-C8ED-42CD-8792-3E7EFFBF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8F7A-585D-43B9-94D7-813BD844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164C0-57FF-4A36-87B0-90C73F67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954E9-855A-444E-82A8-A982A2BA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FAEC0-8D85-471D-82E4-D282815D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D420-A700-4630-BCC5-E73CEEDC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746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360360" y="61610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rPr>
              <a:t>14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6638400" y="616104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45E408D-5968-4BD5-8E17-7BF698B08B37}" type="slidenum">
              <a: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193760" y="2887560"/>
            <a:ext cx="6776280" cy="913320"/>
            <a:chOff x="1193760" y="2887560"/>
            <a:chExt cx="6776280" cy="913320"/>
          </a:xfrm>
        </p:grpSpPr>
        <p:sp>
          <p:nvSpPr>
            <p:cNvPr id="6" name=""/>
            <p:cNvSpPr/>
            <p:nvPr/>
          </p:nvSpPr>
          <p:spPr>
            <a:xfrm>
              <a:off x="4327920" y="2887560"/>
              <a:ext cx="55404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5400" spc="-1" strike="noStrike">
                  <a:solidFill>
                    <a:srgbClr val="e1dca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flipV="1">
              <a:off x="1193760" y="3428640"/>
              <a:ext cx="3119040" cy="3240"/>
            </a:xfrm>
            <a:prstGeom prst="line">
              <a:avLst/>
            </a:prstGeom>
            <a:ln w="12600">
              <a:solidFill>
                <a:srgbClr val="e1dc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4850640" y="3427560"/>
              <a:ext cx="3119400" cy="2880"/>
            </a:xfrm>
            <a:prstGeom prst="line">
              <a:avLst/>
            </a:prstGeom>
            <a:ln w="12600">
              <a:solidFill>
                <a:srgbClr val="e1dc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182240" y="1387080"/>
            <a:ext cx="6775560" cy="17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a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98040" y="2247480"/>
            <a:ext cx="774396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60360" y="61610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rPr>
              <a:t>14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638400" y="616104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208FAAB-DC65-4B12-9427-85F91BB12907}" type="slidenum">
              <a: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8680" y="569880"/>
            <a:ext cx="7754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172880" y="1392120"/>
            <a:ext cx="6777000" cy="913320"/>
            <a:chOff x="1172880" y="1392120"/>
            <a:chExt cx="6777000" cy="913320"/>
          </a:xfrm>
        </p:grpSpPr>
        <p:sp>
          <p:nvSpPr>
            <p:cNvPr id="54" name=""/>
            <p:cNvSpPr/>
            <p:nvPr/>
          </p:nvSpPr>
          <p:spPr>
            <a:xfrm>
              <a:off x="4307400" y="1392120"/>
              <a:ext cx="55404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1172880" y="1934640"/>
              <a:ext cx="3119400" cy="3240"/>
            </a:xfrm>
            <a:prstGeom prst="line">
              <a:avLst/>
            </a:prstGeom>
            <a:ln w="12600">
              <a:solidFill>
                <a:srgbClr val="dba4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4830840" y="1932120"/>
              <a:ext cx="3119040" cy="2880"/>
            </a:xfrm>
            <a:prstGeom prst="line">
              <a:avLst/>
            </a:prstGeom>
            <a:ln w="12600">
              <a:solidFill>
                <a:srgbClr val="dba4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5"/>
          </p:nvPr>
        </p:nvSpPr>
        <p:spPr>
          <a:xfrm>
            <a:off x="456840" y="48751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6"/>
          </p:nvPr>
        </p:nvSpPr>
        <p:spPr>
          <a:xfrm>
            <a:off x="3127320" y="48751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7"/>
          </p:nvPr>
        </p:nvSpPr>
        <p:spPr>
          <a:xfrm>
            <a:off x="6556320" y="48751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A12E3F-6F36-4108-BF2F-DD1D425E66A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1387080"/>
            <a:ext cx="6777000" cy="17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Bibliotecas de Españay la Comunidad Valencian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ook Antiqua"/>
              </a:rPr>
              <a:t>Españ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28720" y="5975280"/>
            <a:ext cx="5797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íctor Esteban e Iván Torres IES Isabel de Vill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98400" y="569880"/>
            <a:ext cx="7745400" cy="59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98400" y="569880"/>
            <a:ext cx="774540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8400" y="2247840"/>
            <a:ext cx="774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spaña cuenta con una importante red debibliotecas entrela que destacacomo lamás importante, la biblioteca nacional.Las comunidadesautónomas, a su vez, poseenuna biblioteca principal y en cada provincia existen otras bibliotecas públicas a la que cualquier ciudadano pueden accederlibremente.Estas instituciones realizan una importante labor, pues se ocupan de conservar,publicary ampliar su propia historia a través del conocimiento que podemos encontrar en sus lib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895d1d"/>
                </a:solidFill>
                <a:latin typeface="Book Antiqua"/>
              </a:rPr>
              <a:t>Bibliotecas en España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98400" y="2247840"/>
            <a:ext cx="77454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Fuefundada por Felipe V a finales de 1711 y abrió suspuertas con el nombre RealBiblioteca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1836, la Biblioteca dejó de ser propiedad de la corona y pasó a depender del Ministerio de la Gobernación, y recibió por primera vez el nombre de Biblioteca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la actualidad,laBiblioteca Nacional de España recibe y conserva ejemplares de todos los libros publicados en España. Además, atesora una valiosísima coleccióndemanuscritos, estampas, dibujos, fotografías, grabaciones sonoras,partituras o inclusoperiód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Nacional Español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63640" y="1339920"/>
            <a:ext cx="5832720" cy="47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98400" y="2247840"/>
            <a:ext cx="77454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La biblioteca fue fundada por el rey Felipe II, un rey que fue un gran apasionado de los li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A partir de 1566 y lo años posteriores empezó a haber una gran cantidad de libros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la actualidad, la biblioteca situada en la sierra de Guadarrama(Madrid) es un sitio muy visitado y una pieza clave en el turismo de la provincia, además de ser considerado patrimonio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1671 se produjo un gran incendio y se perdió una gran parte de los libros que allí se encontrab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765000"/>
            <a:ext cx="775656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895d1d"/>
                </a:solidFill>
                <a:latin typeface="Book Antiqua"/>
              </a:rPr>
              <a:t>Biblioteca del Monasterio del Esco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19308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98400" y="158436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Biblioteca Pública de Valencia está ubicada en el Crucero del Antiguo Hospital de Valencia, que fue declarado Monumento Histórico-Artístico Nacional en el año 1963, este “hospital” fué anteriormente un manicomnio( 1409), aun residen dos habitaciones de este antiguo “hospit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 biblioteca recibió muchisimas donaciones de otras bibliotecas ya existentes de Valencia como la de Nicolau Primitiu Gómez Se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1985 debido a la gran cantidad de donaciones que esta recibió se vió obligada a ampliar por falta de espa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503280"/>
            <a:ext cx="5016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56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Pública de Val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Pública de Val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5480" y="1800360"/>
            <a:ext cx="4197600" cy="3848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111640" y="2016000"/>
            <a:ext cx="37245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520" bIns="0" anchor="t">
            <a:normAutofit fontScale="62000"/>
          </a:bodyPr>
          <a:p>
            <a:pPr marL="267480" indent="0" algn="ctr">
              <a:lnSpc>
                <a:spcPct val="97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895d1d"/>
                </a:solidFill>
                <a:latin typeface="Book Antiqua"/>
              </a:rPr>
              <a:t>Biblioteca Historicomédica “Vicent Peset Llorc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Esta biblioteca está alojado en el Palau Cerveró (edificio histórico), situado en la Plaza de Cisneros en Valencia, cerca de las Torres de Serrano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La mayoría de libros aun conservados provienen de la colección de la Facultad de Medicina. Actualmente la biblioteca esta divida en dos plantas, la primera esta abierta al público y la segunda su uso esta restringido a investigador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La famosa colección consta de : Fondo antiguo (2000 ejemplares), Fondo del 1831-1939 (con más de 13.000 libros), y libro moderno( mas de 11.000 libros de temática médica y científic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03-11T23:29:52Z</dcterms:modified>
  <cp:revision>0</cp:revision>
  <dc:subject/>
  <dc:title/>
</cp:coreProperties>
</file>