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C026F-D966-45BC-9182-D4DECFB646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CE433-0C0A-4D5B-B3DF-71331148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35BE7-679E-4C3E-AD86-B6171626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CA7DF-E911-4F8D-8F26-20CD4B1B5A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F0C23-0686-4B5B-82F4-27AE930B20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2433D-44B9-497E-A7B6-7AB3649C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ADC4E-6EE1-4B00-A81D-59752B37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0EAE3-8950-4F0B-BB9F-A0BDD107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E9472-0869-46C2-B564-FEE5F68D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564804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38FF3-05FD-412A-9C9D-EBC905C3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69B2E-48C1-4401-A941-F360D8B5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4374E-D290-417F-B253-221B9FDD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79660-8D69-4CBE-9236-C7EEF2EA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E96DB-C297-4EB5-8D9D-6ECE4B65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59084-01E1-4DE0-9C04-48E9BD45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D5F90-C047-4A3F-A1A1-5BFE141D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28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136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28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136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884BC-8272-46A5-B807-566F4A8512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12B670-B3DF-48CE-8176-362BA4DB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3FC2AB-DBDC-439A-8ACC-09B064B1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C51C87-E256-442B-83DE-EEF56A1E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D06115-66CE-427B-8DC7-872E7956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2A3B1F-A4E8-411C-B7AD-621A9D6E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962E6-7668-44D3-96BB-26A34294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564804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4AACF2-E86A-4495-908F-6CB58677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7A0ECE-E2FF-4B31-82E5-0D77284F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DF4016-8E8E-4A59-9972-66FC6452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2D80EC-1701-4B6E-B46B-DFA3A19B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804630-0DBA-464F-8384-ADF37183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671E18-BEC3-4C90-A540-5642BE66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28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136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28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136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2B99BA-F383-4BF8-8B4B-C62C00A1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F0843-E5D7-4E72-8458-4FF2422E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D2011-85FA-4808-B5B2-5AC73B6E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64804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AE668-3EF5-4589-A3E6-F8BCD01B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FA6C9-3622-4C6F-A6C8-8698B0AA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B7097-4CDB-49F7-90F0-EF0B9ED7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9895D-1151-42A8-8450-6CFEA6E8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 hidden="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7461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360360" y="61610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ece9c6"/>
                </a:solidFill>
                <a:latin typeface="Book Antiqu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200" spc="-1" strike="noStrike">
                <a:solidFill>
                  <a:srgbClr val="ece9c6"/>
                </a:solidFill>
                <a:latin typeface="Book Antiqua"/>
                <a:ea typeface="DejaVu Sans"/>
              </a:rPr>
              <a:t>14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6638400" y="616104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ece9c6"/>
                </a:solidFill>
                <a:latin typeface="Book Antiqu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7DF6AF3-EA88-46F3-A33C-D1453B1266A9}" type="slidenum">
              <a:rPr b="0" lang="es-ES" sz="1200" spc="-1" strike="noStrike">
                <a:solidFill>
                  <a:srgbClr val="ece9c6"/>
                </a:solidFill>
                <a:latin typeface="Book Antiqua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193760" y="2887560"/>
            <a:ext cx="6776280" cy="913320"/>
            <a:chOff x="1193760" y="2887560"/>
            <a:chExt cx="6776280" cy="913320"/>
          </a:xfrm>
        </p:grpSpPr>
        <p:sp>
          <p:nvSpPr>
            <p:cNvPr id="6" name=""/>
            <p:cNvSpPr/>
            <p:nvPr/>
          </p:nvSpPr>
          <p:spPr>
            <a:xfrm>
              <a:off x="4327920" y="2887560"/>
              <a:ext cx="554040" cy="9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5400" spc="-1" strike="noStrike">
                  <a:solidFill>
                    <a:srgbClr val="e1dca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flipV="1">
              <a:off x="1193760" y="3428640"/>
              <a:ext cx="3119040" cy="3240"/>
            </a:xfrm>
            <a:prstGeom prst="line">
              <a:avLst/>
            </a:prstGeom>
            <a:ln w="12600">
              <a:solidFill>
                <a:srgbClr val="e1dc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4850640" y="3427560"/>
              <a:ext cx="3119400" cy="2880"/>
            </a:xfrm>
            <a:prstGeom prst="line">
              <a:avLst/>
            </a:prstGeom>
            <a:ln w="12600">
              <a:solidFill>
                <a:srgbClr val="e1dc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1182240" y="1387080"/>
            <a:ext cx="6775560" cy="17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a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98040" y="2247480"/>
            <a:ext cx="774396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60360" y="61610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895d1d"/>
                </a:solidFill>
                <a:latin typeface="Book Antiqu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Book Antiqua"/>
                <a:ea typeface="DejaVu Sans"/>
              </a:rPr>
              <a:t>14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6638400" y="616104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895d1d"/>
                </a:solidFill>
                <a:latin typeface="Book Antiqu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89F2B26-DF11-4BFB-954B-0F58C74F3CB6}" type="slidenum">
              <a:rPr b="0" lang="es-ES" sz="1200" spc="-1" strike="noStrike">
                <a:solidFill>
                  <a:srgbClr val="895d1d"/>
                </a:solidFill>
                <a:latin typeface="Book Antiqua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8680" y="569880"/>
            <a:ext cx="7754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172880" y="1392120"/>
            <a:ext cx="6777000" cy="913320"/>
            <a:chOff x="1172880" y="1392120"/>
            <a:chExt cx="6777000" cy="913320"/>
          </a:xfrm>
        </p:grpSpPr>
        <p:sp>
          <p:nvSpPr>
            <p:cNvPr id="54" name=""/>
            <p:cNvSpPr/>
            <p:nvPr/>
          </p:nvSpPr>
          <p:spPr>
            <a:xfrm>
              <a:off x="4307400" y="1392120"/>
              <a:ext cx="554040" cy="9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1172880" y="1934640"/>
              <a:ext cx="3119400" cy="3240"/>
            </a:xfrm>
            <a:prstGeom prst="line">
              <a:avLst/>
            </a:prstGeom>
            <a:ln w="12600">
              <a:solidFill>
                <a:srgbClr val="dba4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4830840" y="1932120"/>
              <a:ext cx="3119040" cy="2880"/>
            </a:xfrm>
            <a:prstGeom prst="line">
              <a:avLst/>
            </a:prstGeom>
            <a:ln w="12600">
              <a:solidFill>
                <a:srgbClr val="dba4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5"/>
          </p:nvPr>
        </p:nvSpPr>
        <p:spPr>
          <a:xfrm>
            <a:off x="456840" y="48751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6"/>
          </p:nvPr>
        </p:nvSpPr>
        <p:spPr>
          <a:xfrm>
            <a:off x="3127320" y="48751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7"/>
          </p:nvPr>
        </p:nvSpPr>
        <p:spPr>
          <a:xfrm>
            <a:off x="6556320" y="48751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F6F69AF-B8E7-4212-9C7E-5ABE5185A39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240" y="1387080"/>
            <a:ext cx="6777000" cy="17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Bibliotecas de Españay la Comunidad Valencian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Book Antiqua"/>
              </a:rPr>
              <a:t>Españ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28720" y="5975280"/>
            <a:ext cx="57974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íctor Esteban e Iván Torres IES Isabel de Vill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7171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98400" y="569880"/>
            <a:ext cx="7745400" cy="59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7171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98400" y="569880"/>
            <a:ext cx="7745400" cy="555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98400" y="2247840"/>
            <a:ext cx="7745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spaña cuenta con una importante red debibliotecas entrela que destacacomo lamás importante, la biblioteca nacional.Las comunidadesautónomas, a su vez, poseenuna biblioteca principal y en cada provincia existen otras bibliotecas públicas a la que cualquier ciudadano pueden accederlibremente.Estas instituciones realizan una importante labor, pues se ocupan de conservar,publicary ampliar su propia historia a través del conocimiento que podemos encontrar en sus lib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895d1d"/>
                </a:solidFill>
                <a:latin typeface="Book Antiqua"/>
              </a:rPr>
              <a:t>Bibliotecas en España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98400" y="2247840"/>
            <a:ext cx="774540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Fuefundada por Felipe V a finales de 1711 y abrió suspuertas con el nombre RealBiblioteca 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n 1836, la Biblioteca dejó de ser propiedad de la corona y pasó a depender del Ministerio de la Gobernación, y recibió por primera vez el nombre de Biblioteca 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n la actualidad,laBiblioteca Nacional de España recibe y conserva ejemplares de todos los libros publicados en España. Además, atesora una valiosísima coleccióndemanuscritos, estampas, dibujos, fotografías, grabaciones sonoras,partituras o inclusoperiód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Biblioteca Nacional Español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63640" y="1339920"/>
            <a:ext cx="5832720" cy="47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98400" y="2247840"/>
            <a:ext cx="774540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La biblioteca fue fundada por el rey Felipe II, un rey que fue un gran apasionado de los lib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A partir de 1566 y lo años posteriores empezó a haber una gran cantidad de libros de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n la actualidad, la biblioteca situada en la sierra de Guadarrama(Madrid) es un sitio muy visitado y una pieza clave en el turismo de la provincia, además de ser considerado patrimonio 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n 1671 se produjo un gran incendio y se perdió una gran parte de los libros que allí se encontrab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765000"/>
            <a:ext cx="775656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895d1d"/>
                </a:solidFill>
                <a:latin typeface="Book Antiqua"/>
              </a:rPr>
              <a:t>Biblioteca del Monasterio del Escor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619308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98400" y="158436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Biblioteca Pública de Valencia está ubicada en el Crucero del Antiguo Hospital de Valencia, que fue declarado Monumento Histórico-Artístico Nacional en el año 1963, este “hospital” fué anteriormente un manicomnio( 1409), aun residen dos habitaciones de este antiguo “hospital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 biblioteca recibió muchisimas donaciones de otras bibliotecas ya existentes de Valencia como la de Nicolau Primitiu Gómez Se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1985 debido a la gran cantidad de donaciones que esta recibió se vió obligada a ampliar por falta de espa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79640" y="503280"/>
            <a:ext cx="5016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56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Biblioteca Pública de Val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Biblioteca Pública de Valenc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55480" y="1800360"/>
            <a:ext cx="4197600" cy="3848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111640" y="2016000"/>
            <a:ext cx="372456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7171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520" bIns="0" anchor="t">
            <a:normAutofit fontScale="62000"/>
          </a:bodyPr>
          <a:p>
            <a:pPr marL="267480" indent="0" algn="ctr">
              <a:lnSpc>
                <a:spcPct val="97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895d1d"/>
                </a:solidFill>
                <a:latin typeface="Book Antiqua"/>
              </a:rPr>
              <a:t>Biblioteca Historicomédica “Vicent Peset Llorca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-20052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Esta biblioteca está alojado en el Palau Cerveró (edificio histórico), situado en la Plaza de Cisneros en Valencia, cerca de las Torres de Serrano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-20052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La mayoría de libros aun conservados provienen de la colección de la Facultad de Medicina. Actualmente la biblioteca esta divida en dos plantas, la primera esta abierta al público y la segunda su uso esta restringido a investigador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-20052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La famosa colección consta de : Fondo antiguo (2000 ejemplares), Fondo del 1831-1939 (con más de 13.000 libros), y libro moderno( mas de 11.000 libros de temática médica y científica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4-03-11T23:29:52Z</dcterms:modified>
  <cp:revision>0</cp:revision>
  <dc:subject/>
  <dc:title/>
</cp:coreProperties>
</file>