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794AB-6DE0-4635-B4B4-DADD5DBA79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27939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E1995-618E-4370-8200-3EB02C1A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352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8008C-1D50-46EE-AC29-D9176AA4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280" y="7174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1360" y="7174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27939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280" y="27939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1360" y="27939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C7120-505E-44E7-892F-529C9A8469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9067D-76DC-4E9D-A32B-EEBB59731A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7174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71620-7F69-42EC-9247-FD5E8F8B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3FE59-88C3-4C50-A84D-C9A4A398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45AC9B-E308-47AB-B8B8-E346643E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EF5E11-593E-45E1-A89C-21E64BC4A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564804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F36BE-E09A-49A0-ADAF-B24586D4C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1DE5E1-3007-40BD-A76C-C2D39FC7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7174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80D52-60C0-4448-82F7-A4196245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352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C979B0-CAC8-4077-980C-8AA8317E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27939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99909-1025-4078-9935-0484EF8F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27939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EBD7A1-8A26-4848-8C8E-5D11CE8D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352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FFAEBB-B9E9-42C1-BE98-C1A949C0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280" y="7174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1360" y="7174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27939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280" y="27939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1360" y="27939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D33A66-5D3E-4164-A954-523766B726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5FD7A4-F217-44B5-87E9-9DFAF2BCF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7174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55B976-8BFF-4788-B86B-4156E476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47F81A-C72F-45F6-B2A0-28BFB34D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145DDB-BD6A-4187-A3D8-7839B1D0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C807A9-8639-4712-AEFB-A0E5EF7B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71FEC-E6C6-4EB7-B5D6-92920FF4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564804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F3AEBA-4DDB-4C52-B2EF-2AEB4C1D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194F6F-4E7E-446A-A297-27649EBA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352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91EAEC-51F6-4298-859B-9D7B1A22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27939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81956A-ED93-4CF4-95E2-82EBF5E5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27939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73EACC-AFE4-418C-A270-05DC3D13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352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B18117-49E6-450F-B073-CEDC8367B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280" y="7174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1360" y="7174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27939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280" y="27939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1360" y="27939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C5997E-548F-4519-928F-118E5CB21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95088-B20D-40EA-AB3A-BCD5AB50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A3206-EDEF-4C86-AD95-EA67E7E6B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64804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A0623-775B-405D-BA8E-C28037CD6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F0535-6C23-49C1-8411-F230DF3A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352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676F4-8DFB-41C3-9F46-DAF20DB0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27939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96DB0-2B76-444D-A669-D420BF3C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 hidden="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7461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360360" y="61610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200" spc="-1" strike="noStrike">
                <a:solidFill>
                  <a:srgbClr val="ece9c6"/>
                </a:solidFill>
                <a:latin typeface="Book Antiqua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200" spc="-1" strike="noStrike">
                <a:solidFill>
                  <a:srgbClr val="ece9c6"/>
                </a:solidFill>
                <a:latin typeface="Book Antiqua"/>
                <a:ea typeface="DejaVu Sans"/>
              </a:rPr>
              <a:t>14/03/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2"/>
          </p:nvPr>
        </p:nvSpPr>
        <p:spPr>
          <a:xfrm>
            <a:off x="6638400" y="6161040"/>
            <a:ext cx="213228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200" spc="-1" strike="noStrike">
                <a:solidFill>
                  <a:srgbClr val="ece9c6"/>
                </a:solidFill>
                <a:latin typeface="Book Antiqua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0BAB280-05E3-4E44-A94D-F9637C496F3C}" type="slidenum">
              <a:rPr b="0" lang="es-ES" sz="1200" spc="-1" strike="noStrike">
                <a:solidFill>
                  <a:srgbClr val="ece9c6"/>
                </a:solidFill>
                <a:latin typeface="Book Antiqua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193760" y="2887560"/>
            <a:ext cx="6776280" cy="913320"/>
            <a:chOff x="1193760" y="2887560"/>
            <a:chExt cx="6776280" cy="913320"/>
          </a:xfrm>
        </p:grpSpPr>
        <p:sp>
          <p:nvSpPr>
            <p:cNvPr id="6" name=""/>
            <p:cNvSpPr/>
            <p:nvPr/>
          </p:nvSpPr>
          <p:spPr>
            <a:xfrm>
              <a:off x="4327920" y="2887560"/>
              <a:ext cx="554040" cy="91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" sz="5400" spc="-1" strike="noStrike">
                  <a:solidFill>
                    <a:srgbClr val="e1dca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flipV="1">
              <a:off x="1193760" y="3428640"/>
              <a:ext cx="3119040" cy="3240"/>
            </a:xfrm>
            <a:prstGeom prst="line">
              <a:avLst/>
            </a:prstGeom>
            <a:ln w="12600">
              <a:solidFill>
                <a:srgbClr val="e1dc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flipV="1">
              <a:off x="4850640" y="3427560"/>
              <a:ext cx="3119400" cy="2880"/>
            </a:xfrm>
            <a:prstGeom prst="line">
              <a:avLst/>
            </a:prstGeom>
            <a:ln w="12600">
              <a:solidFill>
                <a:srgbClr val="e1dc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1182240" y="1387080"/>
            <a:ext cx="6775560" cy="173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1ca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698040" y="2247480"/>
            <a:ext cx="7743960" cy="38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360360" y="61610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200" spc="-1" strike="noStrike">
                <a:solidFill>
                  <a:srgbClr val="895d1d"/>
                </a:solidFill>
                <a:latin typeface="Book Antiqua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Book Antiqua"/>
                <a:ea typeface="DejaVu Sans"/>
              </a:rPr>
              <a:t>14/03/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4"/>
          </p:nvPr>
        </p:nvSpPr>
        <p:spPr>
          <a:xfrm>
            <a:off x="6638400" y="6161040"/>
            <a:ext cx="213228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200" spc="-1" strike="noStrike">
                <a:solidFill>
                  <a:srgbClr val="895d1d"/>
                </a:solidFill>
                <a:latin typeface="Book Antiqu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509315B-02AA-4908-85B3-1EF1306B0D4F}" type="slidenum">
              <a:rPr b="0" lang="es-ES" sz="1200" spc="-1" strike="noStrike">
                <a:solidFill>
                  <a:srgbClr val="895d1d"/>
                </a:solidFill>
                <a:latin typeface="Book Antiqua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688680" y="569880"/>
            <a:ext cx="775476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172880" y="1392120"/>
            <a:ext cx="6777000" cy="913320"/>
            <a:chOff x="1172880" y="1392120"/>
            <a:chExt cx="6777000" cy="913320"/>
          </a:xfrm>
        </p:grpSpPr>
        <p:sp>
          <p:nvSpPr>
            <p:cNvPr id="54" name=""/>
            <p:cNvSpPr/>
            <p:nvPr/>
          </p:nvSpPr>
          <p:spPr>
            <a:xfrm>
              <a:off x="4307400" y="1392120"/>
              <a:ext cx="554040" cy="91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 flipV="1">
              <a:off x="1172880" y="1934640"/>
              <a:ext cx="3119400" cy="3240"/>
            </a:xfrm>
            <a:prstGeom prst="line">
              <a:avLst/>
            </a:prstGeom>
            <a:ln w="12600">
              <a:solidFill>
                <a:srgbClr val="dba45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4830840" y="1932120"/>
              <a:ext cx="3119040" cy="2880"/>
            </a:xfrm>
            <a:prstGeom prst="line">
              <a:avLst/>
            </a:prstGeom>
            <a:ln w="12600">
              <a:solidFill>
                <a:srgbClr val="dba45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7174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5"/>
          </p:nvPr>
        </p:nvSpPr>
        <p:spPr>
          <a:xfrm>
            <a:off x="456840" y="48751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6"/>
          </p:nvPr>
        </p:nvSpPr>
        <p:spPr>
          <a:xfrm>
            <a:off x="3127320" y="48751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7"/>
          </p:nvPr>
        </p:nvSpPr>
        <p:spPr>
          <a:xfrm>
            <a:off x="6556320" y="48751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2DDA0F5-D091-4EAE-8821-3405292DDDB4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82240" y="1387080"/>
            <a:ext cx="6777000" cy="173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Bibliotecas de Españay la Comunidad Valencian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7666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Book Antiqua"/>
              </a:rPr>
              <a:t>Españ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28720" y="5975280"/>
            <a:ext cx="579744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íctor Esteban e Iván Torres IES Isabel de Vill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7171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98400" y="569880"/>
            <a:ext cx="7745400" cy="59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7171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98400" y="569880"/>
            <a:ext cx="7745400" cy="555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98400" y="2247840"/>
            <a:ext cx="7745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365040">
              <a:lnSpc>
                <a:spcPct val="10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262626"/>
                </a:solidFill>
                <a:latin typeface="Book Antiqua"/>
                <a:ea typeface="Arial Unicode MS"/>
              </a:rPr>
              <a:t>España cuenta con una importante red debibliotecas entrela que destacacomo lamás importante, la biblioteca nacional.Las comunidadesautónomas, a su vez, poseenuna biblioteca principal y en cada provincia existen otras bibliotecas públicas a la que cualquier ciudadano pueden accederlibremente.Estas instituciones realizan una importante labor, pues se ocupan de conservar,publicary ampliar su propia historia a través del conocimiento que podemos encontrar en sus lib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400" spc="-1" strike="noStrike">
                <a:solidFill>
                  <a:srgbClr val="895d1d"/>
                </a:solidFill>
                <a:latin typeface="Book Antiqua"/>
              </a:rPr>
              <a:t>Bibliotecas en España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98400" y="2247840"/>
            <a:ext cx="774540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365040">
              <a:lnSpc>
                <a:spcPct val="100000"/>
              </a:lnSpc>
              <a:spcBef>
                <a:spcPts val="488"/>
              </a:spcBef>
              <a:buClr>
                <a:srgbClr val="873624"/>
              </a:buClr>
              <a:buFont typeface="Wingdings" charset="2"/>
              <a:buChar char="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  <a:ea typeface="Arial Unicode MS"/>
              </a:rPr>
              <a:t>Fuefundada por Felipe V a finales de 1711 y abrió suspuertas con el nombre RealBiblioteca Públ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488"/>
              </a:spcBef>
              <a:buClr>
                <a:srgbClr val="873624"/>
              </a:buClr>
              <a:buFont typeface="Wingdings" charset="2"/>
              <a:buChar char="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  <a:ea typeface="Arial Unicode MS"/>
              </a:rPr>
              <a:t>En 1836, la Biblioteca dejó de ser propiedad de la corona y pasó a depender del Ministerio de la Gobernación, y recibió por primera vez el nombre de Biblioteca N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488"/>
              </a:spcBef>
              <a:buClr>
                <a:srgbClr val="873624"/>
              </a:buClr>
              <a:buFont typeface="Wingdings" charset="2"/>
              <a:buChar char="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  <a:ea typeface="Arial Unicode MS"/>
              </a:rPr>
              <a:t>En la actualidad,laBiblioteca Nacional de España recibe y conserva ejemplares de todos los libros publicados en España. Además, atesora una valiosísima coleccióndemanuscritos, estampas, dibujos, fotografías, grabaciones sonoras,partituras o inclusoperiód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Biblioteca Nacional Español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763640" y="1339920"/>
            <a:ext cx="5832720" cy="47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98400" y="2247840"/>
            <a:ext cx="774540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365040">
              <a:lnSpc>
                <a:spcPct val="100000"/>
              </a:lnSpc>
              <a:spcBef>
                <a:spcPts val="488"/>
              </a:spcBef>
              <a:buClr>
                <a:srgbClr val="873624"/>
              </a:buClr>
              <a:buFont typeface="Wingdings" charset="2"/>
              <a:buChar char="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  <a:ea typeface="Arial Unicode MS"/>
              </a:rPr>
              <a:t>La biblioteca fue fundada por el rey Felipe II, un rey que fue un gran apasionado de los lib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488"/>
              </a:spcBef>
              <a:buClr>
                <a:srgbClr val="873624"/>
              </a:buClr>
              <a:buFont typeface="Wingdings" charset="2"/>
              <a:buChar char="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  <a:ea typeface="Arial Unicode MS"/>
              </a:rPr>
              <a:t>A partir de 1566 y lo años posteriores empezó a haber una gran cantidad de libros de c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488"/>
              </a:spcBef>
              <a:buClr>
                <a:srgbClr val="873624"/>
              </a:buClr>
              <a:buFont typeface="Wingdings" charset="2"/>
              <a:buChar char="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  <a:ea typeface="Arial Unicode MS"/>
              </a:rPr>
              <a:t>En la actualidad, la biblioteca situada en la sierra de Guadarrama(Madrid) es un sitio muy visitado y una pieza clave en el turismo de la provincia, además de ser considerado patrimonio n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488"/>
              </a:spcBef>
              <a:buClr>
                <a:srgbClr val="873624"/>
              </a:buClr>
              <a:buFont typeface="Wingdings" charset="2"/>
              <a:buChar char="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  <a:ea typeface="Arial Unicode MS"/>
              </a:rPr>
              <a:t>En 1671 se produjo un gran incendio y se perdió una gran parte de los libros que allí se encontrab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9040" y="765000"/>
            <a:ext cx="775656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895d1d"/>
                </a:solidFill>
                <a:latin typeface="Book Antiqua"/>
              </a:rPr>
              <a:t>Biblioteca del Monasterio del Escori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619308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98400" y="1584360"/>
            <a:ext cx="822960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287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Biblioteca Pública de Valencia está ubicada en el Crucero del Antiguo Hospital de Valencia, que fue declarado Monumento Histórico-Artístico Nacional en el año 1963, este “hospital” fué anteriormente un manicomnio( 1409), aun residen dos habitaciones de este antiguo “hospital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87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a biblioteca recibió muchisimas donaciones de otras bibliotecas ya existentes de Valencia como la de Nicolau Primitiu Gómez Se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87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l 1985 debido a la gran cantidad de donaciones que esta recibió se vió obligada a ampliar por falta de espa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79640" y="503280"/>
            <a:ext cx="50162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560" bIns="45000" anchor="t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Biblioteca Pública de Val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Biblioteca Pública de Valenci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55480" y="1800360"/>
            <a:ext cx="4197600" cy="38480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111640" y="2016000"/>
            <a:ext cx="372456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7171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520" bIns="0" anchor="t">
            <a:normAutofit fontScale="62000"/>
          </a:bodyPr>
          <a:p>
            <a:pPr marL="267480" indent="0" algn="ctr">
              <a:lnSpc>
                <a:spcPct val="97000"/>
              </a:lnSpc>
              <a:spcAft>
                <a:spcPts val="128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400" spc="-1" strike="noStrike">
                <a:solidFill>
                  <a:srgbClr val="895d1d"/>
                </a:solidFill>
                <a:latin typeface="Book Antiqua"/>
              </a:rPr>
              <a:t>Biblioteca Historicomédica “Vicent Peset Llorca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67480" indent="-200520">
              <a:lnSpc>
                <a:spcPct val="93000"/>
              </a:lnSpc>
              <a:spcAft>
                <a:spcPts val="1287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Esta biblioteca está alojado en el Palau Cerveró (edificio histórico), situado en la Plaza de Cisneros en Valencia, cerca de las Torres de Serrano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67480" indent="-200520">
              <a:lnSpc>
                <a:spcPct val="93000"/>
              </a:lnSpc>
              <a:spcAft>
                <a:spcPts val="1287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La mayoría de libros aun conservados provienen de la colección de la Facultad de Medicina. Actualmente la biblioteca esta divida en dos plantas, la primera esta abierta al público y la segunda su uso esta restringido a investigadore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67480" indent="-200520">
              <a:lnSpc>
                <a:spcPct val="93000"/>
              </a:lnSpc>
              <a:spcAft>
                <a:spcPts val="1287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La famosa colección consta de : Fondo antiguo (2000 ejemplares), Fondo del 1831-1939 (con más de 13.000 libros), y libro moderno( mas de 11.000 libros de temática médica y científica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4-03-11T23:29:52Z</dcterms:modified>
  <cp:revision>0</cp:revision>
  <dc:subject/>
  <dc:title/>
</cp:coreProperties>
</file>