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61AE09-0ADB-4F22-8365-89A7A1AB2F4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64804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7174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27939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AC11F4-7DEE-43AD-9D6C-ADBCE1DD2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564804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7174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3520" y="7174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27939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3520" y="27939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EB5A1F-5B8F-46C0-A930-C82849E51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564804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7174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280" y="7174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1360" y="7174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27939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280" y="27939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1360" y="27939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C6AD19-589A-492C-8A97-2A6863D7F56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BBC53C-072C-45CD-B66E-4E6E953F202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564804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7200" y="7174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3B4C3D-E67F-40A7-B2BD-0DAFDBCDC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64804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7174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A50056-6789-4311-A9F4-25F6C179E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564804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7174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3520" y="7174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CC649C-37CB-4182-B63F-1FF6B5D24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64804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998255-9A1A-44D9-AF1F-B454CCCCC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57200" y="564804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8D3D07-3617-4340-8B81-AB4598D15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564804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7174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3520" y="7174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27939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200225-2B4C-45F4-9119-F6E379914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64804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7174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932F80-CBDB-4DE6-8679-AF1B9D524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64804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7174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7174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73520" y="27939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919423-272B-41A5-A439-087122FEE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564804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7174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3520" y="7174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27939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56E3C0-6A10-4C91-ADFC-799E273D1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564804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7174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7200" y="27939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D6E963-D7DC-4366-B374-F3C33F5D3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564804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7174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3520" y="7174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27939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73520" y="27939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D233D3-28ED-4F69-8F91-F7C962D94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564804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7174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39280" y="7174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21360" y="7174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7200" y="27939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39280" y="27939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21360" y="27939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9EE6EF-399B-4523-A113-1E5F766951D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219A000-3DA5-4610-BC55-5C33B6430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564804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457200" y="7174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30C35D4-BE81-47EE-82D3-E5EA904B4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564804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7174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CACEB5F-50F3-465F-AEA3-1D403C81C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564804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7174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3520" y="7174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CF21A98-6296-4D72-AC0C-292E3A011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564804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691DF9E-E157-404B-A936-E9367C3C8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64804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7174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23B659-D744-4DD7-9715-D33026BAC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457200" y="564804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680A14B-EB7E-4231-B868-95FFCF78C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64804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7174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520" y="7174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27939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B03C29D-D161-4881-8BC2-D9B70E9E3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564804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7174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3520" y="7174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673520" y="27939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31C6964-150C-4AE9-8CD0-6CC96201C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564804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7174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3520" y="7174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27939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B952B1D-7270-49E5-B168-3A6A118AF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564804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7174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57200" y="27939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A64A7D3-07E4-4C9D-A8FE-8F0F59D77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564804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7174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3520" y="7174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27939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673520" y="27939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7CAFDC2-1625-4D96-A0A3-6A4AA060B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564804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7174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239280" y="7174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021360" y="7174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57200" y="27939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239280" y="27939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6021360" y="27939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25BF38F-163B-484C-8A19-EE7596D93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64804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7174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3520" y="7174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16C693-8BFF-446C-93BF-5C5D34D87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64804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232D91-FEA5-4BCC-9A0F-4552750B4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564804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9E0455-3683-456E-9D15-706FFF804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64804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7174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3520" y="7174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27939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FB5ACB-E8AF-4E50-88DA-505586209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64804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7174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3520" y="7174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3520" y="27939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199925-35C2-4009-89D5-BD2678054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64804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7174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3520" y="7174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27939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296829-1963-42C4-8D83-0CDEF1B0E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 hidden="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67461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>
          <a:xfrm>
            <a:off x="360360" y="6161040"/>
            <a:ext cx="2131920" cy="36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s-ES" sz="1200" spc="-1" strike="noStrike">
                <a:solidFill>
                  <a:srgbClr val="ece9c6"/>
                </a:solidFill>
                <a:latin typeface="Book Antiqua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s-ES" sz="1200" spc="-1" strike="noStrike">
                <a:solidFill>
                  <a:srgbClr val="ece9c6"/>
                </a:solidFill>
                <a:latin typeface="Book Antiqua"/>
                <a:ea typeface="DejaVu Sans"/>
              </a:rPr>
              <a:t>14/03/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1610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2"/>
          </p:nvPr>
        </p:nvSpPr>
        <p:spPr>
          <a:xfrm>
            <a:off x="6638400" y="6161040"/>
            <a:ext cx="2132280" cy="36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s-ES" sz="1200" spc="-1" strike="noStrike">
                <a:solidFill>
                  <a:srgbClr val="ece9c6"/>
                </a:solidFill>
                <a:latin typeface="Book Antiqua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F6354A9B-168E-46BE-B04D-53FA2AB57AB4}" type="slidenum">
              <a:rPr b="0" lang="es-ES" sz="1200" spc="-1" strike="noStrike">
                <a:solidFill>
                  <a:srgbClr val="ece9c6"/>
                </a:solidFill>
                <a:latin typeface="Book Antiqua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193760" y="2887560"/>
            <a:ext cx="6776280" cy="913320"/>
            <a:chOff x="1193760" y="2887560"/>
            <a:chExt cx="6776280" cy="913320"/>
          </a:xfrm>
        </p:grpSpPr>
        <p:sp>
          <p:nvSpPr>
            <p:cNvPr id="6" name=""/>
            <p:cNvSpPr/>
            <p:nvPr/>
          </p:nvSpPr>
          <p:spPr>
            <a:xfrm>
              <a:off x="4327920" y="2887560"/>
              <a:ext cx="554040" cy="91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s-ES" sz="5400" spc="-1" strike="noStrike">
                  <a:solidFill>
                    <a:srgbClr val="e1dca5"/>
                  </a:solidFill>
                  <a:latin typeface="Wingdings"/>
                  <a:ea typeface="Wingdings"/>
                </a:rPr>
                <a:t>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H="1" flipV="1">
              <a:off x="1193760" y="3428640"/>
              <a:ext cx="3119040" cy="3240"/>
            </a:xfrm>
            <a:prstGeom prst="line">
              <a:avLst/>
            </a:prstGeom>
            <a:ln w="12600">
              <a:solidFill>
                <a:srgbClr val="e1dca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H="1" flipV="1">
              <a:off x="4850640" y="3427560"/>
              <a:ext cx="3119400" cy="2880"/>
            </a:xfrm>
            <a:prstGeom prst="line">
              <a:avLst/>
            </a:prstGeom>
            <a:ln w="12600">
              <a:solidFill>
                <a:srgbClr val="e1dca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" name="PlaceHolder 3"/>
          <p:cNvSpPr>
            <a:spLocks noGrp="1"/>
          </p:cNvSpPr>
          <p:nvPr>
            <p:ph type="title"/>
          </p:nvPr>
        </p:nvSpPr>
        <p:spPr>
          <a:xfrm>
            <a:off x="1182240" y="1387080"/>
            <a:ext cx="6775560" cy="1730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Click to edit the title text format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3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4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5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6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1ca75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698040" y="2247480"/>
            <a:ext cx="7743960" cy="387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1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2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3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4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5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6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3"/>
          </p:nvPr>
        </p:nvSpPr>
        <p:spPr>
          <a:xfrm>
            <a:off x="360360" y="6161040"/>
            <a:ext cx="2131920" cy="36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s-ES" sz="1200" spc="-1" strike="noStrike">
                <a:solidFill>
                  <a:srgbClr val="895d1d"/>
                </a:solidFill>
                <a:latin typeface="Book Antiqua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s-ES" sz="1200" spc="-1" strike="noStrike">
                <a:solidFill>
                  <a:srgbClr val="895d1d"/>
                </a:solidFill>
                <a:latin typeface="Book Antiqua"/>
                <a:ea typeface="DejaVu Sans"/>
              </a:rPr>
              <a:t>14/03/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124080" y="61610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sldNum" idx="4"/>
          </p:nvPr>
        </p:nvSpPr>
        <p:spPr>
          <a:xfrm>
            <a:off x="6638400" y="6161040"/>
            <a:ext cx="2132280" cy="36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s-ES" sz="1200" spc="-1" strike="noStrike">
                <a:solidFill>
                  <a:srgbClr val="895d1d"/>
                </a:solidFill>
                <a:latin typeface="Book Antiqua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8A16801B-768F-4C60-8BD2-2BCCC7FB1DC6}" type="slidenum">
              <a:rPr b="0" lang="es-ES" sz="1200" spc="-1" strike="noStrike">
                <a:solidFill>
                  <a:srgbClr val="895d1d"/>
                </a:solidFill>
                <a:latin typeface="Book Antiqua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title"/>
          </p:nvPr>
        </p:nvSpPr>
        <p:spPr>
          <a:xfrm>
            <a:off x="688680" y="569880"/>
            <a:ext cx="775476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Click to edit the title text format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172880" y="1392120"/>
            <a:ext cx="6777000" cy="913320"/>
            <a:chOff x="1172880" y="1392120"/>
            <a:chExt cx="6777000" cy="913320"/>
          </a:xfrm>
        </p:grpSpPr>
        <p:sp>
          <p:nvSpPr>
            <p:cNvPr id="54" name=""/>
            <p:cNvSpPr/>
            <p:nvPr/>
          </p:nvSpPr>
          <p:spPr>
            <a:xfrm>
              <a:off x="4307400" y="1392120"/>
              <a:ext cx="554040" cy="91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s-ES" sz="5400" spc="-1" strike="noStrike">
                  <a:solidFill>
                    <a:srgbClr val="dba455"/>
                  </a:solidFill>
                  <a:latin typeface="Wingdings"/>
                  <a:ea typeface="Wingdings"/>
                </a:rPr>
                <a:t>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H="1" flipV="1">
              <a:off x="1172880" y="1934640"/>
              <a:ext cx="3119400" cy="3240"/>
            </a:xfrm>
            <a:prstGeom prst="line">
              <a:avLst/>
            </a:prstGeom>
            <a:ln w="12600">
              <a:solidFill>
                <a:srgbClr val="dba45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H="1" flipV="1">
              <a:off x="4830840" y="1932120"/>
              <a:ext cx="3119040" cy="2880"/>
            </a:xfrm>
            <a:prstGeom prst="line">
              <a:avLst/>
            </a:prstGeom>
            <a:ln w="12600">
              <a:solidFill>
                <a:srgbClr val="dba45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564804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457200" y="7174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dt" idx="5"/>
          </p:nvPr>
        </p:nvSpPr>
        <p:spPr>
          <a:xfrm>
            <a:off x="456840" y="487512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ftr" idx="6"/>
          </p:nvPr>
        </p:nvSpPr>
        <p:spPr>
          <a:xfrm>
            <a:off x="3127320" y="48751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sldNum" idx="7"/>
          </p:nvPr>
        </p:nvSpPr>
        <p:spPr>
          <a:xfrm>
            <a:off x="6556320" y="48751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5CE9BE56-E514-4CAD-8580-883EDECEFE14}" type="slidenum">
              <a: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82240" y="1387080"/>
            <a:ext cx="6777000" cy="173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Book Antiqua"/>
              </a:rPr>
              <a:t>Bibliotecas de Españay la Comunidad Valenciana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1371600" y="37666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 algn="ctr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Book Antiqua"/>
              </a:rPr>
              <a:t>Españ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728720" y="5975280"/>
            <a:ext cx="579744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26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Víctor Esteban e Iván Torres IES Isabel de Ville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5648040"/>
            <a:ext cx="82296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717120"/>
            <a:ext cx="82296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98400" y="569880"/>
            <a:ext cx="7745400" cy="5981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717120"/>
            <a:ext cx="82296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698400" y="569880"/>
            <a:ext cx="7745400" cy="555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698400" y="2247840"/>
            <a:ext cx="774540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65040" indent="-365040">
              <a:lnSpc>
                <a:spcPct val="100000"/>
              </a:lnSpc>
              <a:spcBef>
                <a:spcPts val="400"/>
              </a:spcBef>
              <a:buClr>
                <a:srgbClr val="873624"/>
              </a:buClr>
              <a:buFont typeface="Wingdings" charset="2"/>
              <a:buChar char="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262626"/>
                </a:solidFill>
                <a:latin typeface="Book Antiqua"/>
                <a:ea typeface="Arial Unicode MS"/>
              </a:rPr>
              <a:t>España cuenta con una importante red debibliotecas entrela que destacacomo lamás importante, la biblioteca nacional.Las comunidadesautónomas, a su vez, poseenuna biblioteca principal y en cada provincia existen otras bibliotecas públicas a la que cualquier ciudadano pueden accederlibremente.Estas instituciones realizan una importante labor, pues se ocupan de conservar,publicary ampliar su propia historia a través del conocimiento que podemos encontrar en sus libr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5400" spc="-1" strike="noStrike">
                <a:solidFill>
                  <a:srgbClr val="895d1d"/>
                </a:solidFill>
                <a:latin typeface="Book Antiqua"/>
              </a:rPr>
              <a:t>Bibliotecas en España</a:t>
            </a: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98400" y="2247840"/>
            <a:ext cx="7745400" cy="387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65040" indent="-365040">
              <a:lnSpc>
                <a:spcPct val="100000"/>
              </a:lnSpc>
              <a:spcBef>
                <a:spcPts val="488"/>
              </a:spcBef>
              <a:buClr>
                <a:srgbClr val="873624"/>
              </a:buClr>
              <a:buFont typeface="Wingdings" charset="2"/>
              <a:buChar char="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262626"/>
                </a:solidFill>
                <a:latin typeface="Book Antiqua"/>
                <a:ea typeface="Arial Unicode MS"/>
              </a:rPr>
              <a:t>Fuefundada por Felipe V a finales de 1711 y abrió suspuertas con el nombre RealBiblioteca Públi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lnSpc>
                <a:spcPct val="100000"/>
              </a:lnSpc>
              <a:spcBef>
                <a:spcPts val="488"/>
              </a:spcBef>
              <a:buClr>
                <a:srgbClr val="873624"/>
              </a:buClr>
              <a:buFont typeface="Wingdings" charset="2"/>
              <a:buChar char="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262626"/>
                </a:solidFill>
                <a:latin typeface="Book Antiqua"/>
                <a:ea typeface="Arial Unicode MS"/>
              </a:rPr>
              <a:t>En 1836, la Biblioteca dejó de ser propiedad de la corona y pasó a depender del Ministerio de la Gobernación, y recibió por primera vez el nombre de Biblioteca Nacion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lnSpc>
                <a:spcPct val="100000"/>
              </a:lnSpc>
              <a:spcBef>
                <a:spcPts val="488"/>
              </a:spcBef>
              <a:buClr>
                <a:srgbClr val="873624"/>
              </a:buClr>
              <a:buFont typeface="Wingdings" charset="2"/>
              <a:buChar char="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262626"/>
                </a:solidFill>
                <a:latin typeface="Book Antiqua"/>
                <a:ea typeface="Arial Unicode MS"/>
              </a:rPr>
              <a:t>En la actualidad,laBiblioteca Nacional de España recibe y conserva ejemplares de todos los libros publicados en España. Además, atesora una valiosísima coleccióndemanuscritos, estampas, dibujos, fotografías, grabaciones sonoras,partituras o inclusoperiódic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400" spc="-1" strike="noStrike">
                <a:solidFill>
                  <a:srgbClr val="895d1d"/>
                </a:solidFill>
                <a:latin typeface="Book Antiqua"/>
              </a:rPr>
              <a:t>Biblioteca Nacional Española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1763640" y="1339920"/>
            <a:ext cx="5832720" cy="471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698400" y="2247840"/>
            <a:ext cx="7745400" cy="387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65040" indent="-365040">
              <a:lnSpc>
                <a:spcPct val="100000"/>
              </a:lnSpc>
              <a:spcBef>
                <a:spcPts val="488"/>
              </a:spcBef>
              <a:buClr>
                <a:srgbClr val="873624"/>
              </a:buClr>
              <a:buFont typeface="Wingdings" charset="2"/>
              <a:buChar char="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262626"/>
                </a:solidFill>
                <a:latin typeface="Book Antiqua"/>
                <a:ea typeface="Arial Unicode MS"/>
              </a:rPr>
              <a:t>La biblioteca fue fundada por el rey Felipe II, un rey que fue un gran apasionado de los libr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lnSpc>
                <a:spcPct val="100000"/>
              </a:lnSpc>
              <a:spcBef>
                <a:spcPts val="488"/>
              </a:spcBef>
              <a:buClr>
                <a:srgbClr val="873624"/>
              </a:buClr>
              <a:buFont typeface="Wingdings" charset="2"/>
              <a:buChar char="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262626"/>
                </a:solidFill>
                <a:latin typeface="Book Antiqua"/>
                <a:ea typeface="Arial Unicode MS"/>
              </a:rPr>
              <a:t>A partir de 1566 y lo años posteriores empezó a haber una gran cantidad de libros de calid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lnSpc>
                <a:spcPct val="100000"/>
              </a:lnSpc>
              <a:spcBef>
                <a:spcPts val="488"/>
              </a:spcBef>
              <a:buClr>
                <a:srgbClr val="873624"/>
              </a:buClr>
              <a:buFont typeface="Wingdings" charset="2"/>
              <a:buChar char="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262626"/>
                </a:solidFill>
                <a:latin typeface="Book Antiqua"/>
                <a:ea typeface="Arial Unicode MS"/>
              </a:rPr>
              <a:t>En la actualidad, la biblioteca situada en la sierra de Guadarrama(Madrid) es un sitio muy visitado y una pieza clave en el turismo de la provincia, además de ser considerado patrimonio nacion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lnSpc>
                <a:spcPct val="100000"/>
              </a:lnSpc>
              <a:spcBef>
                <a:spcPts val="488"/>
              </a:spcBef>
              <a:buClr>
                <a:srgbClr val="873624"/>
              </a:buClr>
              <a:buFont typeface="Wingdings" charset="2"/>
              <a:buChar char="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262626"/>
                </a:solidFill>
                <a:latin typeface="Book Antiqua"/>
                <a:ea typeface="Arial Unicode MS"/>
              </a:rPr>
              <a:t>En 1671 se produjo un gran incendio y se perdió una gran parte de los libros que allí se encontraba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9040" y="765000"/>
            <a:ext cx="7756560" cy="85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895d1d"/>
                </a:solidFill>
                <a:latin typeface="Book Antiqua"/>
              </a:rPr>
              <a:t>Biblioteca del Monasterio del Escoria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1547640" y="1557360"/>
            <a:ext cx="6193080" cy="424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698400" y="1584360"/>
            <a:ext cx="8229600" cy="397656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287"/>
              </a:spcAft>
              <a:buClr>
                <a:srgbClr val="ff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 Biblioteca Pública de Valencia está ubicada en el Crucero del Antiguo Hospital de Valencia, que fue declarado Monumento Histórico-Artístico Nacional en el año 1963, este “hospital” fué anteriormente un manicomnio( 1409), aun residen dos habitaciones de este antiguo “hospital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287"/>
              </a:spcAft>
              <a:buClr>
                <a:srgbClr val="ff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sta biblioteca recibió muchisimas donaciones de otras bibliotecas ya existentes de Valencia como la de Nicolau Primitiu Gómez Sen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287"/>
              </a:spcAft>
              <a:buClr>
                <a:srgbClr val="ff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n el 1985 debido a la gran cantidad de donaciones que esta recibió se vió obligada a ampliar por falta de espac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079640" y="503280"/>
            <a:ext cx="5016240" cy="7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560" bIns="45000" anchor="t">
            <a:noAutofit/>
          </a:bodyPr>
          <a:p>
            <a:pPr algn="ctr">
              <a:lnSpc>
                <a:spcPct val="9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400" spc="-1" strike="noStrike">
                <a:solidFill>
                  <a:srgbClr val="895d1d"/>
                </a:solidFill>
                <a:latin typeface="Book Antiqua"/>
              </a:rPr>
              <a:t>Biblioteca Pública de Valenc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5648040"/>
            <a:ext cx="82296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400" spc="-1" strike="noStrike">
                <a:solidFill>
                  <a:srgbClr val="895d1d"/>
                </a:solidFill>
                <a:latin typeface="Book Antiqua"/>
              </a:rPr>
              <a:t>Biblioteca Pública de Valencia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555480" y="1800360"/>
            <a:ext cx="4197600" cy="384804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3"/>
          <a:stretch/>
        </p:blipFill>
        <p:spPr>
          <a:xfrm>
            <a:off x="5111640" y="2016000"/>
            <a:ext cx="3724560" cy="374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457200" y="717120"/>
            <a:ext cx="82296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20520" bIns="0" anchor="t">
            <a:normAutofit fontScale="62000"/>
          </a:bodyPr>
          <a:p>
            <a:pPr marL="267480" indent="0" algn="ctr">
              <a:lnSpc>
                <a:spcPct val="97000"/>
              </a:lnSpc>
              <a:spcAft>
                <a:spcPts val="128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5400" spc="-1" strike="noStrike">
                <a:solidFill>
                  <a:srgbClr val="895d1d"/>
                </a:solidFill>
                <a:latin typeface="Book Antiqua"/>
              </a:rPr>
              <a:t>Biblioteca Historicomédica “Vicent Peset Llorca”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267480" indent="-200520">
              <a:lnSpc>
                <a:spcPct val="93000"/>
              </a:lnSpc>
              <a:spcAft>
                <a:spcPts val="1287"/>
              </a:spcAft>
              <a:buClr>
                <a:srgbClr val="ff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900" spc="-1" strike="noStrike">
                <a:solidFill>
                  <a:srgbClr val="000000"/>
                </a:solidFill>
                <a:latin typeface="Arial"/>
              </a:rPr>
              <a:t>Esta biblioteca está alojado en el Palau Cerveró (edificio histórico), situado en la Plaza de Cisneros en Valencia, cerca de las Torres de Serranos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267480" indent="-200520">
              <a:lnSpc>
                <a:spcPct val="93000"/>
              </a:lnSpc>
              <a:spcAft>
                <a:spcPts val="1287"/>
              </a:spcAft>
              <a:buClr>
                <a:srgbClr val="ff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900" spc="-1" strike="noStrike">
                <a:solidFill>
                  <a:srgbClr val="000000"/>
                </a:solidFill>
                <a:latin typeface="Arial"/>
              </a:rPr>
              <a:t>La mayoría de libros aun conservados provienen de la colección de la Facultad de Medicina. Actualmente la biblioteca esta divida en dos plantas, la primera esta abierta al público y la segunda su uso esta restringido a investigadores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267480" indent="-200520">
              <a:lnSpc>
                <a:spcPct val="93000"/>
              </a:lnSpc>
              <a:spcAft>
                <a:spcPts val="1287"/>
              </a:spcAft>
              <a:buClr>
                <a:srgbClr val="ff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900" spc="-1" strike="noStrike">
                <a:solidFill>
                  <a:srgbClr val="000000"/>
                </a:solidFill>
                <a:latin typeface="Arial"/>
              </a:rPr>
              <a:t>La famosa colección consta de : Fondo antiguo (2000 ejemplares), Fondo del 1831-1939 (con más de 13.000 libros), y libro moderno( mas de 11.000 libros de temática médica y científica)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14-03-11T23:29:52Z</dcterms:modified>
  <cp:revision>0</cp:revision>
  <dc:subject/>
  <dc:title/>
</cp:coreProperties>
</file>