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FCC0-3F65-48D3-9125-0FC986AE6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D951-AFEA-4988-8E13-76D7BB98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2420-B25E-4E2C-9921-CA29423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E039-396F-4AD3-B599-1F3C1FAF8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77475-0557-4D63-BC45-06142A835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DA545-B652-4AE8-A066-BD4A84C5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C89FE-FD70-4B6A-B8C5-1CC86F07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0B858-7E71-450F-BCA1-CB4AE16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9890D-862E-4400-83DB-C453CB23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FE888-5CC9-457D-9C6D-C1CD6969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AD498-0A20-4565-BE8B-6EAF24FE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2E21-A4DC-4B6A-A0BF-E6CAFD3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9BBE0-5F9E-42BE-8363-F61B6384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473C-AAC1-4FBA-9ED8-E3F1742E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509C-A0E9-4C40-A8D0-929F159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1127-7E02-4473-B827-86E55E3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26614-3702-41B4-9A13-DEAC90734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0C51C-8160-4824-B2F0-98C172E6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F80EA-CD36-4070-8BFB-0E60C85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4E8F3-A434-4732-9ABB-4C449AD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0924D-6296-4173-AF76-7D49470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25617-5D30-427A-85A7-C748DB4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77AC-AC1D-464D-AEF4-C6F2822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20C33-0E30-4ADA-88F4-D9A0439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8FBBA-41F7-42BA-9A81-C9BA7A7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22CED-4C80-4669-B3DD-8220928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39DF2-787F-4046-A878-69077DF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03ACD-DA4B-43AD-8BD8-6E41F1A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67871-3F56-4BB5-A7DA-49C2AEEA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28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1360" y="7174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28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1360" y="27939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AC6C7-1A14-4294-BC76-E9FC9521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9C3C-8321-4DBD-B1F1-31990E5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22A1-4783-40FD-A991-C0D56D62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64804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6B63-7325-4C06-BBEB-D0876F0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F84C-DF8B-4E99-BA02-113F6D6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27939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243F-EE4B-4719-80C2-E741C5C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7174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939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9A82D-B828-45A3-9AD1-0834D6F3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7461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9E5FCB-A5FE-410A-96D7-8B62E12A801D}" type="slidenum">
              <a:rPr b="0" lang="es-ES" sz="1200" spc="-1" strike="noStrike">
                <a:solidFill>
                  <a:srgbClr val="ece9c6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193760" y="2887560"/>
            <a:ext cx="6776280" cy="913320"/>
            <a:chOff x="1193760" y="2887560"/>
            <a:chExt cx="6776280" cy="913320"/>
          </a:xfrm>
        </p:grpSpPr>
        <p:sp>
          <p:nvSpPr>
            <p:cNvPr id="6" name=""/>
            <p:cNvSpPr/>
            <p:nvPr/>
          </p:nvSpPr>
          <p:spPr>
            <a:xfrm>
              <a:off x="4327920" y="288756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e1dca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193760" y="3428640"/>
              <a:ext cx="3119040" cy="324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4850640" y="3427560"/>
              <a:ext cx="3119400" cy="2880"/>
            </a:xfrm>
            <a:prstGeom prst="line">
              <a:avLst/>
            </a:prstGeom>
            <a:ln w="12600">
              <a:solidFill>
                <a:srgbClr val="e1dc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556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ca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98040" y="2247480"/>
            <a:ext cx="77439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60360" y="61610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14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638400" y="616104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19EA9C-4DF3-4A6A-BA14-85B907FC3A8C}" type="slidenum">
              <a:rPr b="0" lang="es-ES" sz="1200" spc="-1" strike="noStrike">
                <a:solidFill>
                  <a:srgbClr val="895d1d"/>
                </a:solidFill>
                <a:latin typeface="Book Antiqu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8680" y="569880"/>
            <a:ext cx="7754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2880" y="1392120"/>
            <a:ext cx="6777000" cy="913320"/>
            <a:chOff x="1172880" y="1392120"/>
            <a:chExt cx="6777000" cy="913320"/>
          </a:xfrm>
        </p:grpSpPr>
        <p:sp>
          <p:nvSpPr>
            <p:cNvPr id="54" name=""/>
            <p:cNvSpPr/>
            <p:nvPr/>
          </p:nvSpPr>
          <p:spPr>
            <a:xfrm>
              <a:off x="4307400" y="1392120"/>
              <a:ext cx="55404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72880" y="1934640"/>
              <a:ext cx="3119400" cy="324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830840" y="1932120"/>
              <a:ext cx="3119040" cy="2880"/>
            </a:xfrm>
            <a:prstGeom prst="line">
              <a:avLst/>
            </a:prstGeom>
            <a:ln w="12600">
              <a:solidFill>
                <a:srgbClr val="dba4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7174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5"/>
          </p:nvPr>
        </p:nvSpPr>
        <p:spPr>
          <a:xfrm>
            <a:off x="456840" y="48751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6"/>
          </p:nvPr>
        </p:nvSpPr>
        <p:spPr>
          <a:xfrm>
            <a:off x="3127320" y="48751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7"/>
          </p:nvPr>
        </p:nvSpPr>
        <p:spPr>
          <a:xfrm>
            <a:off x="6556320" y="48751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818EC3-1B19-4175-8839-9AB412789D2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1387080"/>
            <a:ext cx="6777000" cy="17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ibliotecas de Españay la Comunidad Valencia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Españ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5975280"/>
            <a:ext cx="5797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ctor Esteban e Iván Torres IES Isabel de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9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8400" y="569880"/>
            <a:ext cx="774540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8400" y="2247840"/>
            <a:ext cx="774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spaña cuenta con una importante red debibliotecas entrela que destacacomo lamás importante, la biblioteca nacional.Las comunidadesautónomas, a su vez, poseenuna biblioteca principal y en cada provincia existen otras bibliotecas públicas a la que cualquier ciudadano pueden accederlibremente.Estas instituciones realizan una importante labor, pues se ocupan de conservar,publicary ampliar su propia historia a través del conocimiento que podemos encontrar en sus li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s en España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Fuefundada por Felipe V a finales de 1711 y abrió suspuertas con el nombre RealBibliote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836, la Biblioteca dejó de ser propiedad de la corona y pasó a depender del Ministerio de la Gobernación, y recibió por primera vez el nombre de Biblioteca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laBiblioteca Nacional de España recibe y conserva ejemplares de todos los libros publicados en España. Además, atesora una valiosísima coleccióndemanuscritos, estampas, dibujos, fotografías, grabaciones sonoras,partituras o inclusoperió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Nacional Españo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1339920"/>
            <a:ext cx="58327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8400" y="2247840"/>
            <a:ext cx="77454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La biblioteca fue fundada por el rey Felipe II, un rey que fue un gran apasionado de los li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A partir de 1566 y lo años posteriores empezó a haber una gran cantidad de libros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la actualidad, la biblioteca situada en la sierra de Guadarrama(Madrid) es un sitio muy visitado y una pieza clave en el turismo de la provincia, además de ser considerado patrimoni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buClr>
                <a:srgbClr val="873624"/>
              </a:buClr>
              <a:buFont typeface="Wingdings" charset="2"/>
              <a:buChar char="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  <a:ea typeface="Arial Unicode MS"/>
              </a:rPr>
              <a:t>En 1671 se produjo un gran incendio y se perdió una gran parte de los libros que allí se encontra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765000"/>
            <a:ext cx="775656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95d1d"/>
                </a:solidFill>
                <a:latin typeface="Book Antiqua"/>
              </a:rPr>
              <a:t>Biblioteca del Monasterio del Esc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3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98400" y="158436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iblioteca Pública de Valencia está ubicada en el Crucero del Antiguo Hospital de Valencia, que fue declarado Monumento Histórico-Artístico Nacional en el año 1963, este “hospital” fué anteriormente un manicomnio( 1409), aun residen dos habitaciones de este antiguo “hospit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biblioteca recibió muchisimas donaciones de otras bibliotecas ya existentes de Valencia como la de Nicolau Primitiu Gómez Se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1985 debido a la gran cantidad de donaciones que esta recibió se vió obligada a ampliar por falta de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503280"/>
            <a:ext cx="5016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648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Biblioteca Pública de Valenc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5480" y="1800360"/>
            <a:ext cx="4197600" cy="3848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11640" y="2016000"/>
            <a:ext cx="37245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7171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 fontScale="62000"/>
          </a:bodyPr>
          <a:p>
            <a:pPr marL="267480" indent="0" algn="ctr">
              <a:lnSpc>
                <a:spcPct val="97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895d1d"/>
                </a:solidFill>
                <a:latin typeface="Book Antiqua"/>
              </a:rPr>
              <a:t>Biblioteca Historicomédica “Vicent Peset Llorc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Esta biblioteca está alojado en el Palau Cerveró (edificio histórico), situado en la Plaza de Cisneros en Valencia, cerca de las Torres de Serran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mayoría de libros aun conservados provienen de la colección de la Facultad de Medicina. Actualmente la biblioteca esta divida en dos plantas, la primera esta abierta al público y la segunda su uso esta restringido a investigad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-200520">
              <a:lnSpc>
                <a:spcPct val="93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La famosa colección consta de : Fondo antiguo (2000 ejemplares), Fondo del 1831-1939 (con más de 13.000 libros), y libro moderno( mas de 11.000 libros de temática médica y científ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3-11T23:29:52Z</dcterms:modified>
  <cp:revision>0</cp:revision>
  <dc:subject/>
  <dc:title/>
</cp:coreProperties>
</file>