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EACC-54E0-4F36-A47E-AB0373EA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4268880"/>
            <a:ext cx="8853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E12F-B7D1-4657-A341-A7270CFD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708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1932-240C-4701-9488-27BBF446C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3760" y="19792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7160" y="19792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42688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3760" y="42688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7160" y="42688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B471-3D9F-4EC6-9CAA-3D9E3CE8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CF3C-05EC-449E-8842-A7C007C63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34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11A1-4C34-4A64-AD06-5F7669A7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1C5C-6F1F-4981-8EF0-41CC7175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8A09-F353-4100-BC40-8C5AE822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193C-0447-43AE-8932-1BB83B9F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271D-E818-499C-A7AB-71E5183C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36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C424-1353-47FF-920B-58745BE4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34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01E8-9CEA-445A-8203-1D12D206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5708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D8C5-AFAE-4B67-943F-A09FAB4F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360" y="4268880"/>
            <a:ext cx="8853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115F-6DA9-4BB8-AFFD-A18E60A2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360" y="4268880"/>
            <a:ext cx="8853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1D71-C7E5-46A3-BA2C-E9871B43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36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5708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34B9-EB9F-4B1D-9C7B-C6AEB051A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3760" y="19792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07160" y="19792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360" y="42688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3760" y="42688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07160" y="42688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3B08-CD6D-47A7-9F6F-5C1105F8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4C15-3781-4FFF-835C-19994F73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94A6-B117-4E4F-B049-0AA268D6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DB5C-973C-471E-89E5-885666AB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912F-FD3F-4D2B-9C86-4948BDE2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72A0-97EC-4D36-AC43-B42B87E6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708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211C-357B-4BA2-BBF8-219C367D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4268880"/>
            <a:ext cx="8853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D014-5E8A-441C-8460-53670846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F4570-5A04-424C-B1AA-9E98C4D26AF5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79280"/>
            <a:ext cx="88534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2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56080" y="6562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35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8FBF2-819D-4BD4-B5E1-EB5116809106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LANCANIEVES Y LA LEYENDA DEL CAZADOR.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-2745000" y="-586080"/>
            <a:ext cx="88693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576360"/>
            <a:ext cx="9144000" cy="60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7640" y="1901880"/>
            <a:ext cx="364176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 libro favorito: Blancanieves y La Leyenda Del Caz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utor: Lilly Bl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ditorial: Casa Del Li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yecto Multitareal Comenius: ¿Que le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stituto: IES Isabel De Vil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or: Jose Andrés M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umna: Simona Steliyan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upo: 1º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03640" y="1871640"/>
            <a:ext cx="568800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63640" y="720720"/>
            <a:ext cx="78487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92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PERSONAJ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3520" y="1714680"/>
            <a:ext cx="9887040" cy="33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00ff"/>
                </a:solidFill>
                <a:latin typeface="Arial"/>
              </a:rPr>
              <a:t>Blancanieves (Kristen Steward).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Quiere vengar la muerte de su pad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00ff"/>
                </a:solidFill>
                <a:latin typeface="Arial"/>
              </a:rPr>
              <a:t>El Rey Magnus (Noah Huntley).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Es el padre de blancanie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00ff"/>
                </a:solidFill>
                <a:latin typeface="Arial"/>
              </a:rPr>
              <a:t>Reina Eleanor (Liberty Ross).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Es la madre de Blancanie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00ff"/>
                </a:solidFill>
                <a:latin typeface="Arial"/>
              </a:rPr>
              <a:t>Ravenna (Charlice Theron)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Quiere matar a Balncanieves por ser la mas guap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00ff"/>
                </a:solidFill>
                <a:latin typeface="Arial"/>
              </a:rPr>
              <a:t>Cazador (Chris Hemsworth)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 Es el que la reina Ravenna manda para matar a Blancanie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76360" y="4680000"/>
            <a:ext cx="892800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000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ff00"/>
                </a:solidFill>
                <a:latin typeface="Arial"/>
              </a:rPr>
              <a:t>ARGUMENTO 1/3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1640" y="1465200"/>
            <a:ext cx="939492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e libro trata sobre una hermosa niña, llamada blancanieves, su padre se caso con una bruja. El dia de su luna de miel, la burja mató al padre y se hizo reina de todo el imperio, encerró a Blancanieves en una tor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bruja siempre estaba joven y bella, se comia la juventud y la belleza de las chicas. Un dia le preguntó a su espejito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pejito espejito, quien es la más bella de este reino” y el espejito respondió ” Hoy se ha echo mujer una la chicas mas hermosa de todo el reino” la bruja muy enfadada quisó saber quien era, el espejito le respondió que era Blancanieves, y que tendria que quitarle el corazon para que ella volviera a ser la mujer mas hermo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03280" y="4248000"/>
            <a:ext cx="932328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39840" y="1944720"/>
            <a:ext cx="95043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bruja mandó a su hermano en busca de Blancanieves, cuando entró en la celda, Blancanieves le hizo un corte en el ojo y logró escap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lancanieves se fue corriendo hacia el bosque oscuro. Al dia siguiente la bruja se enfadó muchisimo, se estaba volviendo vieja y mató a muchas chicas para que eso no pasara, necesitaba el corazón de Blancanieves. Su hermano buscó a un cazador que se supiera de memoria como se entra y como se sale del bosque oscuro. El cazador que encontron tenia a su mujer muerta y la bruja le dijó que si encontraba a Blancanieves le devolvería a su mujer muerta. El cazador no le costó demasiado encontrar a Blancanieves y cuando la encontró, se dió cuenta de que la bruja le había mentido y se escapó con Blancanieves para salvarl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280099"/>
                </a:solidFill>
                <a:latin typeface="Arial"/>
              </a:rPr>
              <a:t>ARGUMENTO 2/3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76360" y="4745160"/>
            <a:ext cx="9288360" cy="267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280099"/>
                </a:solidFill>
                <a:latin typeface="Arial"/>
              </a:rPr>
              <a:t>ARGUMENTO 3/3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5440" y="1576440"/>
            <a:ext cx="974412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soldados de la bruja y su hermano los seguían, pero no lograron encontrarlos. Blancanieves quería encontrar el palacio de su tío para poder derrotar a la bru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do llegó al palacio formo un gran ejercito y se fue en busca de la bruja. Derroto al ejercito de la bruja y fue a por e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espejito decia ” la sangre mas bella se muere con una sangre aún mas bella 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Blancanieves le clavó una espada a la bruja y logró matarla. Blancanieves vivió feliz en su reino y reinó junto al cazado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52360" y="4116240"/>
            <a:ext cx="3456000" cy="3095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-10080720" y="4751280"/>
            <a:ext cx="6191280" cy="3286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-9288360" y="4495680"/>
            <a:ext cx="7619760" cy="5079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5832360" y="3959280"/>
            <a:ext cx="3384720" cy="319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5280" y="503280"/>
            <a:ext cx="9396360" cy="65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ff00"/>
                </a:solidFill>
                <a:latin typeface="Arial"/>
              </a:rPr>
              <a:t>OPINION PERSONAL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4720" y="1224000"/>
            <a:ext cx="885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Arial"/>
              </a:rPr>
              <a:t>Este libro me ha gustado mucho porque no tiene nada que ver con la historia clásica, solo con los personajes que son los mismos, este libro es de aventuras, romance y a ratos gracioso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Arial"/>
              </a:rPr>
              <a:t>Yo recomiendo que la gente lo lea porque estoy segura de que les gustará.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76240" y="3716280"/>
            <a:ext cx="7115400" cy="319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2T08:32:04Z</dcterms:created>
  <dc:creator>villena1ade15 villena1ade15</dc:creator>
  <dc:description/>
  <dc:language>en-US</dc:language>
  <cp:lastModifiedBy>villena1ade15 villena1ade15</cp:lastModifiedBy>
  <dcterms:modified xsi:type="dcterms:W3CDTF">2013-12-12T10:04:29Z</dcterms:modified>
  <cp:revision>1</cp:revision>
  <dc:subject/>
  <dc:title/>
</cp:coreProperties>
</file>