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430-5D97-47DD-AAF0-53321484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F82-7DF9-4987-B402-6ADF9737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B3D-7816-49BA-9EA6-E2132FC5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3F3-B50A-4F4B-9613-2D75CEB8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C30E-A25F-4884-85A5-5FC17A50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F31A-E5D6-46D1-84E5-8EDDDEF8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7DCD-D792-451E-A068-F4073BD1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CADE-67F4-48DB-9594-1CE7C4D6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1B8D-9546-4E2E-B8DB-4CAFAFA8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52E8-FE3E-448C-86DC-10CD5ACA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104A-FDCD-4532-8F11-89AEEB2A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D34-5597-471C-82F2-567AD5AC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232F-5BBC-45B2-AF87-B70D4E93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CC42-CCD0-47DA-95B2-4B51E311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2F1F-5FA8-4752-8C2E-B465F2BF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CA55-C4FF-4E57-990B-8C966190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88AB-DECE-4E71-BCA4-CAB531AC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E14-7579-41C3-AE15-63154D26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C9A-66EB-4EF8-9B70-BD187857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008-D594-4A00-8499-425593F2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254-0A46-4F7C-BA35-EB345172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3F9-8CF2-410F-A2C8-F71A4A0F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7CD-E3F2-4D51-BB3D-E80F399E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5930-D100-48CF-A396-8072A052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28458-8623-4CD5-BFF2-830C29D3199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136A7-C754-41EB-BD79-592C1C42BCC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LANCANIEVES Y LA LEYENDA DEL CAZADOR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2745000" y="-586080"/>
            <a:ext cx="88693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576360"/>
            <a:ext cx="914400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640" y="1901880"/>
            <a:ext cx="364176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 libro favorito: Blancanieves y La Leyenda Del Caz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tor: Lilly B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ditorial: Casa Del Li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Multitareal Comenius: ¿Que le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ituto: 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or: Jose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umna: Simona Steliya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upo: 1º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03640" y="1871640"/>
            <a:ext cx="5688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63640" y="720720"/>
            <a:ext cx="7848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PERSONAJ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3520" y="1714680"/>
            <a:ext cx="988704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Blancanieves (Kristen Steward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Quiere vengar la muerte de su pad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El Rey Magnus (Noah Huntley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Es el padre de blancanie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Reina Eleanor (Liberty Ross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Es la madre de Blancanie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Ravenna (Charlice Theron)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Quiere matar a Balncanieves por ser la mas guap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Cazador (Chris Hemsworth)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 Es el que la reina Ravenna manda para matar a Blancanie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6360" y="4680000"/>
            <a:ext cx="89280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ff00"/>
                </a:solidFill>
                <a:latin typeface="Arial"/>
              </a:rPr>
              <a:t>ARGUMENTO 1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1465200"/>
            <a:ext cx="939492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libro trata sobre una hermosa niña, llamada blancanieves, su padre se caso con una bruja. El dia de su luna de miel, la burja mató al padre y se hizo reina de todo el imperio, encerró a Blancanieves en una tor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bruja siempre estaba joven y bella, se comia la juventud y la belleza de las chicas. Un dia le preguntó a su espejito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ejito espejito, quien es la más bella de este reino” y el espejito respondió ” Hoy se ha echo mujer una la chicas mas hermosa de todo el reino” la bruja muy enfadada quisó saber quien era, el espejito le respondió que era Blancanieves, y que tendria que quitarle el corazon para que ella volviera a ser la mujer mas herm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3280" y="4248000"/>
            <a:ext cx="93232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9840" y="1944720"/>
            <a:ext cx="9504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bruja mandó a su hermano en busca de Blancanieves, cuando entró en la celda, Blancanieves le hizo un corte en el ojo y logró escap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lancanieves se fue corriendo hacia el bosque oscuro. Al dia siguiente la bruja se enfadó muchisimo, se estaba volviendo vieja y mató a muchas chicas para que eso no pasara, necesitaba el corazón de Blancanieves. Su hermano buscó a un cazador que se supiera de memoria como se entra y como se sale del bosque oscuro. El cazador que encontron tenia a su mujer muerta y la bruja le dijó que si encontraba a Blancanieves le devolvería a su mujer muerta. El cazador no le costó demasiado encontrar a Blancanieves y cuando la encontró, se dió cuenta de que la bruja le había mentido y se escapó con Blancanieves para salvarl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280099"/>
                </a:solidFill>
                <a:latin typeface="Arial"/>
              </a:rPr>
              <a:t>ARGUMENTO 2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6360" y="4745160"/>
            <a:ext cx="928836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280099"/>
                </a:solidFill>
                <a:latin typeface="Arial"/>
              </a:rPr>
              <a:t>ARGUMENTO 3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5440" y="1576440"/>
            <a:ext cx="974412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oldados de la bruja y su hermano los seguían, pero no lograron encontrarlos. Blancanieves quería encontrar el palacio de su tío para poder derrotar a la bru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llegó al palacio formo un gran ejercito y se fue en busca de la bruja. Derroto al ejercito de la bruja y fue a por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espejito decia ” la sangre mas bella se muere con una sangre aún mas bella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Blancanieves le clavó una espada a la bruja y logró matarla. Blancanieves vivió feliz en su reino y reinó junto al caz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52360" y="411624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-10080720" y="4751280"/>
            <a:ext cx="6191280" cy="3286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9288360" y="4495680"/>
            <a:ext cx="7619760" cy="5079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832360" y="3959280"/>
            <a:ext cx="3384720" cy="31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503280"/>
            <a:ext cx="939636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ff00"/>
                </a:solidFill>
                <a:latin typeface="Arial"/>
              </a:rPr>
              <a:t>OPINION PERSONAL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4720" y="1224000"/>
            <a:ext cx="885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Este libro me ha gustado mucho porque no tiene nada que ver con la historia clásica, solo con los personajes que son los mismos, este libro es de aventuras, romance y a ratos gracioso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Yo recomiendo que la gente lo lea porque estoy segura de que les gustará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76240" y="3716280"/>
            <a:ext cx="7115400" cy="319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08:32:04Z</dcterms:created>
  <dc:creator>villena1ade15 villena1ade15</dc:creator>
  <dc:description/>
  <dc:language>en-US</dc:language>
  <cp:lastModifiedBy>villena1ade15 villena1ade15</cp:lastModifiedBy>
  <dcterms:modified xsi:type="dcterms:W3CDTF">2013-12-12T10:04:29Z</dcterms:modified>
  <cp:revision>1</cp:revision>
  <dc:subject/>
  <dc:title/>
</cp:coreProperties>
</file>