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599-B9CE-4FF0-AA9F-F6477367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21A-C530-4B1D-8AB6-5EA39681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C31-8D39-4569-BAAA-D6702CC2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27B-E1A1-4D25-9FA5-B7D8DE39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188-A59E-4878-9AFF-9AE9D15E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FF7B-E85B-4257-9A60-2881DF5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0BC6-F350-48B0-9D4F-D302471D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C248-E73C-4FFD-A0F9-BD76E097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CCAC-1039-4361-9275-AC9E84BB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767C-D41E-4DDE-86F3-066BFF25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FC98-E785-48ED-963A-C873DBA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E65-340A-4264-AB78-3B01271E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5D24-59A9-472F-9478-59ADE4A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B472-7B44-448F-88E3-ABCC80F0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7ED3-37A3-4ED1-ADE3-EEE2FDB6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9126-ECAA-4251-ACB4-55544E46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3EB9-1E59-4BEF-A297-091D48D6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C8D-BAA8-4F37-AD49-1F7B8605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DBF-C159-4CB7-B30F-A61934EB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6E9-6B25-4E99-B0F0-2F47B681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8B5-8925-4812-A641-92BDFA27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844-7C9B-442F-9769-C7FB8C3F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11E-F4B3-4A04-904F-4773EB5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DF8-C2D0-4B70-A1F2-3F587D9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38A82-D038-47CA-A90A-5743FA95FEB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2BE6F-4F11-449F-9706-0BAFA7BD422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ANCANIEVES Y LA LEYENDA DEL CAZADOR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2745000" y="-58608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57636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640" y="1901880"/>
            <a:ext cx="364176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 libro favorito: Blancanieves y La Leyenda Del Ca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r: Lilly B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itorial: Casa Del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tareal Comenius: ¿Que le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ituto: 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e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a: Simona Steliy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 1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03640" y="1871640"/>
            <a:ext cx="568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63640" y="720720"/>
            <a:ext cx="7848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" y="1714680"/>
            <a:ext cx="98870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Blancanieves (Kristen Steward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Quiere vengar la muerte de su pad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El Rey Magnus (Noah Huntley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el padre de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eina Eleanor (Liberty Ross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la madre de Blancanie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avenna (Charlice Theron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Quiere matar a Balncanieves por ser la mas guap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Cazador (Chris Hemsworth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Es el que la reina Ravenna manda para matar a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6360" y="4680000"/>
            <a:ext cx="8928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ARGUMENTO 1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465200"/>
            <a:ext cx="93949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libro trata sobre una hermosa niña, llamada blancanieves, su padre se caso con una bruja. El dia de su luna de miel, la burja mató al padre y se hizo reina de todo el imperio, encerró a Blancanieves en una t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ruja siempre estaba joven y bella, se comia la juventud y la belleza de las chicas. Un dia le preguntó a su espejito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jito espejito, quien es la más bella de este reino” y el espejito respondió ” Hoy se ha echo mujer una la chicas mas hermosa de todo el reino” la bruja muy enfadada quisó saber quien era, el espejito le respondió que era Blancanieves, y que tendria que quitarle el corazon para que ella volviera a ser la mujer mas herm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3280" y="4248000"/>
            <a:ext cx="93232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9840" y="1944720"/>
            <a:ext cx="950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bruja mandó a su hermano en busca de Blancanieves, cuando entró en la celda, Blancanieves le hizo un corte en el ojo y logró escap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lancanieves se fue corriendo hacia el bosque oscuro. Al dia siguiente la bruja se enfadó muchisimo, se estaba volviendo vieja y mató a muchas chicas para que eso no pasara, necesitaba el corazón de Blancanieves. Su hermano buscó a un cazador que se supiera de memoria como se entra y como se sale del bosque oscuro. El cazador que encontron tenia a su mujer muerta y la bruja le dijó que si encontraba a Blancanieves le devolvería a su mujer muerta. El cazador no le costó demasiado encontrar a Blancanieves y cuando la encontró, se dió cuenta de que la bruja le había mentido y se escapó con Blancanieves para salvar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2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6360" y="4745160"/>
            <a:ext cx="92883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3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440" y="1576440"/>
            <a:ext cx="97441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oldados de la bruja y su hermano los seguían, pero no lograron encontrarlos. Blancanieves quería encontrar el palacio de su tío para poder derrotar a la bru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legó al palacio formo un gran ejercito y se fue en busca de la bruja. Derroto al ejercito de la bruja y fue a por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spejito decia ” la sangre mas bella se muere con una sangre aún mas bella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Blancanieves le clavó una espada a la bruja y logró matarla. Blancanieves vivió feliz en su reino y reinó junto al caz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52360" y="411624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-10080720" y="4751280"/>
            <a:ext cx="619128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9288360" y="4495680"/>
            <a:ext cx="7619760" cy="507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832360" y="3959280"/>
            <a:ext cx="3384720" cy="31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503280"/>
            <a:ext cx="939636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OPINION PERSONAL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1224000"/>
            <a:ext cx="885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Este libro me ha gustado mucho porque no tiene nada que ver con la historia clásica, solo con los personajes que son los mismos, este libro es de aventuras, romance y a ratos gracioso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Yo recomiendo que la gente lo lea porque estoy segura de que les gustará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76240" y="3716280"/>
            <a:ext cx="7115400" cy="319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08:32:04Z</dcterms:created>
  <dc:creator>villena1ade15 villena1ade15</dc:creator>
  <dc:description/>
  <dc:language>en-US</dc:language>
  <cp:lastModifiedBy>villena1ade15 villena1ade15</cp:lastModifiedBy>
  <dcterms:modified xsi:type="dcterms:W3CDTF">2013-12-12T10:04:29Z</dcterms:modified>
  <cp:revision>1</cp:revision>
  <dc:subject/>
  <dc:title/>
</cp:coreProperties>
</file>