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61A-F57D-4562-889A-1BB92845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39B-BF03-4D7A-A390-F8B9222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9A8-33C9-408D-93DA-B1D52CE7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A94-2959-4EAB-AB92-0557CAE8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BC0A-D04A-4CA1-903B-D2EC4049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0016-8C3A-4C7C-8CDA-1D1C6B4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6A05-5AEA-48C4-95ED-CFD44CB8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979-F250-4969-8868-E4E9A4F4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6AF-479E-4371-9AE8-0F2CB50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A3D-A7DD-4BCF-9FDA-A4AAF83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3F4-A456-47E3-918A-B5D00C1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460-6B91-4115-81B0-5ED9B08B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C91-C638-47E1-A277-000781C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6BD-4A31-43B5-ADE4-9648C70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248-A047-421E-8DF6-0B1242DA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748B-2811-4B93-B3D8-3CF2E4DF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AB8-0757-4783-9543-46DC2FFA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1E3-D184-4B5A-987A-AE75CA6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29A-A229-4AF0-8B89-CAA28AC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CF2-A79C-4AB2-AB5E-684C554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17F-5758-4321-9F24-E8EEB5D5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53B-F883-485A-BFC3-A2AF61F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DA5-E16A-43DD-B933-79998AA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15B-1768-428E-B40E-4A3525F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7E231-010E-4688-9B68-8EDE8F72E28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CD7E2-F312-46B4-ACDA-EC62C0D4FA3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CANIEVES Y LA LEYENDA DEL CAZADOR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2745000" y="-58608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57636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1901880"/>
            <a:ext cx="3641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libro favorito: Blancanieves y La Leyenda Del Ca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: Lilly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orial: Casa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tareal Comenius: ¿Que le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to: 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e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a: Simona Steliy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 1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03640" y="187164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3640" y="720720"/>
            <a:ext cx="784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" y="1714680"/>
            <a:ext cx="98870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Blancanieves (Kristen Steward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iere vengar la muerte de su pad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El Rey Magnus (Noah Huntley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 padre de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eina Eleanor (Liberty Ross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la madre de Blancanie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avenna (Charlice Theron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Quiere matar a Balncanieves por ser la mas guap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Cazador (Chris Hemsworth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s el que la reina Ravenna manda para matar a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4680000"/>
            <a:ext cx="892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ARGUMENTO 1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465200"/>
            <a:ext cx="93949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libro trata sobre una hermosa niña, llamada blancanieves, su padre se caso con una bruja. El dia de su luna de miel, la burja mató al padre y se hizo reina de todo el imperio, encerró a Blancanieves en una t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ruja siempre estaba joven y bella, se comia la juventud y la belleza de las chicas. Un dia le preguntó a su espejit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jito espejito, quien es la más bella de este reino” y el espejito respondió ” Hoy se ha echo mujer una la chicas mas hermosa de todo el reino” la bruja muy enfadada quisó saber quien era, el espejito le respondió que era Blancanieves, y que tendria que quitarle el corazon para que ella volviera a ser la mujer mas herm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3280" y="4248000"/>
            <a:ext cx="93232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9840" y="1944720"/>
            <a:ext cx="950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ruja mandó a su hermano en busca de Blancanieves, cuando entró en la celda, Blancanieves le hizo un corte en el ojo y logró esca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ancanieves se fue corriendo hacia el bosque oscuro. Al dia siguiente la bruja se enfadó muchisimo, se estaba volviendo vieja y mató a muchas chicas para que eso no pasara, necesitaba el corazón de Blancanieves. Su hermano buscó a un cazador que se supiera de memoria como se entra y como se sale del bosque oscuro. El cazador que encontron tenia a su mujer muerta y la bruja le dijó que si encontraba a Blancanieves le devolvería a su mujer muerta. El cazador no le costó demasiado encontrar a Blancanieves y cuando la encontró, se dió cuenta de que la bruja le había mentido y se escapó con Blancanieves para salvar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2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6360" y="4745160"/>
            <a:ext cx="9288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3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576440"/>
            <a:ext cx="9744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oldados de la bruja y su hermano los seguían, pero no lograron encontrarlos. Blancanieves quería encontrar el palacio de su tío para poder derrotar a la bru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legó al palacio formo un gran ejercito y se fue en busca de la bruja. Derroto al ejercito de la bruja y fue a por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ito decia ” la sangre mas bella se muere con una sangre aún mas bella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Blancanieves le clavó una espada a la bruja y logró matarla. Blancanieves vivió feliz en su reino y reinó junto al caz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52360" y="411624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-10080720" y="4751280"/>
            <a:ext cx="619128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9288360" y="449568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32360" y="3959280"/>
            <a:ext cx="338472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503280"/>
            <a:ext cx="939636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OPINION PERSONAL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224000"/>
            <a:ext cx="885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ste libro me ha gustado mucho porque no tiene nada que ver con la historia clásica, solo con los personajes que son los mismos, este libro es de aventuras, romance y a ratos gracioso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Yo recomiendo que la gente lo lea porque estoy segura de que les gustará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6240" y="3716280"/>
            <a:ext cx="7115400" cy="31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08:32:04Z</dcterms:created>
  <dc:creator>villena1ade15 villena1ade15</dc:creator>
  <dc:description/>
  <dc:language>en-US</dc:language>
  <cp:lastModifiedBy>villena1ade15 villena1ade15</cp:lastModifiedBy>
  <dcterms:modified xsi:type="dcterms:W3CDTF">2013-12-12T10:04:29Z</dcterms:modified>
  <cp:revision>1</cp:revision>
  <dc:subject/>
  <dc:title/>
</cp:coreProperties>
</file>