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A24-6C7C-4DD9-85D5-2BED7D9D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0D2-1B14-43BC-9CE0-F9A42598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9E9-C5D9-4162-AC57-298A313B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09B-0701-48EB-9D0B-78609032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9AF1-0934-4FC9-85AF-CD093A1A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23BE-9792-4143-81A3-F1E4C45B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C586-EBC5-473D-B400-F082CD72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8189-C37F-4674-A247-9C880506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2D76-CA2B-4124-BF5E-F078C07A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2BA4-588F-468A-9A74-81B3E3C3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7D3A-B023-4DDD-9FB5-5184B4C2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288-644B-4DB3-83BD-A61F869A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5DD0-5693-4BEB-ABC5-15C1A34D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DC89-2CE6-4737-B73E-6760E63C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84BA-2741-4FAE-9777-660154AD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2B1F-7FFC-4F47-AF3D-9C6E5F59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268880"/>
            <a:ext cx="285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CE3A-E92A-4A19-A68E-84AD1CBF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885-3E4B-4371-889F-C99469B6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03B-9518-4CA2-B204-F099486D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46E-0241-4081-A7FA-2253BC92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67F-482A-448F-BBAC-ACE8A1CB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E4F-7FD6-4A23-99C9-23528AE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2688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09D-DA9E-46FC-AECC-E5D4DB9E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268880"/>
            <a:ext cx="8853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6AE-4D89-4B5E-B557-C4BA53D4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CA7F8-2610-45DE-85AD-6920028AD1D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3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E86B-59AC-4B5C-B20B-A60974C606C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LANCANIEVES Y LA LEYENDA DEL CAZADOR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2745000" y="-58608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576360"/>
            <a:ext cx="914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640" y="1901880"/>
            <a:ext cx="364176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 libro favorito: Blancanieves y La Leyenda Del Caz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tor: Lilly B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ditorial: Casa Del 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Multitareal Comenius: ¿Que le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ituto: 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or: Jose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umna: Simona Steliya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upo: 1º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03640" y="1871640"/>
            <a:ext cx="5688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63640" y="720720"/>
            <a:ext cx="7848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PERSONAJ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520" y="1714680"/>
            <a:ext cx="988704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Blancanieves (Kristen Steward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Quiere vengar la muerte de su pad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El Rey Magnus (Noah Huntley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el padre de blancanie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Reina Eleanor (Liberty Ross)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Es la madre de Blancanie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Ravenna (Charlice Theron)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Quiere matar a Balncanieves por ser la mas guap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ff00ff"/>
                </a:solidFill>
                <a:latin typeface="Arial"/>
              </a:rPr>
              <a:t>Cazador (Chris Hemsworth)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Es el que la reina Ravenna manda para matar a Blancanie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6360" y="4680000"/>
            <a:ext cx="8928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Arial"/>
              </a:rPr>
              <a:t>ARGUMENTO 1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465200"/>
            <a:ext cx="93949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libro trata sobre una hermosa niña, llamada blancanieves, su padre se caso con una bruja. El dia de su luna de miel, la burja mató al padre y se hizo reina de todo el imperio, encerró a Blancanieves en una to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bruja siempre estaba joven y bella, se comia la juventud y la belleza de las chicas. Un dia le preguntó a su espejito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jito espejito, quien es la más bella de este reino” y el espejito respondió ” Hoy se ha echo mujer una la chicas mas hermosa de todo el reino” la bruja muy enfadada quisó saber quien era, el espejito le respondió que era Blancanieves, y que tendria que quitarle el corazon para que ella volviera a ser la mujer mas herm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3280" y="4248000"/>
            <a:ext cx="93232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9840" y="1944720"/>
            <a:ext cx="9504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bruja mandó a su hermano en busca de Blancanieves, cuando entró en la celda, Blancanieves le hizo un corte en el ojo y logró escap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lancanieves se fue corriendo hacia el bosque oscuro. Al dia siguiente la bruja se enfadó muchisimo, se estaba volviendo vieja y mató a muchas chicas para que eso no pasara, necesitaba el corazón de Blancanieves. Su hermano buscó a un cazador que se supiera de memoria como se entra y como se sale del bosque oscuro. El cazador que encontron tenia a su mujer muerta y la bruja le dijó que si encontraba a Blancanieves le devolvería a su mujer muerta. El cazador no le costó demasiado encontrar a Blancanieves y cuando la encontró, se dió cuenta de que la bruja le había mentido y se escapó con Blancanieves para salvar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280099"/>
                </a:solidFill>
                <a:latin typeface="Arial"/>
              </a:rPr>
              <a:t>ARGUMENTO 2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6360" y="4745160"/>
            <a:ext cx="92883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280099"/>
                </a:solidFill>
                <a:latin typeface="Arial"/>
              </a:rPr>
              <a:t>ARGUMENTO 3/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440" y="1576440"/>
            <a:ext cx="974412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oldados de la bruja y su hermano los seguían, pero no lograron encontrarlos. Blancanieves quería encontrar el palacio de su tío para poder derrotar a la bru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legó al palacio formo un gran ejercito y se fue en busca de la bruja. Derroto al ejercito de la bruja y fue a por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espejito decia ” la sangre mas bella se muere con una sangre aún mas bella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Blancanieves le clavó una espada a la bruja y logró matarla. Blancanieves vivió feliz en su reino y reinó junto al caz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52360" y="411624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-10080720" y="4751280"/>
            <a:ext cx="619128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9288360" y="4495680"/>
            <a:ext cx="7619760" cy="5079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832360" y="3959280"/>
            <a:ext cx="3384720" cy="31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503280"/>
            <a:ext cx="939636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ff00"/>
                </a:solidFill>
                <a:latin typeface="Arial"/>
              </a:rPr>
              <a:t>OPINION PERSONAL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720" y="1224000"/>
            <a:ext cx="8855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Este libro me ha gustado mucho porque no tiene nada que ver con la historia clásica, solo con los personajes que son los mismos, este libro es de aventuras, romance y a ratos gracioso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Arial"/>
              </a:rPr>
              <a:t>Yo recomiendo que la gente lo lea porque estoy segura de que les gustará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76240" y="3716280"/>
            <a:ext cx="7115400" cy="319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08:32:04Z</dcterms:created>
  <dc:creator>villena1ade15 villena1ade15</dc:creator>
  <dc:description/>
  <dc:language>en-US</dc:language>
  <cp:lastModifiedBy>villena1ade15 villena1ade15</cp:lastModifiedBy>
  <dcterms:modified xsi:type="dcterms:W3CDTF">2013-12-12T10:04:29Z</dcterms:modified>
  <cp:revision>1</cp:revision>
  <dc:subject/>
  <dc:title/>
</cp:coreProperties>
</file>