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843-9931-4D12-9D40-459E1C8F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80E-940F-43D6-A15E-A138227A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89D-9151-4E19-B7B6-73AB3F35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343-D7B0-416B-AC3D-FF065A4C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B87-8E65-4782-B131-92DABCEF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937-9872-4B90-BA48-86269252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172-5C1E-422C-AA58-10F53A9C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349-6DC0-4798-A436-7FC5D5B2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3B0-1581-4493-9D67-77E16237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7C7-3BA9-4659-BC49-1A318E13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D9A-A956-4DBA-8879-FAA8E5B5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3AB-59CB-4FD4-9A26-F37C890A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D3FD8-D214-43DD-8E0A-B53C53ACE7B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792000"/>
            <a:ext cx="8928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600480"/>
            <a:ext cx="907092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1" lang="es-ES" sz="7200" spc="-1" strike="noStrike">
                <a:solidFill>
                  <a:srgbClr val="00ffff"/>
                </a:solidFill>
                <a:latin typeface="Arial"/>
              </a:rPr>
              <a:t>COCHE  </a:t>
            </a:r>
            <a:r>
              <a:rPr b="1" lang="es-ES" sz="7200" spc="-1" strike="noStrike">
                <a:solidFill>
                  <a:srgbClr val="ff00ff"/>
                </a:solidFill>
                <a:latin typeface="Arial"/>
              </a:rPr>
              <a:t> ULTRA</a:t>
            </a:r>
            <a:r>
              <a:rPr b="1" lang="es-E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7200" spc="-1" strike="noStrike">
                <a:solidFill>
                  <a:srgbClr val="008000"/>
                </a:solidFill>
                <a:latin typeface="Arial"/>
              </a:rPr>
              <a:t>SUBMAR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040" y="3139920"/>
            <a:ext cx="9647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royecto Multilateral Comenius ¿Qué le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6335640"/>
            <a:ext cx="8567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Jose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2000" y="6119640"/>
            <a:ext cx="3959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Alum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ofia Barberá 4º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el primer coche submarino que exis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" y="2448000"/>
            <a:ext cx="7991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te coche usa energía eléctric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 ecológico 100%, no contamina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000" y="3311640"/>
            <a:ext cx="7920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921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  más impactante de este coche, es que es </a:t>
            </a:r>
            <a:r>
              <a:rPr b="1" lang="es-ES" sz="2200" spc="-1" strike="noStrike">
                <a:solidFill>
                  <a:srgbClr val="33a3a3"/>
                </a:solidFill>
                <a:latin typeface="Arial"/>
              </a:rPr>
              <a:t>descapotable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nductor puede salir a probar la  temperatura del agua, y es más seguro porque si ocurre una emergencia, puedes salir más fácilmente del c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40000"/>
            <a:ext cx="10080720" cy="60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b2394"/>
                </a:solidFill>
                <a:latin typeface="Arial"/>
              </a:rPr>
              <a:t>Puedes viajar con tu familia, y disfrutar del los lugares que esconde el 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360" y="2016000"/>
            <a:ext cx="5008680" cy="554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51600" y="2016000"/>
            <a:ext cx="49273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360" y="0"/>
            <a:ext cx="4751640" cy="395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4360" y="3959280"/>
            <a:ext cx="482436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896000" y="0"/>
            <a:ext cx="5184720" cy="395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67280" y="395928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57564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d320"/>
                </a:solidFill>
                <a:latin typeface="Arial"/>
              </a:rPr>
              <a:t>Este coche puede sumergirse todo lo que tu quieras, tiene un aplicación que cuando toques tierra, el coche también funciona ah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36720" y="2592360"/>
            <a:ext cx="84232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Increí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5760" y="1325520"/>
            <a:ext cx="3527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, los tapizados y acabados interiores de este precioso descapotable al igual que la mayoría de sus componentes eléctricos y mecánicos, están preparados para sobrellevar el contacto con el agua sa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72000" y="1368360"/>
            <a:ext cx="6408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1600" y="262080"/>
            <a:ext cx="892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por el precio de tan solo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50.000 euros,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se puede pedir algo mejor? Esta es tu oportunidad llevatelo y te daremos como regalo este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precioso equipaje de buc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2360" y="2303640"/>
            <a:ext cx="748836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a oportunidad es inigua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52360" y="3240000"/>
            <a:ext cx="7632720" cy="410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92000" y="1944720"/>
            <a:ext cx="828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DUDES EN COMPRARTELO, LO DISFRUTAR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48:51Z</dcterms:created>
  <dc:creator>alumno01 alumno01</dc:creator>
  <dc:description/>
  <dc:language>en-US</dc:language>
  <cp:lastModifiedBy>villena4uno12 villena4uno12</cp:lastModifiedBy>
  <dcterms:modified xsi:type="dcterms:W3CDTF">2014-06-09T10:56:04Z</dcterms:modified>
  <cp:revision>1</cp:revision>
  <dc:subject/>
  <dc:title/>
</cp:coreProperties>
</file>