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3DF-36C6-4980-B168-1D7F99DB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0DFD-1786-4109-9561-0BC58332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572-2F51-42AE-907A-2C6C50EA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1C1-C069-4114-89AA-9A4A98A6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82B-91CA-4B19-BFE3-D4D517FF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D7F-668D-43FB-AB78-435C6523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29A-A6D3-4B32-B9B7-E02F77D5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042-1B5E-4F13-9902-6E7AE30E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4977-E277-4D29-A351-7AEFDCDD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398-9203-47DA-A9E7-8E566E0A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DA6-0CD1-453B-A131-48711A05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DA2-52F0-454C-A38B-402350ED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D2D0B-EE4F-47B1-B896-BCCAB9CC85D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792000"/>
            <a:ext cx="8928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-600480"/>
            <a:ext cx="907092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r>
              <a:rPr b="1" lang="es-ES" sz="7200" spc="-1" strike="noStrike">
                <a:solidFill>
                  <a:srgbClr val="00ffff"/>
                </a:solidFill>
                <a:latin typeface="Arial"/>
              </a:rPr>
              <a:t>COCHE  </a:t>
            </a:r>
            <a:r>
              <a:rPr b="1" lang="es-ES" sz="7200" spc="-1" strike="noStrike">
                <a:solidFill>
                  <a:srgbClr val="ff00ff"/>
                </a:solidFill>
                <a:latin typeface="Arial"/>
              </a:rPr>
              <a:t> ULTRA</a:t>
            </a:r>
            <a:r>
              <a:rPr b="1" lang="es-E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7200" spc="-1" strike="noStrike">
                <a:solidFill>
                  <a:srgbClr val="008000"/>
                </a:solidFill>
                <a:latin typeface="Arial"/>
              </a:rPr>
              <a:t>SUBMAR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040" y="3139920"/>
            <a:ext cx="96472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Proyecto Multilateral Comenius ¿Qué le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IES Isabel de Vill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79640" y="6335640"/>
            <a:ext cx="8567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Profes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Jose Andr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72000" y="6119640"/>
            <a:ext cx="3959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Alum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Sofia Barberá 4º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 el primer coche submarino que exis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2000" y="2448000"/>
            <a:ext cx="79916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Este coche usa energía eléctric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Es ecológico 100%, no contamina n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2000" y="3311640"/>
            <a:ext cx="7920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9215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  más impactante de este coche, es que es </a:t>
            </a:r>
            <a:r>
              <a:rPr b="1" lang="es-ES" sz="2200" spc="-1" strike="noStrike">
                <a:solidFill>
                  <a:srgbClr val="33a3a3"/>
                </a:solidFill>
                <a:latin typeface="Arial"/>
              </a:rPr>
              <a:t>descapotable!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onductor puede salir a probar la  temperatura del agua, y es más seguro porque si ocurre una emergencia, puedes salir más fácilmente del co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440000"/>
            <a:ext cx="10080720" cy="60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b2394"/>
                </a:solidFill>
                <a:latin typeface="Arial"/>
              </a:rPr>
              <a:t>Puedes viajar con tu familia, y disfrutar del los lugares que esconde el 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360" y="2016000"/>
            <a:ext cx="5008680" cy="554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151600" y="2016000"/>
            <a:ext cx="49273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360" y="0"/>
            <a:ext cx="4751640" cy="395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4360" y="3959280"/>
            <a:ext cx="4824360" cy="360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896000" y="0"/>
            <a:ext cx="5184720" cy="395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967280" y="3959280"/>
            <a:ext cx="511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575640" cy="2620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d320"/>
                </a:solidFill>
                <a:latin typeface="Arial"/>
              </a:rPr>
              <a:t>Este coche puede sumergirse todo lo que tu quieras, tiene un aplicación que cuando toques tierra, el coche también funciona ahí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36720" y="2592360"/>
            <a:ext cx="842328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Increíbl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5760" y="1325520"/>
            <a:ext cx="3527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emás, los tapizados y acabados interiores de este precioso descapotable al igual que la mayoría de sus componentes eléctricos y mecánicos, están preparados para sobrellevar el contacto con el agua sa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72000" y="1368360"/>
            <a:ext cx="6408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1600" y="262080"/>
            <a:ext cx="8928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Y por el precio de tan solo </a:t>
            </a:r>
            <a:r>
              <a:rPr b="1" lang="es-ES" sz="3600" spc="-1" strike="noStrike">
                <a:solidFill>
                  <a:srgbClr val="0000ff"/>
                </a:solidFill>
                <a:latin typeface="Arial"/>
              </a:rPr>
              <a:t>50.000 euros,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se puede pedir algo mejor? Esta es tu oportunidad llevatelo y te daremos como regalo este </a:t>
            </a:r>
            <a:r>
              <a:rPr b="1" lang="es-ES" sz="3600" spc="-1" strike="noStrike">
                <a:solidFill>
                  <a:srgbClr val="0000ff"/>
                </a:solidFill>
                <a:latin typeface="Arial"/>
              </a:rPr>
              <a:t>precioso equipaje de buce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92360" y="2303640"/>
            <a:ext cx="748836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sta oportunidad es inigua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52360" y="3240000"/>
            <a:ext cx="7632720" cy="4103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92000" y="1944720"/>
            <a:ext cx="828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 DUDES EN COMPRARTELO, LO DISFRUTAR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0:48:51Z</dcterms:created>
  <dc:creator>alumno01 alumno01</dc:creator>
  <dc:description/>
  <dc:language>en-US</dc:language>
  <cp:lastModifiedBy>villena4uno12 villena4uno12</cp:lastModifiedBy>
  <dcterms:modified xsi:type="dcterms:W3CDTF">2014-06-09T10:56:04Z</dcterms:modified>
  <cp:revision>1</cp:revision>
  <dc:subject/>
  <dc:title/>
</cp:coreProperties>
</file>