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61A-530C-4F21-ADBC-8E8A4745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629-BECD-4F59-B711-B3A05EA4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D3C-6103-4CDC-8924-7E9D5767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A12-AE0A-4218-B048-643D0C15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333-DBEC-48D9-B9D0-99E2A76F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91F-AD1C-4564-B8B5-6724D62C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58E-D36D-459A-88B0-D7CC1D0B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10D-43D6-4952-9407-B7E73B21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75F-82A2-4D55-B5AE-1273F40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ABD-B5A5-4DFD-8E6A-5743FE3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E34-4DF4-4AAB-B770-29BC690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A0D-E341-4157-891B-38C4A98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082A2-A6C5-4EB7-92B9-FBF3BF905BF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792000"/>
            <a:ext cx="892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6004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1" lang="es-ES" sz="7200" spc="-1" strike="noStrike">
                <a:solidFill>
                  <a:srgbClr val="00ffff"/>
                </a:solidFill>
                <a:latin typeface="Arial"/>
              </a:rPr>
              <a:t>COCHE  </a:t>
            </a:r>
            <a:r>
              <a:rPr b="1" lang="es-ES" sz="7200" spc="-1" strike="noStrike">
                <a:solidFill>
                  <a:srgbClr val="ff00ff"/>
                </a:solidFill>
                <a:latin typeface="Arial"/>
              </a:rPr>
              <a:t> ULTRA</a:t>
            </a: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7200" spc="-1" strike="noStrike">
                <a:solidFill>
                  <a:srgbClr val="008000"/>
                </a:solidFill>
                <a:latin typeface="Arial"/>
              </a:rPr>
              <a:t>SUBMARI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3139920"/>
            <a:ext cx="9647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oyecto Multilateral Comenius ¿Qué le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ES Isabel de Vill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6335640"/>
            <a:ext cx="8567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se Andr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2000" y="6119640"/>
            <a:ext cx="3959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lum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ofia Barberá 4º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 el primer coche submarino que exi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2448000"/>
            <a:ext cx="7991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te coche usa energía eléctric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dd4814"/>
                </a:solidFill>
                <a:latin typeface="Arial"/>
              </a:rPr>
              <a:t>Es ecológico 100%, no contamina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000" y="3311640"/>
            <a:ext cx="7920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921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 más impactante de este coche, es que es </a:t>
            </a:r>
            <a:r>
              <a:rPr b="1" lang="es-ES" sz="2200" spc="-1" strike="noStrike">
                <a:solidFill>
                  <a:srgbClr val="33a3a3"/>
                </a:solidFill>
                <a:latin typeface="Arial"/>
              </a:rPr>
              <a:t>descapotable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nductor puede salir a probar la  temperatura del agua, y es más seguro porque si ocurre una emergencia, puedes salir más fácilmente del co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1008072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b2394"/>
                </a:solidFill>
                <a:latin typeface="Arial"/>
              </a:rPr>
              <a:t>Puedes viajar con tu familia, y disfrutar del los lugares que esconde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008680" cy="554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51600" y="2016000"/>
            <a:ext cx="49273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360" y="0"/>
            <a:ext cx="4751640" cy="39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4360" y="3959280"/>
            <a:ext cx="482436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96000" y="0"/>
            <a:ext cx="5184720" cy="395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967280" y="395928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57564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d320"/>
                </a:solidFill>
                <a:latin typeface="Arial"/>
              </a:rPr>
              <a:t>Este coche puede sumergirse todo lo que tu quieras, tiene un aplicación que cuando toques tierra, el coche también funciona ah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36720" y="2592360"/>
            <a:ext cx="842328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Increí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1325520"/>
            <a:ext cx="3527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, los tapizados y acabados interiores de este precioso descapotable al igual que la mayoría de sus componentes eléctricos y mecánicos, están preparados para sobrellevar el contacto con el agua sa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72000" y="1368360"/>
            <a:ext cx="6408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1600" y="262080"/>
            <a:ext cx="892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por el precio de tan solo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50.000 euros,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se puede pedir algo mejor? Esta es tu oportunidad llevatelo y te daremos como regalo este </a:t>
            </a:r>
            <a:r>
              <a:rPr b="1" lang="es-ES" sz="3600" spc="-1" strike="noStrike">
                <a:solidFill>
                  <a:srgbClr val="0000ff"/>
                </a:solidFill>
                <a:latin typeface="Arial"/>
              </a:rPr>
              <a:t>precioso equipaje de buce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2360" y="2303640"/>
            <a:ext cx="748836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sta oportunidad es inigua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2360" y="324000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2000" y="1944720"/>
            <a:ext cx="828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UDES EN COMPRARTELO, LO DISFRUTA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48:51Z</dcterms:created>
  <dc:creator>alumno01 alumno01</dc:creator>
  <dc:description/>
  <dc:language>en-US</dc:language>
  <cp:lastModifiedBy>villena4uno12 villena4uno12</cp:lastModifiedBy>
  <dcterms:modified xsi:type="dcterms:W3CDTF">2014-06-09T10:56:04Z</dcterms:modified>
  <cp:revision>1</cp:revision>
  <dc:subject/>
  <dc:title/>
</cp:coreProperties>
</file>