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jpeg" ContentType="image/jpe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44CE-6C93-45B9-964A-1932F40CA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5E03-1484-419C-9648-E8073F19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6016-57E5-4FFE-86E7-2E76FEF9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FC06-EE48-4FE3-8DA8-44E8A98A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6207-71FF-46E2-B8E3-2ED4C030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76E9-2C20-44BC-A074-B6F428D5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6D6F-61D1-4043-8C45-877AF96A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4D57-CFF6-4883-BA48-817EBB7C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BC65-E124-4AFD-8249-D85D5114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34A1-8590-4BC4-AD4E-390A8636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6947-C75B-4254-B85D-F0EBF4D8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3773-EF11-4906-B042-CDA5020C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C2CAC-01CB-45FE-BE04-8B9903D8F1D1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792000"/>
            <a:ext cx="8928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-600480"/>
            <a:ext cx="9070920" cy="306396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7200"/>
            </a:br>
            <a:r>
              <a:rPr b="1" lang="es-ES" sz="7200" spc="-1" strike="noStrike">
                <a:solidFill>
                  <a:srgbClr val="00ffff"/>
                </a:solidFill>
                <a:latin typeface="Arial"/>
              </a:rPr>
              <a:t>COCHE  </a:t>
            </a:r>
            <a:r>
              <a:rPr b="1" lang="es-ES" sz="7200" spc="-1" strike="noStrike">
                <a:solidFill>
                  <a:srgbClr val="ff00ff"/>
                </a:solidFill>
                <a:latin typeface="Arial"/>
              </a:rPr>
              <a:t> ULTRA</a:t>
            </a:r>
            <a:r>
              <a:rPr b="1" lang="es-ES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7200" spc="-1" strike="noStrike">
                <a:solidFill>
                  <a:srgbClr val="008000"/>
                </a:solidFill>
                <a:latin typeface="Arial"/>
              </a:rPr>
              <a:t>SUBMARIN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7040" y="3139920"/>
            <a:ext cx="964728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Proyecto Multilateral Comenius ¿Qué le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IES Isabel de Vill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79640" y="6335640"/>
            <a:ext cx="85676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Profes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Jose Andr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72000" y="6119640"/>
            <a:ext cx="39592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Alumn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Sofia Barberá 4º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 el primer coche submarino que exist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92000" y="2448000"/>
            <a:ext cx="79916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dd4814"/>
                </a:solidFill>
                <a:latin typeface="Arial"/>
              </a:rPr>
              <a:t>Este coche usa energía eléctrica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dd4814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dd4814"/>
                </a:solidFill>
                <a:latin typeface="Arial"/>
              </a:rPr>
              <a:t>Es ecológico 100%, no contamina n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92000" y="3311640"/>
            <a:ext cx="792036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04280"/>
            <a:ext cx="921528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  más impactante de este coche, es que es </a:t>
            </a:r>
            <a:r>
              <a:rPr b="1" lang="es-ES" sz="2200" spc="-1" strike="noStrike">
                <a:solidFill>
                  <a:srgbClr val="33a3a3"/>
                </a:solidFill>
                <a:latin typeface="Arial"/>
              </a:rPr>
              <a:t>descapotable!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conductor puede salir a probar la  temperatura del agua, y es más seguro porque si ocurre una emergencia, puedes salir más fácilmente del co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440000"/>
            <a:ext cx="10080720" cy="60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6b2394"/>
                </a:solidFill>
                <a:latin typeface="Arial"/>
              </a:rPr>
              <a:t>Puedes viajar con tu familia, y disfrutar del los lugares que esconde el m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44360" y="2016000"/>
            <a:ext cx="5008680" cy="5543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151600" y="2016000"/>
            <a:ext cx="492732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4360" y="0"/>
            <a:ext cx="4751640" cy="3959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4360" y="3959280"/>
            <a:ext cx="4824360" cy="3600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896000" y="0"/>
            <a:ext cx="5184720" cy="3959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967280" y="3959280"/>
            <a:ext cx="51116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575640" cy="2620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d320"/>
                </a:solidFill>
                <a:latin typeface="Arial"/>
              </a:rPr>
              <a:t>Este coche puede sumergirse todo lo que tu quieras, tiene un aplicación que cuando toques tierra, el coche también funciona ahí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36720" y="2592360"/>
            <a:ext cx="842328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0000"/>
                </a:solidFill>
                <a:latin typeface="Arial"/>
              </a:rPr>
              <a:t>Increíbl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5760" y="1325520"/>
            <a:ext cx="352728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emás, los tapizados y acabados interiores de este precioso descapotable al igual que la mayoría de sus componentes eléctricos y mecánicos, están preparados para sobrellevar el contacto con el agua sal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72000" y="1368360"/>
            <a:ext cx="640872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01600" y="262080"/>
            <a:ext cx="89280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Y por el precio de tan solo </a:t>
            </a:r>
            <a:r>
              <a:rPr b="1" lang="es-ES" sz="3600" spc="-1" strike="noStrike">
                <a:solidFill>
                  <a:srgbClr val="0000ff"/>
                </a:solidFill>
                <a:latin typeface="Arial"/>
              </a:rPr>
              <a:t>50.000 euros,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se puede pedir algo mejor? Esta es tu oportunidad llevatelo y te daremos como regalo este </a:t>
            </a:r>
            <a:r>
              <a:rPr b="1" lang="es-ES" sz="3600" spc="-1" strike="noStrike">
                <a:solidFill>
                  <a:srgbClr val="0000ff"/>
                </a:solidFill>
                <a:latin typeface="Arial"/>
              </a:rPr>
              <a:t>precioso equipaje de buce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92360" y="2303640"/>
            <a:ext cx="7488360" cy="52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sta oportunidad es inigual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52360" y="3240000"/>
            <a:ext cx="7632720" cy="4103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92000" y="1944720"/>
            <a:ext cx="828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O DUDES EN COMPRARTELO, LO DISFRUTARA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2T10:48:51Z</dcterms:created>
  <dc:creator>alumno01 alumno01</dc:creator>
  <dc:description/>
  <dc:language>en-US</dc:language>
  <cp:lastModifiedBy>villena4uno12 villena4uno12</cp:lastModifiedBy>
  <dcterms:modified xsi:type="dcterms:W3CDTF">2014-06-09T10:56:04Z</dcterms:modified>
  <cp:revision>1</cp:revision>
  <dc:subject/>
  <dc:title/>
</cp:coreProperties>
</file>