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6495-62B6-4F8E-83C0-231806877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BE63C-6CAB-4FE6-B54E-8AC6738E0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597CE-C625-4A84-9274-37F80EF1C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C906-41C8-4EE4-9103-321EA3536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71F95-BBA2-4C7B-8089-A123D8A02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1A263-1A81-4EE8-8C7C-80BA2A10A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BCDF6-D74F-4C2D-8442-9E0AFA95E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91883-9A0F-4374-B205-29C3FCE0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9794B-43D1-4F47-9DDF-DC58B0D71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392C5-78FD-436A-B1BD-C41F6068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6C845-FDCF-4D1A-B69B-B1ED058C2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48C70-65F7-418C-A400-DCA73C4DB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F1468E-DC07-43EE-A4F0-83BE4C2B73DF}"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1069920"/>
            <a:ext cx="9070920" cy="4694400"/>
          </a:xfrm>
          <a:prstGeom prst="rect">
            <a:avLst/>
          </a:prstGeom>
          <a:noFill/>
          <a:ln w="0">
            <a:noFill/>
          </a:ln>
        </p:spPr>
        <p:txBody>
          <a:bodyPr lIns="0" rIns="0" tIns="2016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4000" spc="-1" strike="noStrike">
                <a:solidFill>
                  <a:srgbClr val="cfe7f5"/>
                </a:solidFill>
                <a:latin typeface="Gentium Book Basic"/>
              </a:rPr>
              <a:t>DreamRecorderSystem</a:t>
            </a:r>
            <a:br>
              <a:rPr sz="4000"/>
            </a:br>
            <a:br>
              <a:rPr sz="4000"/>
            </a:br>
            <a:r>
              <a:rPr b="1" lang="es-ES" sz="2800" spc="-1" strike="noStrike">
                <a:solidFill>
                  <a:srgbClr val="cfe7f5"/>
                </a:solidFill>
                <a:latin typeface="Gentium Book Basic"/>
              </a:rPr>
              <a:t>Proyecto Multilateral Comenius:</a:t>
            </a:r>
            <a:r>
              <a:rPr b="1" lang="es-ES" sz="4000" spc="-1" strike="noStrike">
                <a:solidFill>
                  <a:srgbClr val="cfe7f5"/>
                </a:solidFill>
                <a:latin typeface="Gentium Book Basic"/>
              </a:rPr>
              <a:t> ‘¿Qué lees?’</a:t>
            </a:r>
            <a:br>
              <a:rPr sz="4000"/>
            </a:br>
            <a:br>
              <a:rPr sz="4000"/>
            </a:br>
            <a:r>
              <a:rPr b="1" lang="es-ES" sz="4000" spc="-1" strike="noStrike">
                <a:solidFill>
                  <a:srgbClr val="cfe7f5"/>
                </a:solidFill>
                <a:latin typeface="Gentium Book Basic"/>
              </a:rPr>
              <a:t>IES Isabel de Villena</a:t>
            </a:r>
            <a:br>
              <a:rPr sz="4000"/>
            </a:br>
            <a:r>
              <a:rPr b="1" lang="es-ES" sz="4000" spc="-1" strike="noStrike">
                <a:solidFill>
                  <a:srgbClr val="cfe7f5"/>
                </a:solidFill>
                <a:latin typeface="Gentium Book Basic"/>
              </a:rPr>
              <a:t>Profesor: José Andrés Molina</a:t>
            </a:r>
            <a:br>
              <a:rPr sz="4000"/>
            </a:br>
            <a:r>
              <a:rPr b="1" lang="es-ES" sz="4000" spc="-1" strike="noStrike">
                <a:solidFill>
                  <a:srgbClr val="cfe7f5"/>
                </a:solidFill>
                <a:latin typeface="Gentium Book Basic"/>
              </a:rPr>
              <a:t>Alumno: Raul Domingo Verdú</a:t>
            </a:r>
            <a:br>
              <a:rPr sz="4000"/>
            </a:br>
            <a:r>
              <a:rPr b="1" lang="es-ES" sz="4000" spc="-1" strike="noStrike">
                <a:solidFill>
                  <a:srgbClr val="cfe7f5"/>
                </a:solidFill>
                <a:latin typeface="Gentium Book Basic"/>
              </a:rPr>
              <a:t>Grupo: 4º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Google</a:t>
            </a:r>
            <a:endParaRPr b="0" lang="en-US" sz="5400" spc="-1" strike="noStrike">
              <a:solidFill>
                <a:srgbClr val="000000"/>
              </a:solidFill>
              <a:latin typeface="Arial"/>
            </a:endParaRPr>
          </a:p>
        </p:txBody>
      </p:sp>
      <p:sp>
        <p:nvSpPr>
          <p:cNvPr id="80" name=""/>
          <p:cNvSpPr/>
          <p:nvPr/>
        </p:nvSpPr>
        <p:spPr>
          <a:xfrm>
            <a:off x="431640" y="2448000"/>
            <a:ext cx="3745080" cy="407340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431640" y="2592360"/>
            <a:ext cx="3745080" cy="39290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ogle publicó la semana pasada un artículo en el que se ven claramente sus intencio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siblemente, en el caso de que la empresa lo compre, se le añadirán otras funciones como la constante actualización del sistema. O quizás un buscador de sueños en línea, y su aplicación para Android llamada PlayDrea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stá empresa será la número 118 que Google ha comprado. YouTube fue comprado por más de 1600 millones de dólares, ¿cuánto pagará por est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7320" y="217440"/>
            <a:ext cx="9070920" cy="2913120"/>
          </a:xfrm>
          <a:prstGeom prst="rect">
            <a:avLst/>
          </a:prstGeom>
          <a:noFill/>
          <a:ln w="0">
            <a:noFill/>
          </a:ln>
        </p:spPr>
        <p:txBody>
          <a:bodyPr lIns="0" rIns="0" tIns="3312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Gentium Book Basic"/>
              </a:rPr>
              <a:t>GRABADOR</a:t>
            </a:r>
            <a:br>
              <a:rPr sz="6600"/>
            </a:br>
            <a:r>
              <a:rPr b="1" lang="es-ES" sz="6600" spc="-1" strike="noStrike">
                <a:solidFill>
                  <a:srgbClr val="99ccff"/>
                </a:solidFill>
                <a:latin typeface="Gentium Book Basic"/>
              </a:rPr>
              <a:t>DE</a:t>
            </a:r>
            <a:br>
              <a:rPr sz="6600"/>
            </a:br>
            <a:r>
              <a:rPr b="1" lang="es-ES" sz="6600" spc="-1" strike="noStrike">
                <a:solidFill>
                  <a:srgbClr val="99ccff"/>
                </a:solidFill>
                <a:latin typeface="Gentium Book Basic"/>
              </a:rPr>
              <a:t>SUEÑOS</a:t>
            </a:r>
            <a:endParaRPr b="0" lang="en-US" sz="6600" spc="-1" strike="noStrike">
              <a:solidFill>
                <a:srgbClr val="000000"/>
              </a:solidFill>
              <a:latin typeface="Arial"/>
            </a:endParaRPr>
          </a:p>
        </p:txBody>
      </p:sp>
      <p:sp>
        <p:nvSpPr>
          <p:cNvPr id="43" name=""/>
          <p:cNvSpPr/>
          <p:nvPr/>
        </p:nvSpPr>
        <p:spPr>
          <a:xfrm>
            <a:off x="2879640" y="6175440"/>
            <a:ext cx="4392720" cy="487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2800" spc="-1" strike="noStrike">
                <a:solidFill>
                  <a:srgbClr val="0000ff"/>
                </a:solidFill>
                <a:latin typeface="Arial"/>
              </a:rPr>
              <a:t>Raúl Domingo Verdú 4º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448000" y="2087640"/>
            <a:ext cx="5688000" cy="1008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02920" y="301680"/>
            <a:ext cx="9070920" cy="1262160"/>
          </a:xfrm>
          <a:prstGeom prst="rect">
            <a:avLst/>
          </a:prstGeom>
          <a:noFill/>
          <a:ln w="0">
            <a:noFill/>
          </a:ln>
        </p:spPr>
        <p:txBody>
          <a:bodyPr lIns="0" rIns="0" tIns="5832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6600" spc="-1" strike="noStrike">
                <a:solidFill>
                  <a:srgbClr val="99ccff"/>
                </a:solidFill>
                <a:latin typeface="Arial"/>
              </a:rPr>
              <a:t>Los sueños</a:t>
            </a:r>
            <a:endParaRPr b="0" lang="en-US" sz="6600" spc="-1" strike="noStrike">
              <a:solidFill>
                <a:srgbClr val="000000"/>
              </a:solidFill>
              <a:latin typeface="Arial"/>
            </a:endParaRPr>
          </a:p>
        </p:txBody>
      </p:sp>
      <p:sp>
        <p:nvSpPr>
          <p:cNvPr id="46" name=""/>
          <p:cNvSpPr/>
          <p:nvPr/>
        </p:nvSpPr>
        <p:spPr>
          <a:xfrm>
            <a:off x="2448000" y="2160720"/>
            <a:ext cx="5688000" cy="1008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ffff"/>
                </a:solidFill>
                <a:latin typeface="Arial"/>
              </a:rPr>
              <a:t>¿Alguna vez te has levantado y sabes que has tenido un gran sueño pero no consigues acordarte? Seguro que si, a todos nos ha pasad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47640" y="3527280"/>
            <a:ext cx="3600360" cy="3240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576000" y="166680"/>
            <a:ext cx="9070920" cy="220968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reams Recorder System</a:t>
            </a:r>
            <a:endParaRPr b="0" lang="en-US" sz="5400" spc="-1" strike="noStrike">
              <a:solidFill>
                <a:srgbClr val="000000"/>
              </a:solidFill>
              <a:latin typeface="Arial"/>
            </a:endParaRPr>
          </a:p>
        </p:txBody>
      </p:sp>
      <p:sp>
        <p:nvSpPr>
          <p:cNvPr id="49" name=""/>
          <p:cNvSpPr/>
          <p:nvPr/>
        </p:nvSpPr>
        <p:spPr>
          <a:xfrm>
            <a:off x="720720" y="3672000"/>
            <a:ext cx="3456000" cy="29066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n innovador sistema creado por un grupo de científicos japoneses permite analizar las ondas electromagnéticas que son emitidas por el cerebro mientras estamos en un estado de sueño. Más tarde, el sistema se encargará de interpretar y reproduce en forma de imágen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31640" y="1800360"/>
            <a:ext cx="3600720" cy="46386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503280" y="1925640"/>
            <a:ext cx="3483000" cy="444168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l dispositivo ha sido llamado DRS,“</a:t>
            </a:r>
            <a:r>
              <a:rPr b="1" lang="es-ES" sz="1800" spc="-1" strike="noStrike">
                <a:solidFill>
                  <a:srgbClr val="000000"/>
                </a:solidFill>
                <a:latin typeface="Arial"/>
              </a:rPr>
              <a:t>DreamRecorderSystem</a:t>
            </a:r>
            <a:r>
              <a:rPr b="0" lang="es-ES" sz="1800" spc="-1" strike="noStrike">
                <a:solidFill>
                  <a:srgbClr val="000000"/>
                </a:solidFill>
                <a:latin typeface="Arial"/>
              </a:rPr>
              <a:t>”. Utiliza un sistema de almacenamiento de sueños llamado DSU “Dream Storage Unity”. Por el momento tan solo se pueden grabar a penas unas pocas horas de sueño, ya que ocupan un gran espacio de almacenamiento. Por suerte están desarrollando un sistema de compresión de los archivos generados por el DRS los cuales tienen formato .drm, y que se espera que pronto todos los reproductores habituales y genéricos acepten este formato.</a:t>
            </a:r>
            <a:endParaRPr b="0" lang="en-US" sz="1800" spc="-1" strike="noStrike">
              <a:solidFill>
                <a:srgbClr val="000000"/>
              </a:solidFill>
              <a:latin typeface="Arial"/>
            </a:endParaRPr>
          </a:p>
        </p:txBody>
      </p:sp>
      <p:sp>
        <p:nvSpPr>
          <p:cNvPr id="52"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Descripción</a:t>
            </a:r>
            <a:endParaRPr b="0" lang="en-US" sz="5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55640" y="1541520"/>
            <a:ext cx="6480360" cy="6174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Cómo es?</a:t>
            </a:r>
            <a:endParaRPr b="0" lang="en-US" sz="5400" spc="-1" strike="noStrike">
              <a:solidFill>
                <a:srgbClr val="000000"/>
              </a:solidFill>
              <a:latin typeface="Arial"/>
            </a:endParaRPr>
          </a:p>
        </p:txBody>
      </p:sp>
      <p:sp>
        <p:nvSpPr>
          <p:cNvPr id="55" name=""/>
          <p:cNvSpPr/>
          <p:nvPr/>
        </p:nvSpPr>
        <p:spPr>
          <a:xfrm>
            <a:off x="1152360" y="2303640"/>
            <a:ext cx="3600720" cy="158400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152360" y="2527200"/>
            <a:ext cx="3456000" cy="136044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rimer lugar, se encuentra el turbante receptor. Éste se encarga de analizar toda la actividad cerebral durante la noche y enviar la señal a la DSU, donde se almacena.</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pic>
        <p:nvPicPr>
          <p:cNvPr id="57" name="" descr=""/>
          <p:cNvPicPr/>
          <p:nvPr/>
        </p:nvPicPr>
        <p:blipFill>
          <a:blip r:embed="rId2"/>
          <a:stretch/>
        </p:blipFill>
        <p:spPr>
          <a:xfrm>
            <a:off x="5303880" y="2303640"/>
            <a:ext cx="4056120" cy="1552320"/>
          </a:xfrm>
          <a:prstGeom prst="rect">
            <a:avLst/>
          </a:prstGeom>
          <a:ln w="0">
            <a:noFill/>
          </a:ln>
        </p:spPr>
      </p:pic>
      <p:sp>
        <p:nvSpPr>
          <p:cNvPr id="58" name=""/>
          <p:cNvSpPr/>
          <p:nvPr/>
        </p:nvSpPr>
        <p:spPr>
          <a:xfrm>
            <a:off x="1584360" y="1557360"/>
            <a:ext cx="6551640" cy="60156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l innovador dispotivo por el momento es un tanto aparatoso y consta de varios componentes, tres principalmente:</a:t>
            </a:r>
            <a:endParaRPr b="0" lang="en-US" sz="1800" spc="-1" strike="noStrike">
              <a:solidFill>
                <a:srgbClr val="000000"/>
              </a:solidFill>
              <a:latin typeface="Arial"/>
            </a:endParaRPr>
          </a:p>
        </p:txBody>
      </p:sp>
      <p:sp>
        <p:nvSpPr>
          <p:cNvPr id="59" name=""/>
          <p:cNvSpPr/>
          <p:nvPr/>
        </p:nvSpPr>
        <p:spPr>
          <a:xfrm>
            <a:off x="4751280" y="302436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1152360" y="395928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1165320" y="4037040"/>
            <a:ext cx="3456000" cy="157176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l segundo componente recibe la señal enviada por el primero. Éste la interpreta y convierte en imágenes después de su almacenamiento. Y por último envía esas imágenes a un dispositivo reproductor especial. </a:t>
            </a:r>
            <a:endParaRPr b="0" lang="en-US" sz="15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62" name=""/>
          <p:cNvSpPr/>
          <p:nvPr/>
        </p:nvSpPr>
        <p:spPr>
          <a:xfrm>
            <a:off x="4751280" y="4680000"/>
            <a:ext cx="552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1152360" y="5614920"/>
            <a:ext cx="3600720" cy="1584360"/>
          </a:xfrm>
          <a:prstGeom prst="rect">
            <a:avLst/>
          </a:prstGeom>
          <a:solidFill>
            <a:srgbClr val="00dcff">
              <a:alpha val="30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152360" y="5838840"/>
            <a:ext cx="3456000" cy="1149480"/>
          </a:xfrm>
          <a:prstGeom prst="rect">
            <a:avLst/>
          </a:prstGeom>
          <a:noFill/>
          <a:ln w="0">
            <a:noFill/>
          </a:ln>
        </p:spPr>
        <p:style>
          <a:lnRef idx="0"/>
          <a:fillRef idx="0"/>
          <a:effectRef idx="0"/>
          <a:fontRef idx="minor"/>
        </p:style>
        <p:txBody>
          <a:bodyPr lIns="90000" rIns="90000" tIns="5832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500" spc="-1" strike="noStrike">
                <a:solidFill>
                  <a:srgbClr val="000000"/>
                </a:solidFill>
                <a:latin typeface="Arial"/>
              </a:rPr>
              <a:t>En por último, se necesita una pantalla o projector en el cual se pueda reproducir la señal. Por el momento tan solo se puede en un monitor especial.</a:t>
            </a:r>
            <a:endParaRPr b="0" lang="en-US" sz="1500" spc="-1" strike="noStrike">
              <a:solidFill>
                <a:srgbClr val="000000"/>
              </a:solidFill>
              <a:latin typeface="Arial"/>
            </a:endParaRPr>
          </a:p>
        </p:txBody>
      </p:sp>
      <p:sp>
        <p:nvSpPr>
          <p:cNvPr id="65" name=""/>
          <p:cNvSpPr/>
          <p:nvPr/>
        </p:nvSpPr>
        <p:spPr>
          <a:xfrm>
            <a:off x="4751280" y="6335640"/>
            <a:ext cx="55260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 name="" descr=""/>
          <p:cNvPicPr/>
          <p:nvPr/>
        </p:nvPicPr>
        <p:blipFill>
          <a:blip r:embed="rId3"/>
          <a:stretch/>
        </p:blipFill>
        <p:spPr>
          <a:xfrm>
            <a:off x="5303880" y="3959280"/>
            <a:ext cx="1968480" cy="1552680"/>
          </a:xfrm>
          <a:prstGeom prst="rect">
            <a:avLst/>
          </a:prstGeom>
          <a:ln w="0">
            <a:noFill/>
          </a:ln>
        </p:spPr>
      </p:pic>
      <p:pic>
        <p:nvPicPr>
          <p:cNvPr id="67" name="" descr=""/>
          <p:cNvPicPr/>
          <p:nvPr/>
        </p:nvPicPr>
        <p:blipFill>
          <a:blip r:embed="rId4"/>
          <a:stretch/>
        </p:blipFill>
        <p:spPr>
          <a:xfrm>
            <a:off x="7272360" y="3959280"/>
            <a:ext cx="2087640" cy="1511280"/>
          </a:xfrm>
          <a:prstGeom prst="rect">
            <a:avLst/>
          </a:prstGeom>
          <a:ln w="0">
            <a:noFill/>
          </a:ln>
        </p:spPr>
      </p:pic>
      <p:pic>
        <p:nvPicPr>
          <p:cNvPr id="68" name="" descr=""/>
          <p:cNvPicPr/>
          <p:nvPr/>
        </p:nvPicPr>
        <p:blipFill>
          <a:blip r:embed="rId5"/>
          <a:stretch/>
        </p:blipFill>
        <p:spPr>
          <a:xfrm>
            <a:off x="5295960" y="5616720"/>
            <a:ext cx="4064040" cy="1550880"/>
          </a:xfrm>
          <a:prstGeom prst="rect">
            <a:avLst/>
          </a:prstGeom>
          <a:ln w="0">
            <a:noFill/>
          </a:ln>
        </p:spPr>
      </p:pic>
      <p:pic>
        <p:nvPicPr>
          <p:cNvPr id="69" name="" descr=""/>
          <p:cNvPicPr/>
          <p:nvPr/>
        </p:nvPicPr>
        <p:blipFill>
          <a:blip r:embed="rId6"/>
          <a:stretch/>
        </p:blipFill>
        <p:spPr>
          <a:xfrm>
            <a:off x="5303880" y="2303640"/>
            <a:ext cx="196848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0" y="2814480"/>
            <a:ext cx="3600360" cy="32403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576000" y="63972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Utilidad</a:t>
            </a:r>
            <a:endParaRPr b="0" lang="en-US" sz="5400" spc="-1" strike="noStrike">
              <a:solidFill>
                <a:srgbClr val="000000"/>
              </a:solidFill>
              <a:latin typeface="Arial"/>
            </a:endParaRPr>
          </a:p>
        </p:txBody>
      </p:sp>
      <p:sp>
        <p:nvSpPr>
          <p:cNvPr id="72" name=""/>
          <p:cNvSpPr/>
          <p:nvPr/>
        </p:nvSpPr>
        <p:spPr>
          <a:xfrm>
            <a:off x="3240000" y="2957400"/>
            <a:ext cx="3456000" cy="3162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Qué utilidad tiene para el uso person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respuesta depende que cada uno de vosotr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Pero para la comunidad comunidad científica supone un gran avance, y un paso más cerca para comprender el funcionamiento del cerebro humano, concretamente los sueño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Lanzamiento</a:t>
            </a:r>
            <a:endParaRPr b="0" lang="en-US" sz="5400" spc="-1" strike="noStrike">
              <a:solidFill>
                <a:srgbClr val="000000"/>
              </a:solidFill>
              <a:latin typeface="Arial"/>
            </a:endParaRPr>
          </a:p>
        </p:txBody>
      </p:sp>
      <p:sp>
        <p:nvSpPr>
          <p:cNvPr id="74" name=""/>
          <p:cNvSpPr/>
          <p:nvPr/>
        </p:nvSpPr>
        <p:spPr>
          <a:xfrm>
            <a:off x="3240000" y="2814480"/>
            <a:ext cx="3745080" cy="356256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240000" y="2957400"/>
            <a:ext cx="3745080" cy="34178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r ahora no se sabe exactamente la fecha en que se lanzará el dispositivo, pero se calcula que estará disponible a la venta al público para finales de junio del próximo año 2015.</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erá mostrado al público por primera vez a finales de este año el la Feria Tecnologica, en la Feria de muestras de Valencia. Donde se presentarán también otras novedades como el Samsung Galaxy S6 y Windows 9.</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76000" y="106200"/>
            <a:ext cx="9070920" cy="1262160"/>
          </a:xfrm>
          <a:prstGeom prst="rect">
            <a:avLst/>
          </a:prstGeom>
          <a:noFill/>
          <a:ln w="0">
            <a:noFill/>
          </a:ln>
        </p:spPr>
        <p:txBody>
          <a:bodyPr lIns="0" rIns="0" tIns="0" bIns="0" anchor="ctr">
            <a:noAutofit/>
          </a:bodyPr>
          <a:p>
            <a:pPr indent="0" algn="ctr">
              <a:lnSpc>
                <a:spcPct val="13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99ccff"/>
                </a:solidFill>
                <a:latin typeface="Andika Basic"/>
              </a:rPr>
              <a:t>Precio</a:t>
            </a:r>
            <a:endParaRPr b="0" lang="en-US" sz="5400" spc="-1" strike="noStrike">
              <a:solidFill>
                <a:srgbClr val="000000"/>
              </a:solidFill>
              <a:latin typeface="Arial"/>
            </a:endParaRPr>
          </a:p>
        </p:txBody>
      </p:sp>
      <p:sp>
        <p:nvSpPr>
          <p:cNvPr id="77" name=""/>
          <p:cNvSpPr/>
          <p:nvPr/>
        </p:nvSpPr>
        <p:spPr>
          <a:xfrm>
            <a:off x="3240000" y="2814480"/>
            <a:ext cx="3745080" cy="2370240"/>
          </a:xfrm>
          <a:prstGeom prst="rect">
            <a:avLst/>
          </a:prstGeom>
          <a:solidFill>
            <a:srgbClr val="00dcff">
              <a:alpha val="45000"/>
            </a:srgbClr>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3240000" y="2957400"/>
            <a:ext cx="3745080" cy="337824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unque no es el definitivo, su precio rondará los 150$. Todavía no está a la venta y Google Inc. ya está al acecho de cualquier oportunidad para hacerse con los derechos del DRU y empezar a fabricarlo en masa como ya lo ha hecho an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8T07:51:56Z</dcterms:created>
  <dc:creator>villena4uno15 villena4uno15</dc:creator>
  <dc:description/>
  <dc:language>en-US</dc:language>
  <cp:lastModifiedBy>villena4uno15 villena4uno15</cp:lastModifiedBy>
  <dcterms:modified xsi:type="dcterms:W3CDTF">2014-06-11T08:18:17Z</dcterms:modified>
  <cp:revision>22</cp:revision>
  <dc:subject/>
  <dc:title/>
</cp:coreProperties>
</file>