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586B9-7380-4A0F-B813-E7B3476CC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C61BB-A9BD-49DF-87E0-783E3D9D9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18D86-2831-42F5-BA55-2E5923654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D5388-BEF7-4371-AAD4-FE2648377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32190-8DAF-4FC2-B603-3EEBFB898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80F32-3369-4796-9B92-55E64EA7D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F2862-84A5-4393-AFEB-EE06D017F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9F4CE-511E-4D8B-B109-B8BE5A52E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EC969-24EB-4FF0-92A2-D293B7F93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4E344-2585-4953-902C-FA34A4ACF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4836F-94AC-4E51-8571-26EBFB6AF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02D26-4AA5-4470-950C-D44F45B2F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DE3BC-D4A0-49FD-9CF7-9BB1ED618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F64EA-206C-45D2-814E-D44D8BFCC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31CF7-8073-4BCC-A28B-1D068FCB3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15027-3C22-43CB-B086-7122BBE62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BA7B9-30F2-4A90-ADEB-3C97E0982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DAC9B-317A-4119-8790-E8E315FA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B4EC5-2363-4D15-9691-6CDC8A3F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E77F4-2EDE-4A13-A61F-D9E0B7F9D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B056E-3FFF-46DF-9973-87C43AA84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C5AFD-C3EB-4E3E-9A94-3A5AE0E48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374D-92F1-4C16-A365-F4061C84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766F9-8D8F-427B-A607-C4D9603F3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B4D7F6-0576-40C1-8A5D-56B36704C90B}"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9640" y="631836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266640" y="634680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831000" y="6346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DD0C6-0D8F-4C0C-A261-4BFC8324AC30}"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dolf_Hitler" TargetMode="External"/><Relationship Id="rId3"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8000"/>
                </a:solidFill>
                <a:latin typeface="Arial"/>
              </a:rPr>
              <a:t>El niño con el pijama de ray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3" name=""/>
          <p:cNvSpPr/>
          <p:nvPr/>
        </p:nvSpPr>
        <p:spPr>
          <a:xfrm>
            <a:off x="863640" y="2664000"/>
            <a:ext cx="8928000" cy="3546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2664000" y="2127240"/>
            <a:ext cx="6968880" cy="3632040"/>
          </a:xfrm>
          <a:prstGeom prst="rect">
            <a:avLst/>
          </a:prstGeom>
          <a:noFill/>
          <a:ln w="0">
            <a:noFill/>
          </a:ln>
        </p:spPr>
        <p:style>
          <a:lnRef idx="0"/>
          <a:fillRef idx="0"/>
          <a:effectRef idx="0"/>
          <a:fontRef idx="minor"/>
        </p:style>
        <p:txBody>
          <a:bodyPr wrap="none"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utor:Jon Boyne</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Editorial: Salamandr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yecto multilateral comenius:¿Qué lees?</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IES Isabel de Ville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fesor: José Andrés Moli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lumno:Jordi  Ruiz Riaz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Grupo: 3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ff00"/>
                </a:solidFill>
                <a:latin typeface="Arial"/>
              </a:rPr>
              <a:t>Personajes</a:t>
            </a:r>
            <a:br>
              <a:rPr sz="4400"/>
            </a:br>
            <a:endParaRPr b="0" lang="en-US" sz="4400" spc="-1" strike="noStrike">
              <a:solidFill>
                <a:srgbClr val="000000"/>
              </a:solidFill>
              <a:latin typeface="Arial"/>
            </a:endParaRPr>
          </a:p>
        </p:txBody>
      </p:sp>
      <p:sp>
        <p:nvSpPr>
          <p:cNvPr id="86" name=""/>
          <p:cNvSpPr/>
          <p:nvPr/>
        </p:nvSpPr>
        <p:spPr>
          <a:xfrm>
            <a:off x="849240" y="2152800"/>
            <a:ext cx="8136000" cy="3162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800" spc="-1" strike="noStrike">
                <a:solidFill>
                  <a:srgbClr val="004586"/>
                </a:solidFill>
                <a:latin typeface="Arial"/>
              </a:rPr>
              <a:t>Bruno</a:t>
            </a:r>
            <a:r>
              <a:rPr b="0" lang="es-ES" sz="1800" spc="-1" strike="noStrike">
                <a:solidFill>
                  <a:srgbClr val="004586"/>
                </a:solidFill>
                <a:latin typeface="Arial"/>
              </a:rPr>
              <a:t>:</a:t>
            </a:r>
            <a:r>
              <a:rPr b="0" lang="es-ES" sz="1800" spc="-1" strike="noStrike">
                <a:solidFill>
                  <a:srgbClr val="000000"/>
                </a:solidFill>
                <a:latin typeface="Arial"/>
              </a:rPr>
              <a:t>: Es el protagonista de la historia. Es intrépido y curioso, y en ocasiones algo desconfiado. El rasgo más característico de su personalidad es su exceso de inocenci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80"/>
                </a:solidFill>
                <a:latin typeface="Arial"/>
              </a:rPr>
              <a:t>Schmuel</a:t>
            </a:r>
            <a:r>
              <a:rPr b="0" lang="es-ES" sz="1800" spc="-1" strike="noStrike">
                <a:solidFill>
                  <a:srgbClr val="000000"/>
                </a:solidFill>
                <a:latin typeface="Arial"/>
              </a:rPr>
              <a:t>: Es judío, y se hace amigo de Bruno. Se encuentra recluido en el campo de concentración de Auschwitz, junto a su familia. Es delgado y tiene la cabeza rapad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
          <p:cNvSpPr/>
          <p:nvPr/>
        </p:nvSpPr>
        <p:spPr>
          <a:xfrm>
            <a:off x="5975280" y="6264360"/>
            <a:ext cx="7164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Secundarios</a:t>
            </a:r>
            <a:br>
              <a:rPr sz="4400"/>
            </a:br>
            <a:endParaRPr b="0" lang="en-US" sz="4400" spc="-1" strike="noStrike">
              <a:solidFill>
                <a:srgbClr val="000000"/>
              </a:solidFill>
              <a:latin typeface="Arial"/>
            </a:endParaRPr>
          </a:p>
        </p:txBody>
      </p:sp>
      <p:sp>
        <p:nvSpPr>
          <p:cNvPr id="89" name=""/>
          <p:cNvSpPr/>
          <p:nvPr/>
        </p:nvSpPr>
        <p:spPr>
          <a:xfrm>
            <a:off x="-36360" y="2308320"/>
            <a:ext cx="10234440" cy="47689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Helga: Es la madre de Bruno y Gretel, de procedencia polaca. Obedece bastante las normas impuestas en la casa y se opone bastante al trabajo que realiza su marido. Además suele regañar mucho a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Ralph: Es el padre de Bruno y Gretel, que manda en Auschwitz y también en su cas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Gretel: Es la hermana mayor de Bruno.</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Maria: Es la niñera de la familia. Suele hablar con Bruno después de llegar a Auschwitz.</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Teniente Kotler: Es el teniente “pelota” del comandante. Se hace amigo de Gretel y de la madre de Bruno porque siempre estaba por su casa, pero se ganó la antipatía del niño. Es destinado al campo de batalla y no vuelve a aparec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camarero de la casa de Auschwitz. Es judío y practicaba la medicina antes de ir al campo de concentración. Se da a entender que Kotler le pega y lo maltrata en el capítulo 13.</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El Abuelo De Bruno: El abuelo que está de acuerdo con su hijo Ralph, y que apoya a su famili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ayudante servicial de la cocina (el pelador de papa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0360" y="258840"/>
            <a:ext cx="8459640" cy="18748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que aparacen pero no intervienen</a:t>
            </a:r>
            <a:br>
              <a:rPr sz="4400"/>
            </a:br>
            <a:endParaRPr b="0" lang="en-US" sz="4400" spc="-1" strike="noStrike">
              <a:solidFill>
                <a:srgbClr val="000000"/>
              </a:solidFill>
              <a:latin typeface="Arial"/>
            </a:endParaRPr>
          </a:p>
        </p:txBody>
      </p:sp>
      <p:sp>
        <p:nvSpPr>
          <p:cNvPr id="91" name=""/>
          <p:cNvSpPr/>
          <p:nvPr/>
        </p:nvSpPr>
        <p:spPr>
          <a:xfrm>
            <a:off x="-36360" y="2308320"/>
            <a:ext cx="10234440" cy="300204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
        <p:nvSpPr>
          <p:cNvPr id="92" name=""/>
          <p:cNvSpPr/>
          <p:nvPr/>
        </p:nvSpPr>
        <p:spPr>
          <a:xfrm>
            <a:off x="952560" y="1749600"/>
            <a:ext cx="6869160" cy="54781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l Furias (</a:t>
            </a:r>
            <a:r>
              <a:rPr b="0" lang="es-ES" sz="1800" spc="-1" strike="noStrike" u="sng">
                <a:solidFill>
                  <a:srgbClr val="ccccff"/>
                </a:solidFill>
                <a:uFillTx/>
                <a:latin typeface="Arial"/>
                <a:hlinkClick r:id="rId2"/>
              </a:rPr>
              <a:t>Hitler</a:t>
            </a:r>
            <a:r>
              <a:rPr b="0" lang="es-ES" sz="1800" spc="-1" strike="noStrike">
                <a:solidFill>
                  <a:srgbClr val="ff0000"/>
                </a:solidFill>
                <a:latin typeface="Arial"/>
              </a:rPr>
              <a:t>)</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Liszt:maestro de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va (mujer de Hitl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buela Natthali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Karl, Daniel, Martin, Isobel, Hilda y Louise: Los tres primeros amigos de Bruno en Berlín, y las tres siguientes de Gret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rs: Mayordomo de la familia en Berlí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Kotler: Padre del teniente. Está en contra de los pensamientos de su hijo y por eso no se habla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uka: Compañero de habitación antiguo de Shmuel. Luka pega a ést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Josef: hermano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Roller: Un hombre loco que siempre hacía reír a Bruno</a:t>
            </a:r>
            <a:r>
              <a:rPr b="0" lang="es-ES" sz="1000" spc="-1" strike="noStrike">
                <a:solidFill>
                  <a:srgbClr val="000000"/>
                </a:solidFill>
                <a:latin typeface="Arial"/>
              </a:rPr>
              <a:t>.</a:t>
            </a: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Argumento</a:t>
            </a:r>
            <a:endParaRPr b="0" lang="en-US" sz="4400" spc="-1" strike="noStrike">
              <a:solidFill>
                <a:srgbClr val="000000"/>
              </a:solidFill>
              <a:latin typeface="Arial"/>
            </a:endParaRPr>
          </a:p>
        </p:txBody>
      </p:sp>
      <p:sp>
        <p:nvSpPr>
          <p:cNvPr id="94" name=""/>
          <p:cNvSpPr/>
          <p:nvPr/>
        </p:nvSpPr>
        <p:spPr>
          <a:xfrm>
            <a:off x="720720" y="1708200"/>
            <a:ext cx="8064360" cy="2394000"/>
          </a:xfrm>
          <a:prstGeom prst="rect">
            <a:avLst/>
          </a:prstGeom>
          <a:solidFill>
            <a:srgbClr val="cfe7f5"/>
          </a:solidFill>
          <a:ln w="9360">
            <a:solidFill>
              <a:srgbClr val="808080"/>
            </a:solidFill>
            <a:round/>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cción se narra desde el punto de vista de Bruno el hijo de nueve años3 de un militar de alto rango nazi. Él y su familia se ven obligados a abandonar Berlín cuando a su padre lo destinan para trabajar en el campo de exterminio de Auschwitz. La familia acepta el cambio con resignación. Desde la ventana de su nueva habitación Bruno divisa una reja tras la cual hay personas que siempre llevan puesto un "pijama a rayas"; en realidad se trata de judíos prisioneros. Explorando los alrededores de su nuevo hogar, Bruno conoce a través de una reja a Schmue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6"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8"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Opinion personal</a:t>
            </a:r>
            <a:br>
              <a:rPr sz="4400"/>
            </a:br>
            <a:endParaRPr b="0" lang="en-US" sz="4400" spc="-1" strike="noStrike">
              <a:solidFill>
                <a:srgbClr val="000000"/>
              </a:solidFill>
              <a:latin typeface="Arial"/>
            </a:endParaRPr>
          </a:p>
        </p:txBody>
      </p:sp>
      <p:sp>
        <p:nvSpPr>
          <p:cNvPr id="100" name=""/>
          <p:cNvSpPr/>
          <p:nvPr/>
        </p:nvSpPr>
        <p:spPr>
          <a:xfrm>
            <a:off x="1079640" y="3168720"/>
            <a:ext cx="8640720" cy="412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977760" y="2448000"/>
            <a:ext cx="8382240" cy="34178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Me ha gustado el libro por que es una historia que refleja lo que sufrianlos judio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En la epoca nazi.Tambien es una buena historia bien escrita y facil de leer.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3:07:28Z</dcterms:created>
  <dc:creator>villena3ac09 villena3ac09</dc:creator>
  <dc:description/>
  <dc:language>en-US</dc:language>
  <cp:lastModifiedBy>villena3ac09 villena3ac09</cp:lastModifiedBy>
  <dcterms:modified xsi:type="dcterms:W3CDTF">2013-12-09T12:46:53Z</dcterms:modified>
  <cp:revision>5</cp:revision>
  <dc:subject/>
  <dc:title/>
</cp:coreProperties>
</file>