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918F4-F00A-4808-9E8B-4544D4DDB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E3EF2-F645-469B-B2F9-39798DB2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13446-5432-4429-BE79-0286D3FE3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7BE2A-46B6-48B1-89FC-0B66F8BF4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F069D-655B-4CF1-89D8-95F55BB5E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021A4-423D-4954-B1DF-1025395C4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AAC2-7C26-4E8D-9527-71EB96076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B4412-802D-4C1E-B034-AAFFE383F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9E011-559B-4F65-AFB4-D75AF23FB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334C-B2E8-405D-B87E-B145DDEB8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B716E-F706-44BC-A3AA-0C46CBEDB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63746-46EE-4845-9632-BCEBC3BC8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35991-4A2D-4177-B745-21228CE6D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2E3DE-CF49-40F8-880B-97B4A9C0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0138D-2308-4CBE-9636-D9FE716F2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ADC53-5859-473B-850B-EF0914A2E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C771E-CCB1-41A0-B715-ACB667AF6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C2CA3-34B5-4536-920B-51333FBEB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280"/>
            <a:ext cx="8853480" cy="438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185D2-5750-4144-9FBF-10DC8B7AB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7364B-0286-4125-8682-17CF8D653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40576-0884-4EE3-B3D7-BD5FF5842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2D23E-2996-488C-9E95-F59DA3BBD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E2AD2-D563-4200-92BD-1B4EFCE4E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E900B-268C-4FB1-823D-B82BB348C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874D2-F59A-40D4-8509-3781F2391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B938D-B32E-43B5-80D9-A3BFA2CA9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E8A21-ADAC-4E3F-A6A0-DBDEFE5A1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2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0F08E-2B34-4033-A7DE-E1530CEA5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3B1CC7-9A71-413A-A7AD-02FA84F71F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2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268880"/>
            <a:ext cx="2850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387CD0-4DD3-4E7A-99E5-9E3FD1FFC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A785-5B9E-4633-A25B-225B32F8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05DB-5267-400B-8CA2-7AFCD0FE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E531E-2CCD-4703-A610-556987BE9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2D45-3C93-479C-A641-460905B0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280"/>
            <a:ext cx="4320360" cy="4383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2688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5973-2FED-42E8-9EB2-D384BEB2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280"/>
            <a:ext cx="43203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268880"/>
            <a:ext cx="8853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C647-16B3-4FAB-A4A5-7C6B2EBB0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94B33-E0A1-44CB-9F60-545C63D773B5}"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280" y="1912680"/>
            <a:ext cx="8674200" cy="438300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88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11000" y="6527880"/>
            <a:ext cx="319428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54640" y="6527880"/>
            <a:ext cx="234612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8BA308-1989-4F8B-A8CA-FDD2BE210EBF}"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83" name="PlaceHolder 2"/>
          <p:cNvSpPr>
            <a:spLocks noGrp="1"/>
          </p:cNvSpPr>
          <p:nvPr>
            <p:ph type="body"/>
          </p:nvPr>
        </p:nvSpPr>
        <p:spPr>
          <a:xfrm>
            <a:off x="720360" y="1979280"/>
            <a:ext cx="8853480" cy="43830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84" name="PlaceHolder 3"/>
          <p:cNvSpPr>
            <a:spLocks noGrp="1"/>
          </p:cNvSpPr>
          <p:nvPr>
            <p:ph type="dt" idx="7"/>
          </p:nvPr>
        </p:nvSpPr>
        <p:spPr>
          <a:xfrm>
            <a:off x="612720" y="6562800"/>
            <a:ext cx="234648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556080" y="656280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335720" y="656280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2E81CA-4B69-4C73-902E-E07C7CBAFFC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420840"/>
            <a:ext cx="8280360" cy="146664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s-ES" sz="4400" spc="-1" strike="noStrike" u="sng">
                <a:solidFill>
                  <a:srgbClr val="000080"/>
                </a:solidFill>
                <a:uFillTx/>
                <a:latin typeface="Rufscript"/>
              </a:rPr>
              <a:t>EL NIÑO CON EL PIJAMA DE RAYAS</a:t>
            </a:r>
            <a:endParaRPr b="0" lang="en-US" sz="4400" spc="-1" strike="noStrike">
              <a:solidFill>
                <a:srgbClr val="280099"/>
              </a:solidFill>
              <a:latin typeface="Arial"/>
            </a:endParaRPr>
          </a:p>
        </p:txBody>
      </p:sp>
      <p:sp>
        <p:nvSpPr>
          <p:cNvPr id="124" name=""/>
          <p:cNvSpPr/>
          <p:nvPr/>
        </p:nvSpPr>
        <p:spPr>
          <a:xfrm>
            <a:off x="647640" y="2198520"/>
            <a:ext cx="7488360" cy="399420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AUTOR: JOHN BOYNE</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DITORIAL: SALAMANDR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yecto Multilateral Comenius: ‘¿Qué lees?’</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IES ISABEL DE VILLE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PROFESOR: JOSE ANDRES MOLINA</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ERIC LORENTE BALLESTER</a:t>
            </a: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es-ES" sz="1800" spc="-1" strike="noStrike">
                <a:solidFill>
                  <a:srgbClr val="000000"/>
                </a:solidFill>
                <a:latin typeface="Rufscript"/>
              </a:rPr>
              <a:t>2ºA</a:t>
            </a:r>
            <a:endParaRPr b="0" lang="en-US" sz="1800" spc="-1" strike="noStrike">
              <a:solidFill>
                <a:srgbClr val="000000"/>
              </a:solidFill>
              <a:latin typeface="Arial"/>
            </a:endParaRPr>
          </a:p>
        </p:txBody>
      </p:sp>
      <p:pic>
        <p:nvPicPr>
          <p:cNvPr id="125" name="" descr=""/>
          <p:cNvPicPr/>
          <p:nvPr/>
        </p:nvPicPr>
        <p:blipFill>
          <a:blip r:embed="rId2"/>
          <a:stretch/>
        </p:blipFill>
        <p:spPr>
          <a:xfrm>
            <a:off x="5656320" y="1347840"/>
            <a:ext cx="3703680" cy="50608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BRUNO</a:t>
            </a:r>
            <a:endParaRPr b="0" lang="en-US" sz="4400" spc="-1" strike="noStrike">
              <a:solidFill>
                <a:srgbClr val="280099"/>
              </a:solidFill>
              <a:latin typeface="Arial"/>
            </a:endParaRPr>
          </a:p>
        </p:txBody>
      </p:sp>
      <p:sp>
        <p:nvSpPr>
          <p:cNvPr id="127" name="PlaceHolder 2"/>
          <p:cNvSpPr>
            <a:spLocks noGrp="1"/>
          </p:cNvSpPr>
          <p:nvPr>
            <p:ph/>
          </p:nvPr>
        </p:nvSpPr>
        <p:spPr>
          <a:xfrm>
            <a:off x="647280" y="1699920"/>
            <a:ext cx="4321080" cy="521172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3200" spc="-1" strike="noStrike">
                <a:solidFill>
                  <a:srgbClr val="000080"/>
                </a:solidFill>
                <a:latin typeface="Rufscript"/>
              </a:rPr>
              <a:t> </a:t>
            </a:r>
            <a:r>
              <a:rPr b="0" i="1" lang="es-ES" sz="2000" spc="-1" strike="noStrike">
                <a:solidFill>
                  <a:srgbClr val="000080"/>
                </a:solidFill>
                <a:latin typeface="Rufscript"/>
              </a:rPr>
              <a:t>Es un niño de 9 años. Vive en Berlín con su familia y encantado con sus amigos. Vive una buena vida hasta que tiene que mudarse de ciudad por el trabajo de su padre. Ahí le cambia la vida. Al principio no sabe qué hacer hasta que un día andando por las alambradas encuentra a otro niño del que se hace muy amigo. Bruno vive en buenas condiciones, tiene dos criados, una hermana (con la que no se lleva demasiado bien aunque al fin y al cabo es su hermana).</a:t>
            </a:r>
            <a:endParaRPr b="0" lang="en-US" sz="2000" spc="-1" strike="noStrike">
              <a:solidFill>
                <a:srgbClr val="000080"/>
              </a:solidFill>
              <a:latin typeface="Arial"/>
            </a:endParaRPr>
          </a:p>
        </p:txBody>
      </p:sp>
      <p:pic>
        <p:nvPicPr>
          <p:cNvPr id="128" name="" descr=""/>
          <p:cNvPicPr/>
          <p:nvPr/>
        </p:nvPicPr>
        <p:blipFill>
          <a:blip r:embed="rId2"/>
          <a:stretch/>
        </p:blipFill>
        <p:spPr>
          <a:xfrm>
            <a:off x="5257800" y="2733840"/>
            <a:ext cx="4321080" cy="28749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3640" y="393480"/>
            <a:ext cx="9070920" cy="126180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SHMUEL</a:t>
            </a:r>
            <a:endParaRPr b="0" lang="en-US" sz="4400" spc="-1" strike="noStrike">
              <a:solidFill>
                <a:srgbClr val="280099"/>
              </a:solidFill>
              <a:latin typeface="Arial"/>
            </a:endParaRPr>
          </a:p>
        </p:txBody>
      </p:sp>
      <p:sp>
        <p:nvSpPr>
          <p:cNvPr id="130" name="PlaceHolder 2"/>
          <p:cNvSpPr>
            <a:spLocks noGrp="1"/>
          </p:cNvSpPr>
          <p:nvPr>
            <p:ph/>
          </p:nvPr>
        </p:nvSpPr>
        <p:spPr>
          <a:xfrm>
            <a:off x="444240" y="536040"/>
            <a:ext cx="4321080" cy="6605640"/>
          </a:xfrm>
          <a:prstGeom prst="rect">
            <a:avLst/>
          </a:prstGeom>
          <a:noFill/>
          <a:ln w="0">
            <a:noFill/>
          </a:ln>
        </p:spPr>
        <p:txBody>
          <a:bodyPr lIns="0" rIns="0" tIns="0" bIns="0" anchor="t">
            <a:normAutofit/>
          </a:bodyPr>
          <a:p>
            <a:pPr marL="431640" indent="-323640">
              <a:lnSpc>
                <a:spcPct val="109000"/>
              </a:lnSpc>
              <a:spcAft>
                <a:spcPts val="1426"/>
              </a:spcAft>
              <a:buClr>
                <a:srgbClr val="ff6633"/>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000080"/>
                </a:solidFill>
                <a:latin typeface="Rufscript"/>
              </a:rPr>
              <a:t>SHMUEL: Es un niño judío que tiene la misma edad que Bruno. Shmuel está en la otra parte de la alambrada, en el campo de concentración de Auswitch. Todos los días va al mismo punto del campo a esperar a que su amigo Bruno aparezca. Se tiran hablando mucho tiempo y escucha a Bruno con interés. Pero él no tiene una casa, ni tiene una criada, ni si quiera una cama caliente pero Bruno de esto no se da cuenta. Éste niño tiene que ver cosas muy duras dentro de ese sitio y cada tarde se esfuma durante un rato de esa realidad para estar con su amigo. Una tarde no encontró a su padre y al día siguiente le pidió a su amigo que le ayudara a buscarle, y éste lo hizo. Los niños no eran conscientes del peligro que corría Bruno y al final ocurrió lo peor que podía pasar.</a:t>
            </a:r>
            <a:endParaRPr b="0" lang="en-US" sz="1800" spc="-1" strike="noStrike">
              <a:solidFill>
                <a:srgbClr val="000080"/>
              </a:solidFill>
              <a:latin typeface="Arial"/>
            </a:endParaRPr>
          </a:p>
        </p:txBody>
      </p:sp>
      <p:pic>
        <p:nvPicPr>
          <p:cNvPr id="131" name="" descr=""/>
          <p:cNvPicPr/>
          <p:nvPr/>
        </p:nvPicPr>
        <p:blipFill>
          <a:blip r:embed="rId2"/>
          <a:stretch/>
        </p:blipFill>
        <p:spPr>
          <a:xfrm>
            <a:off x="5256360" y="2657520"/>
            <a:ext cx="4321080" cy="303048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280099"/>
                </a:solidFill>
                <a:latin typeface="Rufscript"/>
              </a:rPr>
              <a:t>RESUMEN</a:t>
            </a:r>
            <a:endParaRPr b="0" lang="en-US" sz="4400" spc="-1" strike="noStrike">
              <a:solidFill>
                <a:srgbClr val="280099"/>
              </a:solidFill>
              <a:latin typeface="Arial"/>
            </a:endParaRPr>
          </a:p>
        </p:txBody>
      </p:sp>
      <p:sp>
        <p:nvSpPr>
          <p:cNvPr id="133" name=""/>
          <p:cNvSpPr/>
          <p:nvPr/>
        </p:nvSpPr>
        <p:spPr>
          <a:xfrm>
            <a:off x="720720" y="1655640"/>
            <a:ext cx="8928000" cy="5102280"/>
          </a:xfrm>
          <a:prstGeom prst="rect">
            <a:avLst/>
          </a:prstGeom>
          <a:noFill/>
          <a:ln w="0">
            <a:noFill/>
          </a:ln>
        </p:spPr>
        <p:style>
          <a:lnRef idx="0"/>
          <a:fillRef idx="0"/>
          <a:effectRef idx="0"/>
          <a:fontRef idx="minor"/>
        </p:style>
        <p:txBody>
          <a:bodyPr lIns="90000" rIns="90000" tIns="45000" bIns="45000" anchor="t">
            <a:noAutofit/>
          </a:bodyPr>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EL LIBRO TRATA SOBRE DOS CHICOS QUE SE HACEN AMIGOS. QUEDABAN TODOS LAS TARDES EN LA ALAMBRADA PERO UNO DENTRO DE ELLA I EL OTRO FUERA.</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TRAS PASAR ALGUNOS MESES SE HICIERON INSEPARABLES YA LLAVABAN 3 MESES SIENDO AMIGOS.</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UN DIA LOS PADRES DE BRUNO LE DIJERÓN QUE SE HIBAN A VOLVER A SU ANTIGUA CASA. PERO ANTES DE COMUNICARSELO A SHMUEL, LE DIJO-</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MI PADRE A DESAPARECIDO I NO LO ENCUENTRO. ENTONCES BRUNO DECIDIO AYUDARLE A BUSCARLO. TRAS LA BUSCADO SE PUSO A LLOVER I LO LLEVARON A UN SITIO DONDE LOS ESTERMINARON.</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INO SE SUPO NADA MAS DE ELLOS </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PERO ESTO PASO HACE MUCHO TIEMPO, NO PUEDE VOLVER A PASAR.</a:t>
            </a:r>
            <a:endParaRPr b="0" lang="en-US" sz="2000" spc="-1" strike="noStrike">
              <a:solidFill>
                <a:srgbClr val="000000"/>
              </a:solidFill>
              <a:latin typeface="Arial"/>
            </a:endParaRPr>
          </a:p>
          <a:p>
            <a:pP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ctr">
              <a:lnSpc>
                <a:spcPct val="10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000000"/>
                </a:solidFill>
                <a:latin typeface="Rufscript"/>
              </a:rPr>
              <a:t>FI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OPINION PERSONAL</a:t>
            </a:r>
            <a:endParaRPr b="0" lang="en-US" sz="4400" spc="-1" strike="noStrike">
              <a:solidFill>
                <a:srgbClr val="280099"/>
              </a:solidFill>
              <a:latin typeface="Arial"/>
            </a:endParaRPr>
          </a:p>
        </p:txBody>
      </p:sp>
      <p:sp>
        <p:nvSpPr>
          <p:cNvPr id="135" name="PlaceHolder 2"/>
          <p:cNvSpPr>
            <a:spLocks noGrp="1"/>
          </p:cNvSpPr>
          <p:nvPr>
            <p:ph type="subTitle"/>
          </p:nvPr>
        </p:nvSpPr>
        <p:spPr>
          <a:xfrm>
            <a:off x="720360" y="1770120"/>
            <a:ext cx="8854920" cy="4803840"/>
          </a:xfrm>
          <a:prstGeom prst="rect">
            <a:avLst/>
          </a:prstGeom>
          <a:noFill/>
          <a:ln w="0">
            <a:noFill/>
          </a:ln>
        </p:spPr>
        <p:txBody>
          <a:bodyPr lIns="0" rIns="0" tIns="0" bIns="0" anchor="ctr">
            <a:noAutofit/>
          </a:bodyPr>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A mi personalmente la lectura no es algo que me llame mucho la atención, pero si cojo un libro y me gusta me lo termino enseguida. Y eso es lo que me ha pasado con “El niño con el pijama de rayas”. Primeramente me llamo la atención al no explicar nada de lo que iba suceder, por eso a medida que lo iba leyendo me intrigaba más.</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Me parece un libro muy ameno, entretenido y original. No se parece a ningún libro que haya leído anteriormente. Además al ser protagonista un niño de nueve años que no sabe lo que está sucediendo a su alrededor te llega más ya que tú si que sabes qué es lo que ocurre y que es lo que le puede llegar a suceder si se descubre lo que está haciendo.</a:t>
            </a: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280099"/>
              </a:solidFill>
              <a:latin typeface="Arial"/>
            </a:endParaRPr>
          </a:p>
          <a:p>
            <a:pPr marL="343080"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800" spc="-1" strike="noStrike">
                <a:solidFill>
                  <a:srgbClr val="280099"/>
                </a:solidFill>
                <a:latin typeface="Rufscript"/>
              </a:rPr>
              <a:t>Como he dicho, éste libro me ha gustado mucho y recomendaría leerlo (de hecho ya lo he hecho). Trata un tema que a nadie le gustaría vivir, y sin embargo muchas personas que sufrieron en sus carnes las atrocidades del Holocausto lo tiene grabado en sus mentes para siempre. Por eso el resto del mundo no debería olvidar nunca esta parte de nuestra historia, y con libros como éste nunca lo olvidaremos.</a:t>
            </a:r>
            <a:endParaRPr b="0" lang="en-US" sz="1800" spc="-1" strike="noStrike">
              <a:solidFill>
                <a:srgbClr val="280099"/>
              </a:solidFill>
              <a:latin typeface="Arial"/>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4400" spc="-1" strike="noStrike" u="sng">
                <a:solidFill>
                  <a:srgbClr val="280099"/>
                </a:solidFill>
                <a:uFillTx/>
                <a:latin typeface="Rufscript"/>
              </a:rPr>
              <a:t>TODOS LOS PERSONAJES</a:t>
            </a:r>
            <a:endParaRPr b="0" lang="en-US" sz="4400" spc="-1" strike="noStrike">
              <a:solidFill>
                <a:srgbClr val="280099"/>
              </a:solidFill>
              <a:latin typeface="Arial"/>
            </a:endParaRPr>
          </a:p>
        </p:txBody>
      </p:sp>
      <p:pic>
        <p:nvPicPr>
          <p:cNvPr id="137" name="" descr=""/>
          <p:cNvPicPr/>
          <p:nvPr/>
        </p:nvPicPr>
        <p:blipFill>
          <a:blip r:embed="rId2"/>
          <a:stretch/>
        </p:blipFill>
        <p:spPr>
          <a:xfrm>
            <a:off x="719280" y="1728720"/>
            <a:ext cx="4321080" cy="2259000"/>
          </a:xfrm>
          <a:prstGeom prst="rect">
            <a:avLst/>
          </a:prstGeom>
          <a:ln w="0">
            <a:noFill/>
          </a:ln>
          <a:effectLst>
            <a:outerShdw dist="101823" dir="2700000" blurRad="0" rotWithShape="0">
              <a:srgbClr val="808080"/>
            </a:outerShdw>
          </a:effectLst>
        </p:spPr>
      </p:pic>
      <p:pic>
        <p:nvPicPr>
          <p:cNvPr id="138" name="" descr=""/>
          <p:cNvPicPr/>
          <p:nvPr/>
        </p:nvPicPr>
        <p:blipFill>
          <a:blip r:embed="rId3"/>
          <a:stretch/>
        </p:blipFill>
        <p:spPr>
          <a:xfrm>
            <a:off x="5400720" y="1728720"/>
            <a:ext cx="4248000" cy="2343240"/>
          </a:xfrm>
          <a:prstGeom prst="rect">
            <a:avLst/>
          </a:prstGeom>
          <a:ln w="0">
            <a:noFill/>
          </a:ln>
          <a:effectLst>
            <a:outerShdw dist="101823" dir="2700000" blurRad="0" rotWithShape="0">
              <a:srgbClr val="808080"/>
            </a:outerShdw>
          </a:effectLst>
        </p:spPr>
      </p:pic>
      <p:pic>
        <p:nvPicPr>
          <p:cNvPr id="139" name="" descr=""/>
          <p:cNvPicPr/>
          <p:nvPr/>
        </p:nvPicPr>
        <p:blipFill>
          <a:blip r:embed="rId4"/>
          <a:stretch/>
        </p:blipFill>
        <p:spPr>
          <a:xfrm>
            <a:off x="5400720" y="4270320"/>
            <a:ext cx="4248000" cy="2498760"/>
          </a:xfrm>
          <a:prstGeom prst="rect">
            <a:avLst/>
          </a:prstGeom>
          <a:ln w="0">
            <a:noFill/>
          </a:ln>
          <a:effectLst>
            <a:outerShdw dist="101823" dir="2700000" blurRad="0" rotWithShape="0">
              <a:srgbClr val="808080"/>
            </a:outerShdw>
          </a:effectLst>
        </p:spPr>
      </p:pic>
      <p:pic>
        <p:nvPicPr>
          <p:cNvPr id="140" name="" descr=""/>
          <p:cNvPicPr/>
          <p:nvPr/>
        </p:nvPicPr>
        <p:blipFill>
          <a:blip r:embed="rId5"/>
          <a:stretch/>
        </p:blipFill>
        <p:spPr>
          <a:xfrm>
            <a:off x="792000" y="4392720"/>
            <a:ext cx="4176720" cy="2376360"/>
          </a:xfrm>
          <a:prstGeom prst="rect">
            <a:avLst/>
          </a:prstGeom>
          <a:ln w="0">
            <a:noFill/>
          </a:ln>
          <a:effectLst>
            <a:outerShdw dist="101823" dir="2700000" blurRad="0" rotWithShape="0">
              <a:srgbClr val="808080"/>
            </a:outerShdw>
          </a:effectLst>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400" spc="-1" strike="noStrike">
                <a:solidFill>
                  <a:srgbClr val="280099"/>
                </a:solidFill>
                <a:latin typeface="Rufscript"/>
              </a:rPr>
              <a:t>FIN.</a:t>
            </a:r>
            <a:endParaRPr b="0" lang="en-US" sz="5400" spc="-1" strike="noStrike">
              <a:solidFill>
                <a:srgbClr val="280099"/>
              </a:solidFill>
              <a:latin typeface="Arial"/>
            </a:endParaRPr>
          </a:p>
        </p:txBody>
      </p:sp>
      <p:pic>
        <p:nvPicPr>
          <p:cNvPr id="142" name="" descr=""/>
          <p:cNvPicPr/>
          <p:nvPr/>
        </p:nvPicPr>
        <p:blipFill>
          <a:blip r:embed="rId2"/>
          <a:stretch/>
        </p:blipFill>
        <p:spPr>
          <a:xfrm>
            <a:off x="1231920" y="1979640"/>
            <a:ext cx="7829640" cy="43848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12:19:36Z</dcterms:created>
  <dc:creator>villena2ac14 villena2ac14</dc:creator>
  <dc:description/>
  <dc:language>en-US</dc:language>
  <cp:lastModifiedBy>villena2ac14 villena2ac14</cp:lastModifiedBy>
  <dcterms:modified xsi:type="dcterms:W3CDTF">2013-12-05T12:35:56Z</dcterms:modified>
  <cp:revision>2</cp:revision>
  <dc:subject/>
  <dc:title/>
</cp:coreProperties>
</file>