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C28-C601-475D-B558-E8C7243C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71E-3EE2-4D7E-8091-D576B55F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B44-179A-456D-938F-8232227E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60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8284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60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8284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5A8-8E0F-4DB3-BF5A-054F1343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FCA2-3CFA-4E62-974D-020DAA51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BA89-696D-4E2C-895C-4A3B8AD9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758D-23BF-439D-BC5F-7F6DA658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01BD-5998-4809-BAD5-F3F07985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A484-863F-47A3-AF00-908F1B8E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384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542A-823F-41F5-A5DD-1A185AD1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CAF5-5E16-4DDE-92D6-69FA4E62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28A4-B254-4B55-A977-4B67DB11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965D-7F9B-43E6-90FE-B7926425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7436-9CAD-40C4-84BE-756E8DC3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9B75-0F86-40AD-9DBB-061A47A5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00C2-6D99-48E2-9FF7-CE2A613D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160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8284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036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160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8284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6A91-2226-4E35-92CB-211EFEF6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6C6-A3D1-420A-8DCF-04A1B0D7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8D9-F6D4-4913-B3E0-9592F9EE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677-8788-42D2-83A8-9DB96B8E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384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133-ECE4-42CB-B843-7D8A6ADE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3C3B-1838-47E1-A419-3DB886B3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986B-7232-4EF6-BF17-EDF56F73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A1C-3288-45F8-A6BF-0393B636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6BA99-4570-473B-B19E-CA245326697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71280" y="6743520"/>
            <a:ext cx="23461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99000" y="6743520"/>
            <a:ext cx="31939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720" y="6743520"/>
            <a:ext cx="234648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D19C0-B6CE-4AAC-817E-34ECE0A6B512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to Multilateral Comenius: ‘¿Qué le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umno: Eman Ba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upo: 1º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36720" y="216000"/>
            <a:ext cx="777564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15 velas mágicas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51520" y="4560840"/>
            <a:ext cx="42480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79640" y="1008000"/>
            <a:ext cx="835164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600" spc="-1" strike="noStrike">
                <a:solidFill>
                  <a:srgbClr val="00ffff"/>
                </a:solidFill>
                <a:latin typeface="Arial"/>
              </a:rPr>
              <a:t>Las velas mágicas, de la película “los 16 deseos” ya están a la venta. No os las perdáis compradlas ahora mismo para vuestros cumpleañ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016000" y="3408480"/>
            <a:ext cx="532764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68360" y="1079640"/>
            <a:ext cx="79916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600" spc="-1" strike="noStrike">
                <a:solidFill>
                  <a:srgbClr val="00ff00"/>
                </a:solidFill>
                <a:latin typeface="Arial"/>
              </a:rPr>
              <a:t>Hay de diferentes colores, por que se que no os justan tener lo mismo que todo el mu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295280" y="2952720"/>
            <a:ext cx="3191040" cy="244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707080" y="2808360"/>
            <a:ext cx="3149640" cy="2519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00360" y="5688000"/>
            <a:ext cx="59036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Rojas,</a:t>
            </a:r>
            <a:r>
              <a:rPr b="0" lang="es-ES" sz="2800" spc="-1" strike="noStrike">
                <a:solidFill>
                  <a:srgbClr val="00ff00"/>
                </a:solidFill>
                <a:latin typeface="Arial"/>
              </a:rPr>
              <a:t> verde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marilla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c1900"/>
                </a:solidFill>
                <a:latin typeface="Arial"/>
              </a:rPr>
              <a:t>marrones,</a:t>
            </a: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 rosa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6633"/>
                </a:solidFill>
                <a:latin typeface="Arial"/>
              </a:rPr>
              <a:t>naranja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2300dc"/>
                </a:solidFill>
                <a:latin typeface="Arial"/>
              </a:rPr>
              <a:t>etc.</a:t>
            </a:r>
            <a:r>
              <a:rPr b="0" lang="es-ES" sz="1800" spc="-1" strike="noStrike">
                <a:solidFill>
                  <a:srgbClr val="2300d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24000" y="1079640"/>
            <a:ext cx="82072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200" spc="-1" strike="noStrike">
                <a:solidFill>
                  <a:srgbClr val="ff3333"/>
                </a:solidFill>
                <a:latin typeface="Arial"/>
              </a:rPr>
              <a:t>También tenemos de diferentes tam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46280" y="2303640"/>
            <a:ext cx="3754440" cy="280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543640" y="4392720"/>
            <a:ext cx="3940200" cy="2663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75280" y="2592360"/>
            <a:ext cx="3024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dc2300"/>
                </a:solidFill>
                <a:latin typeface="Arial"/>
              </a:rPr>
              <a:t>Largas, cortas, medianas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55640" y="5543640"/>
            <a:ext cx="324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dc2300"/>
                </a:solidFill>
                <a:latin typeface="Arial"/>
              </a:rPr>
              <a:t>Pequeñas, gran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0000" y="1008000"/>
            <a:ext cx="76327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3deb3d"/>
                </a:solidFill>
                <a:latin typeface="Arial"/>
              </a:rPr>
              <a:t>Con más detalles, tenemos de diferentes form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380960" y="2448000"/>
            <a:ext cx="3802320" cy="245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999040" y="2664000"/>
            <a:ext cx="3002040" cy="4032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440000" y="5068800"/>
            <a:ext cx="345600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24000" y="936720"/>
            <a:ext cx="79200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ffff"/>
                </a:solidFill>
                <a:latin typeface="Arial"/>
              </a:rPr>
              <a:t>También tenemos para eventos especiales como bodas, bautizos, comunion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22280" y="2232000"/>
            <a:ext cx="2565360" cy="2494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336920" y="4851360"/>
            <a:ext cx="2719440" cy="2133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543640" y="1944720"/>
            <a:ext cx="331128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792000"/>
            <a:ext cx="80647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83caff"/>
                </a:solidFill>
                <a:latin typeface="Arial"/>
              </a:rPr>
              <a:t>Diferentes olores como: olor a rosas rojas, a fresas, azahar, a menta fresc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24000" y="2295360"/>
            <a:ext cx="3672000" cy="2961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472000" y="2409840"/>
            <a:ext cx="3672000" cy="2198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165640" y="5040360"/>
            <a:ext cx="37623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68360" y="1008000"/>
            <a:ext cx="79200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00dcff"/>
                </a:solidFill>
                <a:latin typeface="Arial"/>
              </a:rPr>
              <a:t>Os preguntares para que  sirven estas velas, de que si tamaños, de que si olores, o si for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00dcff"/>
                </a:solidFill>
                <a:latin typeface="Arial"/>
              </a:rPr>
              <a:t>Pues como lo dice el nombre sirve para cumplir vuestros deseos, 15 deseos. Y solo cuesta 10</a:t>
            </a:r>
            <a:r>
              <a:rPr b="0" i="1" lang="es-ES" sz="2800" spc="-1" strike="noStrike">
                <a:solidFill>
                  <a:srgbClr val="00dcff"/>
                </a:solidFill>
                <a:latin typeface="Arial"/>
                <a:ea typeface="Arial"/>
              </a:rPr>
              <a:t>€ pero no miréis el precio, mirar que con 10€ vuestros deseos se cump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00dcff"/>
                </a:solidFill>
                <a:latin typeface="Arial"/>
                <a:ea typeface="Arial"/>
              </a:rPr>
              <a:t>No pidáis deseos absurdos como tener la mejor ropa del instituto o ser mejor en todo, como en la película por que ya sabéis como termina, no desperdicies  vuestros dese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52360" y="1008000"/>
            <a:ext cx="835200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Podéis  tener mas información en nuestra pagina de  www.velasmágicas.c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No os perdáis estas oportunidad tan buena. Las velas estarán a la venta el 15 de agosto 2014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!ESPERAMOS VUESTRA VISITA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Aquí tenéis mas muest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24000" y="38163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103640" y="36957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799320" y="3714840"/>
            <a:ext cx="2705040" cy="16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7:33:37Z</dcterms:created>
  <dc:creator>villena1ade02 villena1ade02</dc:creator>
  <dc:description/>
  <dc:language>en-US</dc:language>
  <cp:lastModifiedBy>villena1ade02 villena1ade02</cp:lastModifiedBy>
  <dcterms:modified xsi:type="dcterms:W3CDTF">2014-06-09T08:06:44Z</dcterms:modified>
  <cp:revision>2</cp:revision>
  <dc:subject/>
  <dc:title/>
</cp:coreProperties>
</file>