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490-AB73-43B4-86BD-94D905CE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44C-1EA5-4F68-9C12-2D4C037F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F5A-991B-4AD7-8242-1CD1E782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9FE-D693-4FE3-BB52-459FD54F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EA66-0EA0-4D4E-8064-E1A8EAE7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EC67-793D-4D84-96BB-3DDEC4F4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D3D4-7F48-427B-8443-613C7519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62F1-EEF0-4624-BA4C-D6514279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B8B7-BABD-484F-8A75-65896EB7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5D72-F098-4D46-A1DD-F7A9563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BD99-3659-494F-A8A2-34F95E29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33F-5C45-4DBF-8C66-D937C5D4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D226-AA4A-45CF-9E58-5EEE73F2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BF45-BFDE-49B7-8392-1BF3F76D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A56A-F960-4C79-B478-BBEABEAF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0793-30DC-4BBB-A60E-A7E29BF9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D500-9EFA-4710-A8B1-9B66D3FA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EDF-92B3-4EF8-89F8-FAA94DA4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A1D-6A81-4C3A-B1D8-5DAC1A01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10A-A538-4754-8CFD-BBFAFCE8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C35-D539-462B-AD17-CF146C60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CCD-56F9-4604-8D74-B584F9A6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CF8-D293-47DD-B51E-10DE3E3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62E-B7BF-4317-8D8D-33646A73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EC066-C4D8-4B15-9307-74C70782125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61C29-BCA5-4705-A5B8-72688FD33FFC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Eman Ba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6720" y="216000"/>
            <a:ext cx="777564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15 velas mágica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51520" y="4560840"/>
            <a:ext cx="4248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79640" y="1008000"/>
            <a:ext cx="83516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ff"/>
                </a:solidFill>
                <a:latin typeface="Arial"/>
              </a:rPr>
              <a:t>Las velas mágicas, de la película “los 16 deseos” ya están a la venta. No os las perdáis compradlas ahora mismo para vuestros cumpleañ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16000" y="3408480"/>
            <a:ext cx="532764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68360" y="1079640"/>
            <a:ext cx="79916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00"/>
                </a:solidFill>
                <a:latin typeface="Arial"/>
              </a:rPr>
              <a:t>Hay de diferentes colores, por que se que no os justan tener lo mismo que todo el mu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95280" y="2952720"/>
            <a:ext cx="319104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07080" y="2808360"/>
            <a:ext cx="3149640" cy="251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00360" y="5688000"/>
            <a:ext cx="5903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Rojas,</a:t>
            </a:r>
            <a:r>
              <a:rPr b="0" lang="es-ES" sz="2800" spc="-1" strike="noStrike">
                <a:solidFill>
                  <a:srgbClr val="00ff00"/>
                </a:solidFill>
                <a:latin typeface="Arial"/>
              </a:rPr>
              <a:t> verde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marill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c1900"/>
                </a:solidFill>
                <a:latin typeface="Arial"/>
              </a:rPr>
              <a:t>marrones,</a:t>
            </a: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 ros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6633"/>
                </a:solidFill>
                <a:latin typeface="Arial"/>
              </a:rPr>
              <a:t>naranj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2300dc"/>
                </a:solidFill>
                <a:latin typeface="Arial"/>
              </a:rPr>
              <a:t>etc.</a:t>
            </a:r>
            <a:r>
              <a:rPr b="0" lang="es-ES" sz="1800" spc="-1" strike="noStrike">
                <a:solidFill>
                  <a:srgbClr val="2300d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24000" y="1079640"/>
            <a:ext cx="8207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ff3333"/>
                </a:solidFill>
                <a:latin typeface="Arial"/>
              </a:rPr>
              <a:t>También tenemos de diferentes tam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46280" y="2303640"/>
            <a:ext cx="3754440" cy="280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43640" y="4392720"/>
            <a:ext cx="394020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75280" y="2592360"/>
            <a:ext cx="3024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Largas, cortas, mediana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5640" y="5543640"/>
            <a:ext cx="324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Pequeñas, gran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0000" y="1008000"/>
            <a:ext cx="7632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3deb3d"/>
                </a:solidFill>
                <a:latin typeface="Arial"/>
              </a:rPr>
              <a:t>Con más detalles, tenemos de diferentes form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380960" y="2448000"/>
            <a:ext cx="3802320" cy="245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999040" y="2664000"/>
            <a:ext cx="3002040" cy="403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440000" y="5068800"/>
            <a:ext cx="34560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4000" y="936720"/>
            <a:ext cx="79200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ffff"/>
                </a:solidFill>
                <a:latin typeface="Arial"/>
              </a:rPr>
              <a:t>También tenemos para eventos especiales como bodas, bautizos, comunion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22280" y="2232000"/>
            <a:ext cx="2565360" cy="2494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336920" y="4851360"/>
            <a:ext cx="271944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43640" y="1944720"/>
            <a:ext cx="33112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792000"/>
            <a:ext cx="8064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3caff"/>
                </a:solidFill>
                <a:latin typeface="Arial"/>
              </a:rPr>
              <a:t>Diferentes olores como: olor a rosas rojas, a fresas, azahar, a menta fresc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24000" y="2295360"/>
            <a:ext cx="3672000" cy="296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72000" y="2409840"/>
            <a:ext cx="3672000" cy="219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165640" y="5040360"/>
            <a:ext cx="3762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68360" y="1008000"/>
            <a:ext cx="7920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Os preguntares para que  sirven estas velas, de que si tamaños, de que si olores, o si for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Pues como lo dice el nombre sirve para cumplir vuestros deseos, 15 deseos. Y solo cuesta 10</a:t>
            </a: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€ pero no miréis el precio, mirar que con 10€ vuestros deseos se cump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No pidáis deseos absurdos como tener la mejor ropa del instituto o ser mejor en todo, como en la película por que ya sabéis como termina, no desperdicies  vuestros dese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52360" y="1008000"/>
            <a:ext cx="83520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odéis  tener mas información en nuestra pagina de  www.velasmágicas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No os perdáis estas oportunidad tan buena. Las velas estarán a la venta el 15 de agosto 201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!ESPERAMOS VUESTRA VISIT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Aquí tenéis mas muest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24000" y="3816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103640" y="36957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799320" y="371484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3:37Z</dcterms:created>
  <dc:creator>villena1ade02 villena1ade02</dc:creator>
  <dc:description/>
  <dc:language>en-US</dc:language>
  <cp:lastModifiedBy>villena1ade02 villena1ade02</cp:lastModifiedBy>
  <dcterms:modified xsi:type="dcterms:W3CDTF">2014-06-09T08:06:44Z</dcterms:modified>
  <cp:revision>2</cp:revision>
  <dc:subject/>
  <dc:title/>
</cp:coreProperties>
</file>