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242-BAB2-4277-9410-F8280C82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C66-9AC8-4605-A1A2-E32D7939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2A5-0310-4CD0-8268-1D9A7ECF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BA7-93C8-421E-BCB9-EF47A7ED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04CA-8B42-42B8-BD5B-012A3D5F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58B1-D6FB-450E-817E-403F439A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7B8E-8AC2-4BB2-9B00-5B50157B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08F4-97D1-4E94-9687-56EAF60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FC0E-2D4C-44B8-904C-A75D245E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71FF-C807-4934-B9F3-309CB87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150D-DC29-4D93-9826-6432DB83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CA7-BEDE-4824-B72B-632A76A0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14CF-A5B8-426A-97AA-A144CF5A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E622-A10E-43DB-969E-0E5451FE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B23C-9461-4DD3-8860-A41E7297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03BB-58C2-4BD0-A23A-1F2307AF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AA5B-0D4A-45BB-BEB4-DCC7DB94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77F-C3E0-4912-9519-31BE54F2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DAA-625E-48ED-9ED4-E4FC65E7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6C5-E415-4C59-B66C-C981D766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68B-F359-48CF-A818-735C261B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154-BA96-4B26-AADE-3146B91E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42E-0F60-4B69-AB6B-3256D27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36E-0752-44E5-8AD4-5FEA312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297B0-FD16-4A97-9F6A-55C877C33CB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277FA-13E1-4D26-ABCB-2BC35E9021A9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Eman Ba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6720" y="216000"/>
            <a:ext cx="777564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15 velas mágica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51520" y="4560840"/>
            <a:ext cx="4248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79640" y="1008000"/>
            <a:ext cx="8351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ff"/>
                </a:solidFill>
                <a:latin typeface="Arial"/>
              </a:rPr>
              <a:t>Las velas mágicas, de la película “los 16 deseos” ya están a la venta. No os las perdáis compradlas ahora mismo para vuestros cumpleañ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16000" y="3408480"/>
            <a:ext cx="53276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68360" y="1079640"/>
            <a:ext cx="7991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00"/>
                </a:solidFill>
                <a:latin typeface="Arial"/>
              </a:rPr>
              <a:t>Hay de diferentes colores, por que se que no os justan tener lo mismo que todo el mu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95280" y="2952720"/>
            <a:ext cx="319104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07080" y="2808360"/>
            <a:ext cx="3149640" cy="251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00360" y="5688000"/>
            <a:ext cx="5903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Rojas,</a:t>
            </a:r>
            <a:r>
              <a:rPr b="0" lang="es-ES" sz="2800" spc="-1" strike="noStrike">
                <a:solidFill>
                  <a:srgbClr val="00ff00"/>
                </a:solidFill>
                <a:latin typeface="Arial"/>
              </a:rPr>
              <a:t> verde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marill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c1900"/>
                </a:solidFill>
                <a:latin typeface="Arial"/>
              </a:rPr>
              <a:t>marrones,</a:t>
            </a: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 ros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6633"/>
                </a:solidFill>
                <a:latin typeface="Arial"/>
              </a:rPr>
              <a:t>naranj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300dc"/>
                </a:solidFill>
                <a:latin typeface="Arial"/>
              </a:rPr>
              <a:t>etc.</a:t>
            </a:r>
            <a:r>
              <a:rPr b="0" lang="es-ES" sz="1800" spc="-1" strike="noStrike">
                <a:solidFill>
                  <a:srgbClr val="2300d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24000" y="1079640"/>
            <a:ext cx="8207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3333"/>
                </a:solidFill>
                <a:latin typeface="Arial"/>
              </a:rPr>
              <a:t>También tenemos de diferentes tam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46280" y="2303640"/>
            <a:ext cx="375444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43640" y="4392720"/>
            <a:ext cx="394020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75280" y="2592360"/>
            <a:ext cx="3024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Largas, cortas, mediana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5640" y="5543640"/>
            <a:ext cx="324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Pequeñas, gran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0000" y="1008000"/>
            <a:ext cx="7632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3deb3d"/>
                </a:solidFill>
                <a:latin typeface="Arial"/>
              </a:rPr>
              <a:t>Con más detalles, tenemos de diferentes form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380960" y="2448000"/>
            <a:ext cx="3802320" cy="245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999040" y="2664000"/>
            <a:ext cx="3002040" cy="40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440000" y="5068800"/>
            <a:ext cx="34560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4000" y="936720"/>
            <a:ext cx="79200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ffff"/>
                </a:solidFill>
                <a:latin typeface="Arial"/>
              </a:rPr>
              <a:t>También tenemos para eventos especiales como bodas, bautizos, comunion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22280" y="2232000"/>
            <a:ext cx="2565360" cy="2494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336920" y="4851360"/>
            <a:ext cx="271944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43640" y="1944720"/>
            <a:ext cx="3311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792000"/>
            <a:ext cx="8064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3caff"/>
                </a:solidFill>
                <a:latin typeface="Arial"/>
              </a:rPr>
              <a:t>Diferentes olores como: olor a rosas rojas, a fresas, azahar, a menta fresc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24000" y="2295360"/>
            <a:ext cx="3672000" cy="296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72000" y="2409840"/>
            <a:ext cx="3672000" cy="21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165640" y="5040360"/>
            <a:ext cx="3762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68360" y="1008000"/>
            <a:ext cx="7920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Os preguntares para que  sirven estas velas, de que si tamaños, de que si olores, o si for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Pues como lo dice el nombre sirve para cumplir vuestros deseos, 15 deseos. Y solo cuesta 10</a:t>
            </a: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€ pero no miréis el precio, mirar que con 10€ vuestros deseos se cump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No pidáis deseos absurdos como tener la mejor ropa del instituto o ser mejor en todo, como en la película por que ya sabéis como termina, no desperdicies  vuestros dese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2360" y="1008000"/>
            <a:ext cx="83520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odéis  tener mas información en nuestra pagina de  www.velasmágicas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No os perdáis estas oportunidad tan buena. Las velas estarán a la venta el 15 de agosto 201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!ESPERAMOS VUESTRA VISIT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Aquí tenéis mas muest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24000" y="3816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03640" y="36957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799320" y="371484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3:37Z</dcterms:created>
  <dc:creator>villena1ade02 villena1ade02</dc:creator>
  <dc:description/>
  <dc:language>en-US</dc:language>
  <cp:lastModifiedBy>villena1ade02 villena1ade02</cp:lastModifiedBy>
  <dcterms:modified xsi:type="dcterms:W3CDTF">2014-06-09T08:06:44Z</dcterms:modified>
  <cp:revision>2</cp:revision>
  <dc:subject/>
  <dc:title/>
</cp:coreProperties>
</file>