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DB4-B5FD-4C5E-ACEC-CF69D8E5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FCD-EA6D-4221-86C0-37E87C26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048-EC27-4165-96A3-DCD5CA80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00F-1BCB-49A1-A61C-D057EF2F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D55E-0C6B-4BF5-9C76-F74F0C0F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040-F4D3-472B-A705-C80AD14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137A-91CC-47D8-AD6C-C72E483F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234D-60FF-4677-AD86-C5F98FB6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491-0ED1-4B29-BFE8-453F6A5A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B25-7970-4C4B-98CA-01D54B39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5784-FA80-4ACC-86E3-56CD8F1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D2D-3AA9-4CFF-876B-93D10C9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66AF-B217-4066-B44D-6438BDC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F532-F948-403C-8551-FBEA72F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4593-1B38-45D6-A014-7A9AE4A8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66C-ECE8-44D9-B533-825D228C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8D21-8FFC-4A35-AFFC-BA739A81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F55-D41D-4CD6-82C9-3328764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2CE-6974-4AAE-B28F-900C939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567-A286-4FE1-AC6A-868E30FC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300-2E86-4E78-ACDC-8BF38FC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1FC-F337-4437-B1BB-EC04AD5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A20-84C6-4056-B11D-EBCAF5E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049-3779-48D0-87A5-1CE485D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5E7AB-4750-46F3-BD78-4DD9B2B7511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C4A34-54F8-4538-A925-CF84B7AC9FB8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Eman Ba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6720" y="216000"/>
            <a:ext cx="77756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5 velas mágica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51520" y="4560840"/>
            <a:ext cx="42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1008000"/>
            <a:ext cx="83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ff"/>
                </a:solidFill>
                <a:latin typeface="Arial"/>
              </a:rPr>
              <a:t>Las velas mágicas, de la película “los 16 deseos” ya están a la venta. No os las perdáis compradlas ahora mismo para vuestros cumple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16000" y="3408480"/>
            <a:ext cx="53276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68360" y="1079640"/>
            <a:ext cx="79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00"/>
                </a:solidFill>
                <a:latin typeface="Arial"/>
              </a:rPr>
              <a:t>Hay de diferentes colores, por que se que no os justan tener lo mismo que todo el mu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295272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07080" y="2808360"/>
            <a:ext cx="3149640" cy="251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5688000"/>
            <a:ext cx="5903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ojas,</a:t>
            </a: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 verde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marill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c1900"/>
                </a:solidFill>
                <a:latin typeface="Arial"/>
              </a:rPr>
              <a:t>marrones,</a:t>
            </a: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 ros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6633"/>
                </a:solidFill>
                <a:latin typeface="Arial"/>
              </a:rPr>
              <a:t>naranj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300dc"/>
                </a:solidFill>
                <a:latin typeface="Arial"/>
              </a:rPr>
              <a:t>etc.</a:t>
            </a:r>
            <a:r>
              <a:rPr b="0" lang="es-ES" sz="1800" spc="-1" strike="noStrike">
                <a:solidFill>
                  <a:srgbClr val="2300d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24000" y="1079640"/>
            <a:ext cx="8207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3333"/>
                </a:solidFill>
                <a:latin typeface="Arial"/>
              </a:rPr>
              <a:t>También tenemos de diferentes tam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46280" y="2303640"/>
            <a:ext cx="375444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43640" y="4392720"/>
            <a:ext cx="394020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75280" y="2592360"/>
            <a:ext cx="302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Largas, cortas, mediana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5543640"/>
            <a:ext cx="324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Pequeñas, gran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0000" y="1008000"/>
            <a:ext cx="7632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3deb3d"/>
                </a:solidFill>
                <a:latin typeface="Arial"/>
              </a:rPr>
              <a:t>Con más detalles, tenemos de diferentes for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80960" y="2448000"/>
            <a:ext cx="3802320" cy="24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999040" y="2664000"/>
            <a:ext cx="3002040" cy="40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40000" y="5068800"/>
            <a:ext cx="3456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4000" y="936720"/>
            <a:ext cx="7920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ffff"/>
                </a:solidFill>
                <a:latin typeface="Arial"/>
              </a:rPr>
              <a:t>También tenemos para eventos especiales como bodas, bautizos, comunion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22280" y="2232000"/>
            <a:ext cx="2565360" cy="2494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336920" y="4851360"/>
            <a:ext cx="271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43640" y="1944720"/>
            <a:ext cx="3311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792000"/>
            <a:ext cx="8064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Diferentes olores como: olor a rosas rojas, a fresas, azahar, a menta fresc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24000" y="2295360"/>
            <a:ext cx="3672000" cy="296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72000" y="2409840"/>
            <a:ext cx="3672000" cy="21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65640" y="5040360"/>
            <a:ext cx="3762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68360" y="1008000"/>
            <a:ext cx="7920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Os preguntares para que  sirven estas velas, de que si tamaños, de que si olores, o si for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Pues como lo dice el nombre sirve para cumplir vuestros deseos, 15 deseos. Y solo cuesta 10</a:t>
            </a: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€ pero no miréis el precio, mirar que con 10€ vuestros deseos se cump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No pidáis deseos absurdos como tener la mejor ropa del instituto o ser mejor en todo, como en la película por que ya sabéis como termina, no desperdicies  vuestros des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2360" y="1008000"/>
            <a:ext cx="83520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odéis  tener mas información en nuestra pagina de  www.velasmágicas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No os perdáis estas oportunidad tan buena. Las velas estarán a la venta el 15 de agosto 201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!ESPERAMOS VUESTRA VISIT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Aquí tenéis mas muest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24000" y="3816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03640" y="36957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99320" y="37148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3:37Z</dcterms:created>
  <dc:creator>villena1ade02 villena1ade02</dc:creator>
  <dc:description/>
  <dc:language>en-US</dc:language>
  <cp:lastModifiedBy>villena1ade02 villena1ade02</cp:lastModifiedBy>
  <dcterms:modified xsi:type="dcterms:W3CDTF">2014-06-09T08:06:44Z</dcterms:modified>
  <cp:revision>2</cp:revision>
  <dc:subject/>
  <dc:title/>
</cp:coreProperties>
</file>