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23EF-78F4-4709-9F04-6550FFEE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982-660E-4438-B1DD-BE6BD411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EDE-280C-4444-B457-303288E1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60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8284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36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60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8284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3C87-E719-4939-9090-1DEF9FF6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BA4F-62A1-4689-812D-AA11FABD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5F19-8C9F-4EB9-9928-C0040EB5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148D-FBF2-4038-BED2-D597A2F8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D5A3-CF06-461A-81A5-200F5B7A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C045-573A-4A0C-A85C-F0B1155C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384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278E-EA90-4B1B-8E25-B1FBFFF7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DF50-EBE0-4A82-8295-D242F747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F848-8935-4039-B72A-7EEB38C7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2905-3EFF-4EA5-9FCA-77C2B609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FE2B-1476-4A57-B1EF-65C74D12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99AD-8593-42CF-8372-B952C55A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36A0-98D6-4990-967C-E3732AB2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160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82840" y="21286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6036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160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82840" y="4418280"/>
            <a:ext cx="2676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51CD-52B7-4C0D-947B-35BABE62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817-D629-49E1-91F3-4D3AF730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58DF-61F9-42AE-B836-7C581329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1C9-9805-45C0-A2D0-97575BC0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384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2B5-0705-4809-9F81-71CC7FFE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0CCA-F9C9-4942-93B2-70FA2B45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600" y="44182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22C0-C26C-4880-A59C-76D7C691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360" y="4418280"/>
            <a:ext cx="831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E1C-B583-451B-BCFE-ABF5C668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8BBB8-4DBA-4DAF-950C-193B43802E6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60360" y="2128680"/>
            <a:ext cx="831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71280" y="6743520"/>
            <a:ext cx="23461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99000" y="6743520"/>
            <a:ext cx="31939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720" y="6743520"/>
            <a:ext cx="234648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7CC01-F971-4122-977A-C23BA6E743F5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to Multilateral Comenius: ‘¿Qué le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umno: Eman Ba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rupo: 1º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36720" y="216000"/>
            <a:ext cx="777564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15 velas mágicas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51520" y="4560840"/>
            <a:ext cx="424800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79640" y="1008000"/>
            <a:ext cx="835164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3600" spc="-1" strike="noStrike">
                <a:solidFill>
                  <a:srgbClr val="00ffff"/>
                </a:solidFill>
                <a:latin typeface="Arial"/>
              </a:rPr>
              <a:t>Las velas mágicas, de la película “los 16 deseos” ya están a la venta. No os las perdáis compradlas ahora mismo para vuestros cumpleañ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016000" y="3408480"/>
            <a:ext cx="532764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68360" y="1079640"/>
            <a:ext cx="79916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3600" spc="-1" strike="noStrike">
                <a:solidFill>
                  <a:srgbClr val="00ff00"/>
                </a:solidFill>
                <a:latin typeface="Arial"/>
              </a:rPr>
              <a:t>Hay de diferentes colores, por que se que no os justan tener lo mismo que todo el mu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295280" y="2952720"/>
            <a:ext cx="3191040" cy="244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707080" y="2808360"/>
            <a:ext cx="3149640" cy="2519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00360" y="5688000"/>
            <a:ext cx="59036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Rojas,</a:t>
            </a:r>
            <a:r>
              <a:rPr b="0" lang="es-ES" sz="2800" spc="-1" strike="noStrike">
                <a:solidFill>
                  <a:srgbClr val="00ff00"/>
                </a:solidFill>
                <a:latin typeface="Arial"/>
              </a:rPr>
              <a:t> verde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marilla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c1900"/>
                </a:solidFill>
                <a:latin typeface="Arial"/>
              </a:rPr>
              <a:t>marrones,</a:t>
            </a: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 rosa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6633"/>
                </a:solidFill>
                <a:latin typeface="Arial"/>
              </a:rPr>
              <a:t>naranjas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2300dc"/>
                </a:solidFill>
                <a:latin typeface="Arial"/>
              </a:rPr>
              <a:t>etc.</a:t>
            </a:r>
            <a:r>
              <a:rPr b="0" lang="es-ES" sz="1800" spc="-1" strike="noStrike">
                <a:solidFill>
                  <a:srgbClr val="2300d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24000" y="1079640"/>
            <a:ext cx="82072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3200" spc="-1" strike="noStrike">
                <a:solidFill>
                  <a:srgbClr val="ff3333"/>
                </a:solidFill>
                <a:latin typeface="Arial"/>
              </a:rPr>
              <a:t>También tenemos de diferentes tam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46280" y="2303640"/>
            <a:ext cx="3754440" cy="280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543640" y="4392720"/>
            <a:ext cx="3940200" cy="2663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75280" y="2592360"/>
            <a:ext cx="3024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dc2300"/>
                </a:solidFill>
                <a:latin typeface="Arial"/>
              </a:rPr>
              <a:t>Largas, cortas, medianas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55640" y="5543640"/>
            <a:ext cx="324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dc2300"/>
                </a:solidFill>
                <a:latin typeface="Arial"/>
              </a:rPr>
              <a:t>Pequeñas, gran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0000" y="1008000"/>
            <a:ext cx="76327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60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3deb3d"/>
                </a:solidFill>
                <a:latin typeface="Arial"/>
              </a:rPr>
              <a:t>Con más detalles, tenemos de diferentes form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380960" y="2448000"/>
            <a:ext cx="3802320" cy="245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999040" y="2664000"/>
            <a:ext cx="3002040" cy="4032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440000" y="5068800"/>
            <a:ext cx="345600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24000" y="936720"/>
            <a:ext cx="79200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ffff"/>
                </a:solidFill>
                <a:latin typeface="Arial"/>
              </a:rPr>
              <a:t>También tenemos para eventos especiales como bodas, bautizos, comunione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22280" y="2232000"/>
            <a:ext cx="2565360" cy="2494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336920" y="4851360"/>
            <a:ext cx="2719440" cy="2133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543640" y="1944720"/>
            <a:ext cx="331128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792000"/>
            <a:ext cx="80647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83caff"/>
                </a:solidFill>
                <a:latin typeface="Arial"/>
              </a:rPr>
              <a:t>Diferentes olores como: olor a rosas rojas, a fresas, azahar, a menta fresc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24000" y="2295360"/>
            <a:ext cx="3672000" cy="2961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472000" y="2409840"/>
            <a:ext cx="3672000" cy="2198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165640" y="5040360"/>
            <a:ext cx="37623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68360" y="1008000"/>
            <a:ext cx="79200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00dcff"/>
                </a:solidFill>
                <a:latin typeface="Arial"/>
              </a:rPr>
              <a:t>Os preguntares para que  sirven estas velas, de que si tamaños, de que si olores, o si for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00dcff"/>
                </a:solidFill>
                <a:latin typeface="Arial"/>
              </a:rPr>
              <a:t>Pues como lo dice el nombre sirve para cumplir vuestros deseos, 15 deseos. Y solo cuesta 10</a:t>
            </a:r>
            <a:r>
              <a:rPr b="0" i="1" lang="es-ES" sz="2800" spc="-1" strike="noStrike">
                <a:solidFill>
                  <a:srgbClr val="00dcff"/>
                </a:solidFill>
                <a:latin typeface="Arial"/>
                <a:ea typeface="Arial"/>
              </a:rPr>
              <a:t>€ pero no miréis el precio, mirar que con 10€ vuestros deseos se cump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00dcff"/>
                </a:solidFill>
                <a:latin typeface="Arial"/>
                <a:ea typeface="Arial"/>
              </a:rPr>
              <a:t>No pidáis deseos absurdos como tener la mejor ropa del instituto o ser mejor en todo, como en la película por que ya sabéis como termina, no desperdicies  vuestros dese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52360" y="1008000"/>
            <a:ext cx="835200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Podéis  tener mas información en nuestra pagina de  www.velasmágicas.c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No os perdáis estas oportunidad tan buena. Las velas estarán a la venta el 15 de agosto 2014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!ESPERAMOS VUESTRA VISITA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Aquí tenéis mas muest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24000" y="38163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103640" y="36957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799320" y="3714840"/>
            <a:ext cx="2705040" cy="16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7:33:37Z</dcterms:created>
  <dc:creator>villena1ade02 villena1ade02</dc:creator>
  <dc:description/>
  <dc:language>en-US</dc:language>
  <cp:lastModifiedBy>villena1ade02 villena1ade02</cp:lastModifiedBy>
  <dcterms:modified xsi:type="dcterms:W3CDTF">2014-06-09T08:06:44Z</dcterms:modified>
  <cp:revision>2</cp:revision>
  <dc:subject/>
  <dc:title/>
</cp:coreProperties>
</file>