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E7B7D-BDD8-4C22-9627-082EC1CB23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B8CC5-63FB-47D6-8F69-A7DE55B0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EC5F3-5ABC-4F3A-87F8-70F30742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7A44B-E3CB-4551-9125-51E5F3512D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1A6F1-6014-437F-8C7E-42260922C3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15788-D164-4427-9660-FB1BB0EF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F420C-4237-402D-8C80-1302976B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BFF0D-C455-4659-9243-89DE968D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73C08-023B-4555-B1CA-8200EA4D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ACFCD-4F26-4DA9-9525-A29ECBCF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6FA91-8FBD-4C25-B1F6-EE9623E6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39502-5211-451E-AED5-C6726EEC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2FE52-8928-4278-AC03-F9DA73DF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64EB2-E51A-4944-987D-98916631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EB52D-BEF4-4BAD-94F7-7374901C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B719B-C44B-4654-AEA8-2DD5CF38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B3007-4A9E-4674-AA90-760EBDB2EB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D4237-2494-44FB-82B6-C2701045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EC967-2D7A-48E7-B03B-D4808715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5996D-108C-462A-B2B4-7FB262DC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46293-4B3F-4E4D-BD4B-B0540578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71468-A393-4535-8D83-77369415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E3DC8-4B6F-4178-B8A3-A576794B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E3C60-7CAD-40C9-9BBB-03F5D8C4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ky-CN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ky-CN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14/03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ky-CN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A03BF4BC-49D5-4D80-8D9F-B2EA1FD79580}" type="slidenum">
              <a:rPr b="0" lang="ky-CN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0000"/>
          </a:bodyPr>
          <a:p>
            <a:pPr marL="30852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ky-CN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ky-CN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14/03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ky-CN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2A90A1A0-0AC1-4ECB-AADC-9954586F21C1}" type="slidenum">
              <a:rPr b="0" lang="ky-CN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6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b050"/>
                </a:solidFill>
                <a:latin typeface="Calibri"/>
              </a:rPr>
              <a:t>EMMY NOETHER (1882-1935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y-CN" sz="3200" spc="-1" strike="noStrike">
                <a:solidFill>
                  <a:srgbClr val="ff0000"/>
                </a:solidFill>
                <a:latin typeface="Calibri"/>
              </a:rPr>
              <a:t>CONSUELO NGUEMA  2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87640" y="2565360"/>
            <a:ext cx="2735280" cy="1655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765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Nació en Alemania, era hija de judíos. Su padre le transmitió el amor a las matemáticas, era profesor, investigador de la geometría algebra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4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X+2=343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36720" y="3365640"/>
            <a:ext cx="1857240" cy="2466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832360" y="4248000"/>
            <a:ext cx="25336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5280" y="836640"/>
            <a:ext cx="829152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Se encontró con bastantes problemas para acceder a la universidad, ya que todas las mujeres de esta época estaban vetadas al campo universitario y de investig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71640" y="3390840"/>
            <a:ext cx="4248000" cy="27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Bajo la supervisión de Paúl Gordon escribió un libro sobre  la teoría de los invariantes y obtuvo el grado de Doctor Cum Lauden con la tesis "sobre los sistemas completos de invariantes para las formas bicuadradas terciarias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148360" y="3932280"/>
            <a:ext cx="2663640" cy="2084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63640" y="3932280"/>
            <a:ext cx="2702160" cy="21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Trabajó en el Instituto Matemático de Erlange ayudando a su pad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488360" cy="33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765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Más tarde se trasladó a Göttingen, el principal centro matemático de Europa. Allí trabajó con Hilbert y Klein y desarrollo un intenso trabajo que fue determinante para su investig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00000" y="3141720"/>
            <a:ext cx="3672000" cy="2592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88000" y="3068640"/>
            <a:ext cx="374328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64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4101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