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D88F-E886-4FD9-B28F-96CF8D4A7B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7E26-37ED-4D1D-8683-FD6EF34C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5948-28BB-4DBB-AC09-2EEDA4E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2351-DEBE-4608-B020-50750F5725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5ABD5-8281-4A03-9E3B-9659B41178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6084E-116F-46EB-BB9A-0A444E3C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ACC99-9265-4FA3-B10E-01B20B6B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F6E06-42E2-4DA5-A849-38E5E91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B7406-9D0E-42D4-A9B1-B5FA51E0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83631-8F1F-4F57-8392-71BAE170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26BB6-9CD0-47CA-9723-B41B15F5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6B33-3FC5-4DDD-AFD5-C74D3EA5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7F461-3F3C-49DD-B734-7B7C1E2F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948A2-AC2E-46B2-B539-1022BF09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424C2-BF0B-422A-832A-905790DB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23003-FD7E-4214-ABF6-9646666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FE84B-C5AD-4045-B383-38D730447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2542-E950-455F-825C-E990BB7B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2904-A880-4954-A0EE-B37E3997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62A7-7201-441C-A1BF-0363AA17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3139-B8FA-4D86-826C-AE8CD9E0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8EAA-B161-43E6-A1B9-59860952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DE13-2D8C-49E5-B6EF-B72A47B4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89CC-27DC-4108-88DD-716AE197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0D885015-AB2E-4956-80B6-66BB8CDF194E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D682A3C-A23B-4867-B398-ED91ACB3F4A6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alibri"/>
              </a:rPr>
              <a:t>EMMY NOETHER (1882-193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y-CN" sz="3200" spc="-1" strike="noStrike">
                <a:solidFill>
                  <a:srgbClr val="ff0000"/>
                </a:solidFill>
                <a:latin typeface="Calibri"/>
              </a:rPr>
              <a:t>CONSUELO NGUEMA 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7640" y="2565360"/>
            <a:ext cx="2735280" cy="165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Nació en Alemania, era hija de judíos. Su padre le transmitió el amor a las matemáticas, era profesor, investigador de la geometría algebra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X+2=343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36720" y="3365640"/>
            <a:ext cx="1857240" cy="246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32360" y="42480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836640"/>
            <a:ext cx="82915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Se encontró con bastantes problemas para acceder a la universidad, ya que todas las mujeres de esta época estaban vetadas al campo universitario y de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71640" y="3390840"/>
            <a:ext cx="424800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Bajo la supervisión de Paúl Gordon escribió un libro sobre  la teoría de los invariantes y obtuvo el grado de Doctor Cum Lauden con la tesis "sobre los sistemas completos de invariantes para las formas bicuadradas terciaria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3932280"/>
            <a:ext cx="2663640" cy="208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3932280"/>
            <a:ext cx="27021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Trabajó en el Instituto Matemático de Erlange ayudando a su p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883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Más tarde se trasladó a Göttingen, el principal centro matemático de Europa. Allí trabajó con Hilbert y Klein y desarrollo un intenso trabajo que fue determinante para su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743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101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