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84508-041E-4BDC-B8F9-08DE75753F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28AA7-A3B8-427C-9DA3-7F85E4AC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A1832-6778-4220-85BF-2C811326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C6442-386F-4790-B1CA-1BBB464578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5A6CD-F36E-4E5F-A735-DEADAEF07A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21533-DC4F-46D5-9B26-4C779D86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21D8F-283C-4764-96E3-8E4C78EF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22BF1-63DD-4480-BD10-7A2607B8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C3E44-B9CF-442F-921E-ED2F5814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A7E85-E434-42DC-9B82-4E3FBF03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DDCEE-C3E5-4F83-B09F-2826327F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50DC-C4DB-4685-B831-3F968AFD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24558-51BB-4223-923D-27C56484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83BB5-B90E-4425-B457-E264C12E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1E860-E242-4CC5-84D2-47F3DA52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E0177-4BAB-4AB4-A18E-EBDDDF44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2D18A-B00A-42B8-9209-CEA054560D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EE363-98B6-4B27-BE7F-5551136A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9C38F-2649-4B56-B387-4C9A6DB1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998AD-6D94-4025-A371-541C3C98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02553-D724-490F-A975-D2922081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F9643-DEE4-49F4-892F-4EC6A289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749D6-2C2F-4815-B968-183615BD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68858-2372-4617-9AFD-4D7A3125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14/03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1FC82E09-E93C-4AB2-B67F-CDA5058F39B8}" type="slidenum"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0000"/>
          </a:bodyPr>
          <a:p>
            <a:pPr marL="30852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14/03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8169D44F-C5F8-492D-A19C-261AC761F9C5}" type="slidenum"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b050"/>
                </a:solidFill>
                <a:latin typeface="Calibri"/>
              </a:rPr>
              <a:t>EMMY NOETHER (1882-1935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y-CN" sz="3200" spc="-1" strike="noStrike">
                <a:solidFill>
                  <a:srgbClr val="ff0000"/>
                </a:solidFill>
                <a:latin typeface="Calibri"/>
              </a:rPr>
              <a:t>CONSUELO NGUEMA  2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87640" y="2565360"/>
            <a:ext cx="2735280" cy="1655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765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Nació en Alemania, era hija de judíos. Su padre le transmitió el amor a las matemáticas, era profesor, investigador de la geometría algebra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X+2=343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36720" y="3365640"/>
            <a:ext cx="1857240" cy="2466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832360" y="4248000"/>
            <a:ext cx="25336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836640"/>
            <a:ext cx="829152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Se encontró con bastantes problemas para acceder a la universidad, ya que todas las mujeres de esta época estaban vetadas al campo universitario y de investig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71640" y="3390840"/>
            <a:ext cx="4248000" cy="27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Bajo la supervisión de Paúl Gordon escribió un libro sobre  la teoría de los invariantes y obtuvo el grado de Doctor Cum Lauden con la tesis "sobre los sistemas completos de invariantes para las formas bicuadradas terciarias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48360" y="3932280"/>
            <a:ext cx="2663640" cy="2084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63640" y="3932280"/>
            <a:ext cx="2702160" cy="21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Trabajó en el Instituto Matemático de Erlange ayudando a su pad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48836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765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Más tarde se trasladó a Göttingen, el principal centro matemático de Europa. Allí trabajó con Hilbert y Klein y desarrollo un intenso trabajo que fue determinante para su investig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3672000" cy="2592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74328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6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4101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