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12D5-6B77-4778-B14D-F8487B8E31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FF8B-3EFC-424A-B389-BBF50A6E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2735-60D5-4AE6-B35F-C3F3EA96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36C0-ECE1-43C9-BE52-61EE2F6A99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8EF2C-2144-4A1A-BAF7-5A307222B9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6075E-98B4-4112-AC64-BA338BB6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3EBB4-4500-4CBC-8D20-A22EAAD2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F2AAF-F248-43E2-9F07-1A7600C2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1955A-4E1A-4725-90F2-74F971DD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C1A59-2716-470D-A036-C6280653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80039-041B-42DB-B05E-8ADDDFBF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5FC2-0005-4FEE-A89B-DF369BA5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6686B-7F07-443D-A215-4173CB7B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83472-72BD-4282-88AC-AF453A63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29E4C-D3EA-463D-9D20-F102D5E6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90A96-C20A-43B7-88DF-9CBC0A33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49D9E-DFC4-4006-AA6A-921740D70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54C4-501B-4298-8732-FE90D7B9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05EC-CBF5-4D70-AC52-E90C3AC0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00D0D-C4F4-4776-954D-C8BFD3E4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0729-1972-4E34-9CCF-4A1C7042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6E94-236E-4214-9126-99680FA9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C4A1-F0E4-4236-B84A-8D38224E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7D25-7A77-4BEB-8F25-023CEB1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CF6AA9A1-6660-4542-B8DD-2CC8D35B1A45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14/0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ky-CN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4BEA2903-E6C9-4397-91E4-3A5937213F2A}" type="slidenum">
              <a:rPr b="0" lang="ky-CN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b050"/>
                </a:solidFill>
                <a:latin typeface="Calibri"/>
              </a:rPr>
              <a:t>EMMY NOETHER (1882-193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y-CN" sz="3200" spc="-1" strike="noStrike">
                <a:solidFill>
                  <a:srgbClr val="ff0000"/>
                </a:solidFill>
                <a:latin typeface="Calibri"/>
              </a:rPr>
              <a:t>CONSUELO NGUEMA 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7640" y="2565360"/>
            <a:ext cx="2735280" cy="165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Nació en Alemania, era hija de judíos. Su padre le transmitió el amor a las matemáticas, era profesor, investigador de la geometría algebra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X+2=343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36720" y="3365640"/>
            <a:ext cx="1857240" cy="2466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832360" y="424800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836640"/>
            <a:ext cx="82915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Se encontró con bastantes problemas para acceder a la universidad, ya que todas las mujeres de esta época estaban vetadas al campo universitario y de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71640" y="3390840"/>
            <a:ext cx="424800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Bajo la supervisión de Paúl Gordon escribió un libro sobre  la teoría de los invariantes y obtuvo el grado de Doctor Cum Lauden con la tesis "sobre los sistemas completos de invariantes para las formas bicuadradas terciaria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360" y="3932280"/>
            <a:ext cx="2663640" cy="208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63640" y="3932280"/>
            <a:ext cx="270216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Trabajó en el Instituto Matemático de Erlange ayudando a su p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4883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b050"/>
                </a:solidFill>
                <a:latin typeface="Calibri"/>
              </a:rPr>
              <a:t>Más tarde se trasladó a Göttingen, el principal centro matemático de Europa. Allí trabajó con Hilbert y Klein y desarrollo un intenso trabajo que fue determinante para su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7432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6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101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