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4CA-3BC7-4E93-BD55-D6556CB0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ADD-D32F-4706-812C-6A7EEA5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9AE-78DA-4A14-8C7F-19DF2123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C49-FCAB-4FE7-9C33-21EC5131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043-6576-4EF2-A24A-4C9CF732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7EB-EB69-42EC-92A8-07C838F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745-03AF-4A6A-8393-16D53D5C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8E0-0E6E-47A2-BB79-C1AA2A27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935-8F6A-413B-B74F-A7A7F2B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72A-02FF-403D-9D6C-1C0CC73D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609-9897-4DC3-92F0-E0E5678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616-2613-4768-920E-9CE78B2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CF3-E39D-40C3-99BC-99274A888C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5538960"/>
            <a:ext cx="799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ni Davia Blan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rián Forés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º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8576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ecántropo: hombre d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mbre de Java fue el primer fósil de homínido en haberse encontrado en el mundo. De este descubrimiento se fortaleció la teoría de que Homo sapiens había aparecido en Á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cubridor, Eugène Dubois, nombró a su especimen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ithecanthropus erect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e intentó convencer al mundo científico que se trataba de una especie intermedia, pero desgraciadamente esto resultó ser más difícil que la búsqueda del fó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se sabe que el Hombre de Java es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mo erectus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que tiene una antiguedad de 0.8 a 1.2 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ántropo: hombre de Pe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 de Pekin es el nombre por el que se conoce a la subespecie Homo Erectus pekinensis o Sinanthropus pekinensis, debido a que sus restos fósiles se descubrieron al norte de Pekin, en China, concretamente en una cueva de la localidad de Zhoukou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tos fueron encontrados entre 1921 y 1937 y datan de hace entre 250.000 y 500.000 años. Es especialmente popular porque en el momento de su descubrimiento fue considerado el primer eslabón perdido que justificaba la teoría de la evolu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descubrimiento del Hombre de Pekín intervinieron dos factores: la fábula y el azar. Los habitantes de la zona vendían a los extranjeros toda suerte de dientes, pretendiendo que eran dientes de dragón - esta es la fábula - y el azar se presentó cuando uno de estos dientes fue a dar a manos de un científico sueco, Gunnar Anderson, quien, al estudiarlo, lo reconoció como perteneciente a un mamífero extinguido, se pesquisó el origen de ese diente y se estableció que provenía de una cueva de Pekín. Las investigaciones comenzaron en 1921, un habitante de la zona llevó a los arqueólogos hasta lo que hoy en día se conoce como la Colina del Hueso del Dragón, un lugar lleno de huesos fosiliz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5229360"/>
            <a:ext cx="16560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olución de Homo ere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descubrimien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s científicos se preguntan si esta especie era un antepasado direc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bido a que las investigaciones hechas no eran suficientes para demostrarlo. Las últimas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—tales como las del río Solo en Java— pueden haber vivido hace solamente 50 000 años, simultáneamente con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se descarta que a partir de estas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últ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haya evolucionad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pecie que posiblemente descienda tardí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el pequeñ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 aunque por el estudio de los huesos de la muñeca, los brazos y el hombro se considera más probable que descienda direct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georgic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aparición de 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allazgos parecen demostrar que la presencia del Homo erectus en la región terminó antes de que los humanos modernos llegaran a allí. Los análisis sugieren que el Homo erectus se extinguió hace por lo menos 143.000 años, y probablemente hace más de 550.000 años. Esto significa que la desaparición del Homo erectus ocurrió mucho antes de la llegada del Homo sapi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Homo erectus forma parte de nuestra historia de evolución y es quien descubre el fuego, un elemento esencial para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n encontrado yacimientos importantes en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dos grupos de fósiles: Pitecántropos, hombre de Java, y Sinántropos, hombre de Pek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s.wikipedia.org/wiki/Homo_ere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e texto: Ciencias de la naturaleza Biología y Geología 4ESO Santill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.educarex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monografia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portalplanetasedna.com.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homoerectusveritas.blogspot.com.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icame-evoluc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ciencia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bre-de-pkin.blogspot.co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acterísticas morfológicas de los Homo erectus: Rasgos físicos caracterí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yacimientos más importantes d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os grupos de fósiles asiáticos de Homo erectus: Pitecántropos y Sinántro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Homo ere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parición de Homo ere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o erectus son unos homínidos extintos que se estima que vivieron hace cerca  de 40 00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muchos investigadores es una subespecie de Homo ergaster que salió tempranamente de África y se expandió por gran parte de Eurasia, hasta la isla d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 erectus significa literalmente "hombre de pie, erguido, derech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c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díbula sin mentón prom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isivos espadiformes y más pl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lares grandes y con esmalte gru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dia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amen magnun ubicado más hacia el centr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stro menos prognato que los australopit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ente baja y huid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de supraorbitario sa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37672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 de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omnívoros y no sólo cazaban y comían animales sino que descubrieron el fuego lo que permitió cocinar la carne, ya no eran necesarios grandes dientes y mandíbulas prominentes, por lo que se achicaron permitiendo la formación de la glotis, con ello comenzaron a emitir los primeros sonidos guturales y a hablar en forma rudimen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07160" cy="666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26436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5616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ura y capacidad cran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omo erectus medía entre 1,30 y 1,70 m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volumen craneal era de 750 y 1250 cc, un aumento de alrededor del 50% de su antecesor el Homo Hábi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imientos de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 1891 y 1892 el médico anatomista holandés Eugène Dubois encontró distintos yacimientos de Homo erectus en Trinil y Sangiran, Java (Indonesia) de 1 m.a. – 500.000 años de antigü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bois encontró en Trinil restos fósiles de la bóveda craneal y el fémur de estos homí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angiran encontró restos cran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 China se encontraron otros yacimientos importantes de fósiles de esta especie como, por ejemplo, Lantian, Yuanmou, Yunxian y Hexian. Los investigadores también han encontrado gran número de utensilios fabricados por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en yacimientos como Nihewan y Bose, en China, y en otros lugares de antigüedad similar (al menos entre 1 millón y 250 000 años de antigüe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37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9:02:45Z</dcterms:created>
  <dc:creator>Adri</dc:creator>
  <dc:description/>
  <dc:language>en-US</dc:language>
  <cp:lastModifiedBy>Adela Gascón Leal</cp:lastModifiedBy>
  <dcterms:modified xsi:type="dcterms:W3CDTF">2014-06-09T21:48:25Z</dcterms:modified>
  <cp:revision>8</cp:revision>
  <dc:subject/>
  <dc:title>Diapositiva 1</dc:title>
</cp:coreProperties>
</file>