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F2F-82E9-4DF6-9BCD-323F29E0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663-E487-4161-A004-78D1ED47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CC5-1468-48C4-A652-67546025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FC0-8B28-419F-9DB5-0EBFD4EA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EEB-0633-4093-92AD-F2768DD7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2B3-15C8-4F69-B62F-F8DA057A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61D-3E1A-4C4E-8AAF-3D4DC6EE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E507-3721-4912-8DB4-44FCB110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4EA-3D8B-416C-BBAB-0134F63E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24C-E51B-4081-90C5-7810B654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CA5-A7B5-4B52-B6B6-7B912228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10C-A3EC-4A9F-BCE3-4765D8FF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2CFD-D935-45FB-8697-EF404A969E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5538960"/>
            <a:ext cx="799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ni Davia Blanc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rián Forés Garc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º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285768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ecántropo: hombre de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mbre de Java fue el primer fósil de homínido en haberse encontrado en el mundo. De este descubrimiento se fortaleció la teoría de que Homo sapiens había aparecido en Á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descubridor, Eugène Dubois, nombró a su especimen 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ithecanthropus erect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e intentó convencer al mundo científico que se trataba de una especie intermedia, pero desgraciadamente esto resultó ser más difícil que la búsqueda del fós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y se sabe que el Hombre de Java es 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omo erectus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que tiene una antiguedad de 0.8 a 1.2 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51640" y="4437000"/>
            <a:ext cx="246672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63272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nántropo: hombre de Pe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mbre de Pekin es el nombre por el que se conoce a la subespecie Homo Erectus pekinensis o Sinanthropus pekinensis, debido a que sus restos fósiles se descubrieron al norte de Pekin, en China, concretamente en una cueva de la localidad de Zhoukoud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restos fueron encontrados entre 1921 y 1937 y datan de hace entre 250.000 y 500.000 años. Es especialmente popular porque en el momento de su descubrimiento fue considerado el primer eslabón perdido que justificaba la teoría de la evoluc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descubrimiento del Hombre de Pekín intervinieron dos factores: la fábula y el azar. Los habitantes de la zona vendían a los extranjeros toda suerte de dientes, pretendiendo que eran dientes de dragón - esta es la fábula - y el azar se presentó cuando uno de estos dientes fue a dar a manos de un científico sueco, Gunnar Anderson, quien, al estudiarlo, lo reconoció como perteneciente a un mamífero extinguido, se pesquisó el origen de ese diente y se estableció que provenía de una cueva de Pekín. Las investigaciones comenzaron en 1921, un habitante de la zona llevó a los arqueólogos hasta lo que hoy en día se conoce como la Colina del Hueso del Dragón, un lugar lleno de huesos fosilizad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88000" y="5229360"/>
            <a:ext cx="1656000" cy="145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705672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volución de Homo erec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el descubrimient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los científicos se preguntan si esta especie era un antepasado direct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debido a que las investigaciones hechas no eran suficientes para demostrarlo. Las últimas 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—tales como las del río Solo en Java— pueden haber vivido hace solamente 50 000 años, simultáneamente con 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 se descarta que a partir de estas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últim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haya evolucionado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pecie que posiblemente descienda tardíamente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 el pequeño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floresiens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 aunque por el estudio de los huesos de la muñeca, los brazos y el hombro se considera más probable que descienda directamente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georgic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ha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aparición de Homo ere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hallazgos parecen demostrar que la presencia del Homo erectus en la región terminó antes de que los humanos modernos llegaran a allí. Los análisis sugieren que el Homo erectus se extinguió hace por lo menos 143.000 años, y probablemente hace más de 550.000 años. Esto significa que la desaparición del Homo erectus ocurrió mucho antes de la llegada del Homo sapie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Homo erectus forma parte de nuestra historia de evolución y es quien descubre el fuego, un elemento esencial para la vida cotid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han encontrado yacimientos importantes en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n dos grupos de fósiles: Pitecántropos, hombre de Java, y Sinántropos, hombre de Pek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es.wikipedia.org/wiki/Homo_erec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e texto: Ciencias de la naturaleza Biología y Geología 4ESO Santill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ursos.educarex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www.monografia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www.portalplanetasedna.com.a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homoerectusveritas.blogspot.com.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licame-evoluci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lociencia.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mbre-de-pkin.blogspot.com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racterísticas morfológicas de los Homo erectus: Rasgos físicos caracterís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yacimientos más importantes de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dos grupos de fósiles asiáticos de Homo erectus: Pitecántropos y Sinántrop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ción de Homo erec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aparición de Homo erect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Homo erectus son unos homínidos extintos que se estima que vivieron hace cerca  de 40 000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ún muchos investigadores es una subespecie de Homo ergaster que salió tempranamente de África y se expandió por gran parte de Eurasia, hasta la isla de J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mo erectus significa literalmente "hombre de pie, erguido, derecho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 de crá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díbula sin mentón promin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cisivos espadiformes y más pl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lares grandes y con esmalte grue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sencia de dia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amen magnun ubicado más hacia el centr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stro menos prognato que los australopiteci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ente baja y huid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rde supraorbitario sa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376720" cy="21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 de ali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an omnívoros y no sólo cazaban y comían animales sino que descubrieron el fuego lo que permitió cocinar la carne, ya no eran necesarios grandes dientes y mandíbulas prominentes, por lo que se achicaron permitiendo la formación de la glotis, con ello comenzaron a emitir los primeros sonidos guturales y a hablar en forma rudiment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3640" y="188640"/>
            <a:ext cx="8507160" cy="666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264360" cy="334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63640" y="3716280"/>
            <a:ext cx="56167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tura y capacidad crane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Homo erectus medía entre 1,30 y 1,70 m de al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 volumen craneal era de 750 y 1250 cc, un aumento de alrededor del 50% de su antecesor el Homo Hábil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cimientos de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 1891 y 1892 el médico anatomista holandés Eugène Dubois encontró distintos yacimientos de Homo erectus en Trinil y Sangiran, Java (Indonesia) de 1 m.a. – 500.000 años de antigü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bois encontró en Trinil restos fósiles de la bóveda craneal y el fémur de estos homí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Sangiran encontró restos cran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 China se encontraron otros yacimientos importantes de fósiles de esta especie como, por ejemplo, Lantian, Yuanmou, Yunxian y Hexian. Los investigadores también han encontrado gran número de utensilios fabricados por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en yacimientos como Nihewan y Bose, en China, y en otros lugares de antigüedad similar (al menos entre 1 millón y 250 000 años de antigüed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0372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9:02:45Z</dcterms:created>
  <dc:creator>Adri</dc:creator>
  <dc:description/>
  <dc:language>en-US</dc:language>
  <cp:lastModifiedBy>Adela Gascón Leal</cp:lastModifiedBy>
  <dcterms:modified xsi:type="dcterms:W3CDTF">2014-06-09T21:48:25Z</dcterms:modified>
  <cp:revision>8</cp:revision>
  <dc:subject/>
  <dc:title>Diapositiva 1</dc:title>
</cp:coreProperties>
</file>