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3F62-8723-4FA9-8436-7E54ECFC1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FD91-B464-4043-9186-00FA4ED1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8A28-78C2-4B74-90A3-460BC9B71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3B95-CBA8-4C45-9EDB-093305B29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481A-917E-4015-A3AB-5C2CD332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F46F-9376-4EB1-A0C3-4FE187FF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B5D1-6DF1-4A37-9B51-1EBEF390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900F-AAB6-4647-9E99-DE40F39A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009E-EE65-47EB-9DC9-98BC7086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6802-FE64-4F06-8976-4FB7EAE0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631C-8A06-4BA5-BBFF-804EDC6A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94A7-C2CD-4E10-84A1-64D2BDB0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1F23-2C12-4773-A184-FDE23D3876B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omo erec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5538960"/>
            <a:ext cx="79930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oni Davia Blanc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drián Forés Garc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º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87640" y="1628640"/>
            <a:ext cx="2857680" cy="26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tecántropo: hombre de J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Hombre de Java fue el primer fósil de homínido en haberse encontrado en el mundo. De este descubrimiento se fortaleció la teoría de que Homo sapiens había aparecido en Ás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 descubridor, Eugène Dubois, nombró a su especimen 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Pithecanthropus erectu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 e intentó convencer al mundo científico que se trataba de una especie intermedia, pero desgraciadamente esto resultó ser más difícil que la búsqueda del fósi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oy se sabe que el Hombre de Java es 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Homo erectus 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que tiene una antiguedad de 0.8 a 1.2 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651640" y="4437000"/>
            <a:ext cx="2466720" cy="18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826920" y="260280"/>
            <a:ext cx="7632720" cy="59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inántropo: hombre de Pek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ombre de Pekin es el nombre por el que se conoce a la subespecie Homo Erectus pekinensis o Sinanthropus pekinensis, debido a que sus restos fósiles se descubrieron al norte de Pekin, en China, concretamente en una cueva de la localidad de Zhoukoudi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restos fueron encontrados entre 1921 y 1937 y datan de hace entre 250.000 y 500.000 años. Es especialmente popular porque en el momento de su descubrimiento fue considerado el primer eslabón perdido que justificaba la teoría de la evoluc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el descubrimiento del Hombre de Pekín intervinieron dos factores: la fábula y el azar. Los habitantes de la zona vendían a los extranjeros toda suerte de dientes, pretendiendo que eran dientes de dragón - esta es la fábula - y el azar se presentó cuando uno de estos dientes fue a dar a manos de un científico sueco, Gunnar Anderson, quien, al estudiarlo, lo reconoció como perteneciente a un mamífero extinguido, se pesquisó el origen de ese diente y se estableció que provenía de una cueva de Pekín. Las investigaciones comenzaron en 1921, un habitante de la zona llevó a los arqueólogos hasta lo que hoy en día se conoce como la Colina del Hueso del Dragón, un lugar lleno de huesos fosilizado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588000" y="5229360"/>
            <a:ext cx="1656000" cy="145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00000" y="260280"/>
            <a:ext cx="705672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volución de Homo erec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de el descubrimiento de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omo erectu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los científicos se preguntan si esta especie era un antepasado directo de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omo sapien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debido a que las investigaciones hechas no eran suficientes para demostrarlo. Las últimas poblaciones de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. erectu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—tales como las del río Solo en Java— pueden haber vivido hace solamente 50 000 años, simultáneamente con poblaciones de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. sapien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y se descarta que a partir de estas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últim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poblaciones de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omo erectu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haya evolucionado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. sapien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especie que posiblemente descienda tardíamente de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omo erectu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es el pequeño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omo floresiensi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 aunque por el estudio de los huesos de la muñeca, los brazos y el hombro se considera más probable que descienda directamente de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omo georgicu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o de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. habili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56908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esaparición de Homo erec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hallazgos parecen demostrar que la presencia del Homo erectus en la región terminó antes de que los humanos modernos llegaran a allí. Los análisis sugieren que el Homo erectus se extinguió hace por lo menos 143.000 años, y probablemente hace más de 550.000 años. Esto significa que la desaparición del Homo erectus ocurrió mucho antes de la llegada del Homo sapie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Homo erectus forma parte de nuestra historia de evolución y es quien descubre el fuego, un elemento esencial para la vida cotidi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han encontrado yacimientos importantes en A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isten dos grupos de fósiles: Pitecántropos, hombre de Java, y Sinántropos, hombre de Pekí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ttp://es.wikipedia.org/wiki/Homo_erec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bro de texto: Ciencias de la naturaleza Biología y Geología 4ESO Santill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ursos.educarex.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ttp://www.monografias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ttp://www.portalplanetasedna.com.ar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ttp://homoerectusveritas.blogspot.com.e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plicame-evolucio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lociencia.c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ombre-de-pkin.blogspot.com.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racterísticas morfológicas de los Homo erectus: Rasgos físicos característ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yacimientos más importantes de A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dos grupos de fósiles asiáticos de Homo erectus: Pitecántropos y Sinántrop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olución de Homo erect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saparición de Homo erect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Homo erectus son unos homínidos extintos que se estima que vivieron hace cerca  de 40 000 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ún muchos investigadores es una subespecie de Homo ergaster que salió tempranamente de África y se expandió por gran parte de Eurasia, hasta la isla de Ja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omo erectus significa literalmente "hombre de pie, erguido, derecho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acterísticas de crán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ndíbula sin mentón promin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cisivos espadiformes y más pl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lares grandes y con esmalte grue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usencia de dia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oramen magnun ubicado más hacia el centro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ostro menos prognato que los australopiteci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rente baja y huidi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orde supraorbitario sal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300720" y="4221000"/>
            <a:ext cx="2376720" cy="219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 de ali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an omnívoros y no sólo cazaban y comían animales sino que descubrieron el fuego lo que permitió cocinar la carne, ya no eran necesarios grandes dientes y mandíbulas prominentes, por lo que se achicaron permitiendo la formación de la glotis, con ello comenzaron a emitir los primeros sonidos guturales y a hablar en forma rudimenta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3640" y="188640"/>
            <a:ext cx="8507160" cy="6669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476360" y="260280"/>
            <a:ext cx="6264360" cy="3340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763640" y="3716280"/>
            <a:ext cx="561672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tura y capacidad crane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Homo erectus medía entre 1,30 y 1,70 m de altu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u volumen craneal era de 750 y 1250 cc, un aumento de alrededor del 50% de su antecesor el Homo Hábil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acimientos de A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re 1891 y 1892 el médico anatomista holandés Eugène Dubois encontró distintos yacimientos de Homo erectus en Trinil y Sangiran, Java (Indonesia) de 1 m.a. – 500.000 años de antigüe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ubois encontró en Trinil restos fósiles de la bóveda craneal y el fémur de estos homín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Sangiran encontró restos crane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 China se encontraron otros yacimientos importantes de fósiles de esta especie como, por ejemplo, Lantian, Yuanmou, Yunxian y Hexian. Los investigadores también han encontrado gran número de utensilios fabricados por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. erectu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en yacimientos como Nihewan y Bose, en China, y en otros lugares de antigüedad similar (al menos entre 1 millón y 250 000 años de antigüedad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619280" y="0"/>
            <a:ext cx="60372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9T19:02:45Z</dcterms:created>
  <dc:creator>Adri</dc:creator>
  <dc:description/>
  <dc:language>en-US</dc:language>
  <cp:lastModifiedBy>Adela Gascón Leal</cp:lastModifiedBy>
  <dcterms:modified xsi:type="dcterms:W3CDTF">2014-06-09T21:48:25Z</dcterms:modified>
  <cp:revision>8</cp:revision>
  <dc:subject/>
  <dc:title>Diapositiva 1</dc:title>
</cp:coreProperties>
</file>