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C58-4869-41B8-B55F-F7A1C8B3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659-9761-499F-A8EA-03B2E77B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883-78A7-4F84-8C11-39085C67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285-336C-4292-8B91-989805E8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D37D-CD95-4432-9B9D-81758FA4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3C92-6633-477D-A663-07ECF77A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FB6A-FA1D-4E9B-800E-37C888B2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F2C2-7837-435D-98F7-9745B13A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6223-EBF3-449C-AF24-0DCC7ABA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A9D4-D7E2-46F9-87E2-50EEA42F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3519-9DA7-495F-BFC2-91BD497B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720-F018-4B5A-A9D4-04ED1D2E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0A37-5FC7-43F1-A679-8D7FC04E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EE74-FD19-4237-AF3B-81CB05A5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F41C-8DBA-4C3B-8C5A-04B63278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91A1-644B-482A-AC66-3BE2CF8E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F8E0-EC92-4362-855B-78831511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98420-8137-4F3A-AAFB-F2CD0E62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9120-0607-46C2-A471-E4FDF2DF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78C5-E869-44CA-8EAD-D2FBA3AB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B808-CE89-4B44-B2D2-B49CA638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2F1A-4D1E-40C4-868A-3D810D97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655-F935-49A4-9DFB-CC8E58CE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70F6-8F30-495C-A8AA-20BE0640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E2F45-257C-41BA-9F48-D995646F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E4C51-6880-4F8F-845E-7B0DCF80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2E1C7-A6A3-4AFD-9D93-5515A957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26C9D-89BF-40F7-8B19-A7DDD4E7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5784-BF97-4431-95C9-1BF5B659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0235-413D-449F-8058-5A5AAFE0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10C4-FCF1-45A0-ABB8-675E0988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7E15-56DB-43C4-9F1A-94E128CA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DB91E-C624-4B31-BE0D-68D446F9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AA5-3152-440F-BEAB-3D5D30A2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9D6B9-860D-4839-8E61-DBF115A5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006FD-B611-413A-ACE7-F21AA908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2925-205E-4265-A448-EAA5656C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D62FF-9029-4E97-A3AB-8AA32812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899DA-111C-4BEE-8CF4-68E903F6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08D73-DEB0-4563-BC86-0B23FD78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9EAF-EF31-4AB9-8ECE-B8770730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72E6C-628C-4CC0-8F93-CDC06BB6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538B-65B3-4610-B2B6-58389692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EFF-BF9C-4197-8B78-A3362F9A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5E5-EE98-49E1-8BDE-3D6D6238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020-3D72-4F01-ADC2-67C5F66B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BAE-D398-4D75-B270-637F8BA2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63E-9B29-4A22-BFB2-B7C7F83D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18CF9-9A30-4D0B-8CF9-A95A2B499E4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62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 fontScale="76000"/>
          </a:bodyPr>
          <a:p>
            <a:pPr marL="260640" indent="0">
              <a:lnSpc>
                <a:spcPct val="9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6840B-3127-4199-8EEE-A73403808FC6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AFBA9-C863-44B4-BD94-67729C8DD97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D70EF-B238-4168-B708-AD550A4C271F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8920" y="1722600"/>
            <a:ext cx="5327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La fórmula preferida del profe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4360" y="-302040"/>
            <a:ext cx="9070920" cy="72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utor: Yoko Ogaw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itorial: Funambu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Rodrigo Forner Valdivi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1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8320" y="623880"/>
            <a:ext cx="65217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76000" y="-36360"/>
            <a:ext cx="5327640" cy="16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Ecolier_court"/>
              </a:rPr>
              <a:t>Personajes principa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0600" y="1164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Root: Le encanta el béisbol su equipo preferido son los TIGERS; le encantas todo los deportes y es muy bueno en los estudi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Madre de Root: Trabaja de asistenta, y ahí conoce a el Profesor que  descubre muchas cosas junto a su hijo y con el Profes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40120" y="5557680"/>
            <a:ext cx="381636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56000" y="345600"/>
            <a:ext cx="316872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Personajes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Profesor: En un accidente de coche perdió la autonomía de su memoria que solo dura 80min.                               Le encanta el béisbol como a Root y su equipo preferido son los TIGERS; el y Root hablan todas las tardes de matamáticas y béibol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83320" y="5759280"/>
            <a:ext cx="173340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5640" y="1496520"/>
            <a:ext cx="8869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 la madre de Root trabaja de asistenta y va a una casa donde vive un anciano matemático retirado.                        Cuando llego el profesor le preguntó muchas  preguntas muy raras como: ¿Qué talla de zapatos utilizas?.                        Tenía la chaqueta llena de papeles que le recordaban cosas.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11280" y="4319640"/>
            <a:ext cx="676764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ARGUMENTO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ino la antigua asistenta y le dijo que llevaba los papeles porque en un accidente de coche perdió  la autonomía de su memoria.                                                                                     El profesor convence a la madre para                                 que traiga a su hijo después del coleg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79640" y="4032360"/>
            <a:ext cx="748800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Todas las tardes Root va a la casa del profesor para practicar las matemáticas y hablar del béisbol.                   Van al campo de béibol de los TIGHERS con  el profesor para divertirse y para que se asocie más con otras personas;y todas las tardes jugaban a juegos de mesa que eligiera el profes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55640" y="4248000"/>
            <a:ext cx="6624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76000" y="97920"/>
            <a:ext cx="53276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OPINIÓN PERSO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Me ha gustado porque demuestra que se puede hacer cambiar a las personas,porque el profesor no era muy sociable pero al final ya era sociabl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Imágen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7240" y="180000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3280" y="1824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979720" y="17859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597640" y="1681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0920" y="37432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3005280" y="36957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327640" y="4103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0" y="479160"/>
            <a:ext cx="316872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03280" y="1295280"/>
            <a:ext cx="90709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2:52:56Z</dcterms:created>
  <dc:creator>1esoade04 1esoade04</dc:creator>
  <dc:description/>
  <dc:language>en-US</dc:language>
  <cp:lastModifiedBy>1esoade04 1esoade04</cp:lastModifiedBy>
  <dcterms:modified xsi:type="dcterms:W3CDTF">2014-11-11T13:06:10Z</dcterms:modified>
  <cp:revision>5</cp:revision>
  <dc:subject/>
  <dc:title/>
</cp:coreProperties>
</file>