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2C2-5F03-4E89-BBAD-36DB9584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889-608B-48CB-9BC1-769CF601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59B-6D87-4A96-ADFC-7E6116F8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55C-C91D-49E9-ABAC-9D9B74F4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965-4669-4876-B289-DA066CD3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B0AE-5C2E-49D4-9404-3688E7ED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EF56-9B1A-4E21-A0B3-71B5973D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D03-98AD-44F2-B5F2-97D3B4A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63F2-DA58-48C1-97E0-82642FF4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DBFC-E896-429A-8760-363DADC6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6721-3DB5-45DA-A08D-78089F2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9E2-CFD0-48F9-93F7-FB81C3FC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4D4C-91EF-45D6-AE8C-3738F344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DF6A-DB20-43A1-B2B4-3402693C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6F6E-B8D3-4023-939D-CCEEC8E3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7A5B-4245-4AAE-A151-93DBEA48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5A86-4FBB-4D18-8FD1-46105C98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16F4-90D8-4093-BAEB-482FB01A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5A95-1B1E-4A3D-836E-CB4AA2C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3347-5B77-4AF8-A388-E5ED6DEB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2E74-4A5B-4177-A906-151D9691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5F1F-D43A-49C0-AED8-78C2088E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081-33AB-4A2A-8C18-94905B14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8975-0A17-4CEE-B3C6-B889A6C3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BFAD-1642-455D-A87F-DFB6630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ADEC-CE7B-4FA1-A538-9C62078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D437-0FC9-49B7-A72B-E7509EC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B504-4C70-4B17-9792-1A98114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A8B7-1171-48FD-8D4F-3F4F11FF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ACA8-86BF-4CEC-A761-43D1EC2F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1C90A-E56F-4080-9D89-51CBA6D7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DC7C-8DC4-44F0-81C3-713E64C9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EEEA4-E08E-4145-BF7A-9825112E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F4F-BD3E-49F2-B788-59EABB74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0EAC-265E-47B5-AC8E-75D846DE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F6E8C-360E-4233-A5AC-396EFE08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71AC-D809-4007-9BF2-DE26E631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72D2-FC1C-4C16-BCAF-799BAFE8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B2C37-8E2A-46CB-84DA-552F2135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B0A6-8738-46C8-80CD-67E9838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B5FD-152F-4028-BCD0-CA5C4A25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49E3-11A9-4F2C-952F-2F9798FD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AA3C-9099-4067-AE84-2BF64A86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F68-A06A-4AA7-B20D-29D0916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D31-A00A-4B61-9C29-F35882D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BBB-8CFE-4384-BD19-134CF5C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562-4D32-483F-B878-96FEE7A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A32-A16C-4877-B037-A3E8746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1BC72-F3F6-4B84-8069-C14DBB47DD8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62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 fontScale="76000"/>
          </a:bodyPr>
          <a:p>
            <a:pPr marL="260640" indent="0">
              <a:lnSpc>
                <a:spcPct val="9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E0CE-4AF4-4C9D-9EC0-F8AF6F6E0989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29E37-C3E1-42B1-BC9C-1D053B6B1AF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21B1E-FC83-4106-A0EE-A20479B1C6D0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8920" y="1722600"/>
            <a:ext cx="5327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La fórmula preferida del profe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4360" y="-302040"/>
            <a:ext cx="9070920" cy="72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utor: Yoko Ogaw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itorial: Funambu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Rodrigo Forner Valdivi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1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8320" y="623880"/>
            <a:ext cx="65217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76000" y="-36360"/>
            <a:ext cx="532764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Ecolier_court"/>
              </a:rPr>
              <a:t>Personajes princip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0600" y="1164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Root: Le encanta el béisbol su equipo preferido son los TIGERS; le encantas todo los deportes y es muy bueno en los estud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Madre de Root: Trabaja de asistenta, y ahí conoce a el Profesor que  descubre muchas cosas junto a su hijo y con el Profes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40120" y="5557680"/>
            <a:ext cx="381636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56000" y="345600"/>
            <a:ext cx="316872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Personaje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Profesor: En un accidente de coche perdió la autonomía de su memoria que solo dura 80min.                               Le encanta el béisbol como a Root y su equipo preferido son los TIGERS; el y Root hablan todas las tardes de matamáticas y béibol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83320" y="5759280"/>
            <a:ext cx="17334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5640" y="1496520"/>
            <a:ext cx="8869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 la madre de Root trabaja de asistenta y va a una casa donde vive un anciano matemático retirado.                        Cuando llego el profesor le preguntó muchas  preguntas muy raras como: ¿Qué talla de zapatos utilizas?.                        Tenía la chaqueta llena de papeles que le recordaban cosas.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11280" y="4319640"/>
            <a:ext cx="676764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ARGUMENTO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no la antigua asistenta y le dijo que llevaba los papeles porque en un accidente de coche perdió  la autonomía de su memoria.                                                                                     El profesor convence a la madre para                                 que traiga a su hijo después del coleg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79640" y="4032360"/>
            <a:ext cx="748800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Todas las tardes Root va a la casa del profesor para practicar las matemáticas y hablar del béisbol.                   Van al campo de béibol de los TIGHERS con  el profesor para divertirse y para que se asocie más con otras personas;y todas las tardes jugaban a juegos de mesa que eligiera el profes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55640" y="4248000"/>
            <a:ext cx="6624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76000" y="97920"/>
            <a:ext cx="53276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OPINIÓN PERSO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Me ha gustado porque demuestra que se puede hacer cambiar a las personas,porque el profesor no era muy sociable pero al final ya era sociabl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Imágen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7240" y="180000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3280" y="1824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79720" y="17859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597640" y="1681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7432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005280" y="36957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327640" y="4103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0" y="479160"/>
            <a:ext cx="316872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3280" y="1295280"/>
            <a:ext cx="90709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2:52:56Z</dcterms:created>
  <dc:creator>1esoade04 1esoade04</dc:creator>
  <dc:description/>
  <dc:language>en-US</dc:language>
  <cp:lastModifiedBy>1esoade04 1esoade04</cp:lastModifiedBy>
  <dcterms:modified xsi:type="dcterms:W3CDTF">2014-11-11T13:06:10Z</dcterms:modified>
  <cp:revision>5</cp:revision>
  <dc:subject/>
  <dc:title/>
</cp:coreProperties>
</file>