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709-957A-470A-B5AD-7274D0CA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68D-D1C1-4F41-8650-61FBBC3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EBD-76F5-494A-9AD4-A0A74945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A2F-58D5-4AAC-8D26-4FFBA8BB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7E49-722F-454D-A607-DBDF23A6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C0F-D04E-42C5-B6B3-050134D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8D4E-1468-418F-B4C3-56AD6D0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0866-F990-4234-8730-A6A0A017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9BD1-E3F6-4E26-A6C1-97BF6804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E31-DC03-454C-9A02-EE7D10D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B75F-9171-440C-B755-589C3F4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734-28D4-4342-85EB-A00B1E6C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908F-951A-4BA6-A21B-08130D21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BB02-9038-4FFE-9F54-6DFFFA9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F674-CB66-400E-BBFA-69A2992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52B8-2F10-455C-92A2-EF685D60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0704-CB4E-44B9-9E9F-1BE8DB94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8C7C-E05E-4251-B0E1-10D246A7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B556-7F2A-44D7-9BC2-D6B171A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F711-A8D1-4F56-8586-A43CB5E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9118-4A97-461A-A48B-55BC7106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0E26-6989-4576-ACB1-B7100650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F3B-854F-4499-855C-3A4926DB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6842-E7D2-408A-97EE-FB94D693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7206-A795-4536-B6FC-A6AA933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26CB-4E0E-4A84-8632-C21EB14E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59BF-18AE-42C0-A772-5681EDC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6B47-85E7-411E-A7C2-46FCA8AA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A851-4E65-47E7-9260-0FD64711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5AC2-E81C-468F-B140-715E2C58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C216-68D4-433C-BF2B-E5BDD75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EC60-32DF-4A9E-93A6-9F0E603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8B4D-4CB7-484C-A1E5-76B8CB7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385-8B7D-42B5-9E3C-D6EE8202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42EB7-AD8F-4275-95E2-4124598D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D747-3290-4687-85B3-7B6ED21E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C15B-ED69-4FD6-98D4-D8BA268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8448-F5DE-4F82-899C-CF65639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57C7-16E9-48A6-8F8C-6BBFAF3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70C8-C56A-4374-9ECC-0B36401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8A9D-AE5D-4DE9-83A0-8FE693D5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ED98-CCA1-4537-A349-6CA0ACE5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66EE-BE8D-4D90-97DE-D774B94F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896-7686-45AB-B6B8-301A7C39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19C-7CD0-4D2E-8809-AB18B26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76C-9EBF-49DA-BD8D-0AD281B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A9A-7D82-4EEC-8B35-0F62403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A72-FF79-4341-9466-9760941D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51134-E796-4BC6-8F69-E16FF3158EE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6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FC08A-B91D-48AB-8016-AD3D9D514E06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C2161-170B-486E-8BF5-7333F73AA72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E3151-12D3-467A-A55D-BFA4DF21D4BA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8920" y="1722600"/>
            <a:ext cx="5327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 fórmula preferida del profe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-302040"/>
            <a:ext cx="9070920" cy="72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tor: Yoko Ogaw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itorial: Funambu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Rodrigo Forner Valdivi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1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8320" y="623880"/>
            <a:ext cx="6521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76000" y="-36360"/>
            <a:ext cx="532764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Ecolier_court"/>
              </a:rPr>
              <a:t>Personajes princip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0600" y="1164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Root: Le encanta el béisbol su equipo preferido son los TIGERS; le encantas todo los deportes y es muy bueno en los estud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Madre de Root: Trabaja de asistenta, y ahí conoce a el Profesor que  descubre muchas cosas junto a su hijo y con el Profes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40120" y="5557680"/>
            <a:ext cx="381636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00" y="345600"/>
            <a:ext cx="31687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ersonaj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Profesor: En un accidente de coche perdió la autonomía de su memoria que solo dura 80min.                               Le encanta el béisbol como a Root y su equipo preferido son los TIGERS; el y Root hablan todas las tardes de matamáticas y béibol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83320" y="5759280"/>
            <a:ext cx="17334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5640" y="1496520"/>
            <a:ext cx="8869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 la madre de Root trabaja de asistenta y va a una casa donde vive un anciano matemático retirado.                        Cuando llego el profesor le preguntó muchas  preguntas muy raras como: ¿Qué talla de zapatos utilizas?.                        Tenía la chaqueta llena de papeles que le recordaban cosas.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11280" y="4319640"/>
            <a:ext cx="676764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RGUMENTO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no la antigua asistenta y le dijo que llevaba los papeles porque en un accidente de coche perdió  la autonomía de su memoria.                                                                                     El profesor convence a la madre para                                 que traiga a su hijo después del coleg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79640" y="4032360"/>
            <a:ext cx="748800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odas las tardes Root va a la casa del profesor para practicar las matemáticas y hablar del béisbol.                   Van al campo de béibol de los TIGHERS con  el profesor para divertirse y para que se asocie más con otras personas;y todas las tardes jugaban a juegos de mesa que eligiera el profes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55640" y="424800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0" y="97920"/>
            <a:ext cx="5327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OPINIÓN PERS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Me ha gustado porque demuestra que se puede hacer cambiar a las personas,porque el profesor no era muy sociable pero al final ya era sociab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Imágen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7240" y="18000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3280" y="1824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9720" y="17859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97640" y="1681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7432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005280" y="36957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327640" y="4103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2:52:56Z</dcterms:created>
  <dc:creator>1esoade04 1esoade04</dc:creator>
  <dc:description/>
  <dc:language>en-US</dc:language>
  <cp:lastModifiedBy>1esoade04 1esoade04</cp:lastModifiedBy>
  <dcterms:modified xsi:type="dcterms:W3CDTF">2014-11-11T13:06:10Z</dcterms:modified>
  <cp:revision>5</cp:revision>
  <dc:subject/>
  <dc:title/>
</cp:coreProperties>
</file>