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4C08-A097-4EBC-9F94-AA7180ED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564D-CF38-4C44-A184-671A5B7D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0279-16DF-4E8A-9E1B-F2B123DF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ECC1-4CA7-4212-9C51-F5E3194C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8FE3-9261-4D14-92A9-F24AC530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F459-2E5C-44E4-A456-F56FEB2C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19A3-C933-4CA9-939E-34FC5350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1441-2536-4F80-A83F-31601700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2C01-3EBF-4F8B-9FE7-7A43D0B5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238F-AD2D-42C4-AED6-3BB417AA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89CD-E031-4F31-B275-C8114AB8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3043-AFE5-4C77-BB8F-98ED35F1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31DD-C772-4EFC-9F8D-78F44DC8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0481-0B81-46B2-BBED-F019075C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C984-0516-4433-8BD4-A62709DE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9132-D1D3-44F9-9D78-B35AA85B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CFFF-362A-4793-805A-268FE743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51817-7D25-4CA0-844F-A4D13D89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A07C3-5CC0-4ACB-A13D-00A59D8F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F3B31-06B6-420E-BAE7-93D20839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1E840-740F-43D4-A17C-7F5BB8EB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DFF48-6FBD-42C6-87EF-B95AE4EE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C5AD-913E-453B-9CD8-883C32D6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B329E-FA68-460F-A667-18C43A57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4A622-B897-4AE5-96D1-14D990DB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82912-7C30-402D-B78D-B4BBAABE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A7386-7AA0-489C-9308-9C8E5B0F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CCE26-E358-44A1-A763-798E4084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01DDF-5157-4B95-8A92-36DC3AEB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FC21C-0322-487F-B65F-77772944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B88EF-8FEB-4584-A1F1-8AB91C12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D56F7-7696-4E36-A841-C2A4D662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CA327-B16B-44CE-8BC1-EB5197EF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B53B-DA5B-4D3E-8FB6-0DAEB7B2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8DCAB-7694-415D-B637-8E530976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C0984-BA18-4EDE-AC97-27A92D27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9C02B-85D7-4787-9FD3-83FB9C7C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E4295-EF67-4569-9A96-B1B7BC02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D2CAC-425B-4460-BA90-EEC2C33C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B1C4E-9348-4E03-B710-3017520E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29AD8-1D2C-425C-B2F2-E0D216E3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42638-2A3C-4F98-AC89-E5668BFE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B8F73-AA03-4AF7-80E3-C18AC733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919B-A253-4DDD-AF4C-DA30E794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D62F-6213-4781-82F1-034B819E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04B3-1168-47BE-BFD3-C7975650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E82F-0FAA-44E8-82E9-49DCF1A7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9A4A-F9A8-4A26-939B-48353231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708E3-344E-40CA-BA65-3BEB5362364A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76000" y="301680"/>
            <a:ext cx="53262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t">
            <a:normAutofit fontScale="76000"/>
          </a:bodyPr>
          <a:p>
            <a:pPr marL="260640" indent="0">
              <a:lnSpc>
                <a:spcPct val="93000"/>
              </a:lnSpc>
              <a:spcAft>
                <a:spcPts val="18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Aft>
                <a:spcPts val="18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0C7C8-17CB-4771-BB8B-52EAE27ADC67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55640" y="479160"/>
            <a:ext cx="31669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36360" y="1768320"/>
            <a:ext cx="8435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344DF-FE94-4687-B75C-C0E261F2700F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10078920" cy="755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44664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F9A76-11CB-4343-90D0-85E9470EFF9B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18920" y="1722600"/>
            <a:ext cx="5327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La fórmula preferida del profe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04360" y="-302040"/>
            <a:ext cx="9070920" cy="725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utor: Yoko Ogaw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ditorial: Funambu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ofesor:José Andrés Mol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lumno:Rodrigo Forner Valdivie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rupo:1º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68320" y="623880"/>
            <a:ext cx="652176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multilateral comen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le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376000" y="-36360"/>
            <a:ext cx="5327640" cy="16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Ecolier_court"/>
              </a:rPr>
              <a:t>Personajes principa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0600" y="1164960"/>
            <a:ext cx="843732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45360" bIns="0" anchor="t">
            <a:normAutofit/>
          </a:bodyPr>
          <a:p>
            <a:pPr marL="431640" indent="-323640">
              <a:lnSpc>
                <a:spcPct val="90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Rufscript"/>
              </a:rPr>
              <a:t>Root: Le encanta el béisbol su equipo preferido son los TIGERS; le encantas todo los deportes y es muy bueno en los estudio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Rufscript"/>
              </a:rPr>
              <a:t>Madre de Root: Trabaja de asistenta, y ahí conoce a el Profesor que  descubre muchas cosas junto a su hijo y con el Profes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0000"/>
              </a:lnSpc>
              <a:spcAft>
                <a:spcPts val="153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840120" y="5557680"/>
            <a:ext cx="3816360" cy="17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56000" y="345600"/>
            <a:ext cx="316872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Personajes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36360" y="1767960"/>
            <a:ext cx="843732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45360" bIns="0" anchor="t">
            <a:normAutofit/>
          </a:bodyPr>
          <a:p>
            <a:pPr marL="431640" indent="-323640">
              <a:lnSpc>
                <a:spcPct val="90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Rufscript"/>
              </a:rPr>
              <a:t>Profesor: En un accidente de coche perdió la autonomía de su memoria que solo dura 80min.                               Le encanta el béisbol como a Root y su equipo preferido son los TIGERS; el y Root hablan todas las tardes de matamáticas y béibol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683320" y="5759280"/>
            <a:ext cx="1733400" cy="13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76000" y="301680"/>
            <a:ext cx="532764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URW Chancery L"/>
              </a:rPr>
              <a:t>Argument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5640" y="1496520"/>
            <a:ext cx="886932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 la madre de Root trabaja de asistenta y va a una casa donde vive un anciano matemático retirado.                        Cuando llego el profesor le preguntó muchas  preguntas muy raras como: ¿Qué talla de zapatos utilizas?.                        Tenía la chaqueta llena de papeles que le recordaban cosas.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11280" y="4319640"/>
            <a:ext cx="6767640" cy="27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76000" y="301680"/>
            <a:ext cx="532764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ARGUMENTO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Vino la antigua asistenta y le dijo que llevaba los papeles porque en un accidente de coche perdió  la autonomía de su memoria.                                                                                     El profesor convence a la madre para                                 que traiga a su hijo después del coleg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079640" y="4032360"/>
            <a:ext cx="7488000" cy="23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76000" y="301680"/>
            <a:ext cx="532764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URW Chancery L"/>
              </a:rPr>
              <a:t>ARGUMENTO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Todas las tardes Root va a la casa del profesor para practicar las matemáticas y hablar del béisbol.                   Van al campo de béibol de los TIGHERS con  el profesor para divertirse y para que se asocie más con otras personas;y todas las tardes jugaban a juegos de mesa que eligiera el profes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55640" y="4248000"/>
            <a:ext cx="66247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76000" y="97920"/>
            <a:ext cx="532764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OPINIÓN PERSON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53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"/>
              </a:rPr>
              <a:t>Me ha gustado porque demuestra que se puede hacer cambiar a las personas,porque el profesor no era muy sociable pero al final ya era sociable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76000" y="301680"/>
            <a:ext cx="532764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Imágen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17240" y="1800000"/>
            <a:ext cx="88693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03280" y="182412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979720" y="178596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5597640" y="1681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250920" y="374328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3005280" y="369576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5327640" y="41036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56000" y="479160"/>
            <a:ext cx="316872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03280" y="1295280"/>
            <a:ext cx="90709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12:52:56Z</dcterms:created>
  <dc:creator>1esoade04 1esoade04</dc:creator>
  <dc:description/>
  <dc:language>en-US</dc:language>
  <cp:lastModifiedBy>1esoade04 1esoade04</cp:lastModifiedBy>
  <dcterms:modified xsi:type="dcterms:W3CDTF">2014-11-11T13:06:10Z</dcterms:modified>
  <cp:revision>5</cp:revision>
  <dc:subject/>
  <dc:title/>
</cp:coreProperties>
</file>