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07F3-AABC-47C6-9D24-8FF5A1DC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7AF3-93C9-4438-97B1-471F408C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05B0-72D7-4E64-84FB-A5C423ECB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0B44-A22C-4067-8FD4-3F6BC51E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A4E5-14B6-4A3F-9BEA-40992FB1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DF70-2852-445E-A031-D75293DB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B153-A30B-400C-A401-58AB9870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BDA1-8E58-456E-BA31-B66A5D40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1232-5E2C-4BA0-81B2-E2BA89FE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C467-93FD-4E68-A5ED-CE45BEB9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713E-52A2-40E8-B947-5854BEBE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7E47-56AA-4312-A28D-8F00BADE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0B79-F6DB-4998-80FD-D03C027D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DA92-FEF5-4333-B37E-2C383B12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D7B4-62CF-4569-9843-95AB470A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927A-727A-4A6B-B506-6D60ECD90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D350-4FEE-4F37-819D-F6B92E494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6D9CE-C365-41D4-8744-FE959DA34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315BA-8610-4A7E-BDCD-3103B3BC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0DF9D-5D65-4E7D-A57E-E0321D8F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D97BD-AB71-46FB-8F87-E1EE09C1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C53B4-E4D3-4F49-863C-90684D42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1DE6-F7F4-41F9-A705-EE53F4E9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96019-234C-4172-BCBA-44AEA820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0058E-F2B6-465F-AE0C-A927EBB9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0AABB-BD46-4FF1-B9F8-564701E4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75020-276C-4646-BEC8-F55397E9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C91DB-9014-4F1A-99B4-E075D4DE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38BF8-3449-4669-AE3B-138FBE807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C4742-D1AD-41D9-9110-DB8556D4D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E56F9-0487-42AD-84A0-9B1250DC9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DEFD6-A76D-40FA-A243-72578AFC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9EF50-9340-48AA-944A-6AFC9A2D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90A5-594B-4C6D-AEBE-6405DFDE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045EE-926B-44A9-990E-C8643E89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01CFA-FA48-45A3-A3EB-B1DC0C0F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E5F37-A8E7-445C-996B-B40CCE26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9691A-941B-41CF-A592-16575BF7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24CF4-D704-44AD-AEB4-29837657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80A6A-9D60-4988-BB62-1183DDE3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BC67D-7784-4F66-896B-ACF51E8E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136A6-F7DB-4C49-84BF-0AC144883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B6FEC-5BA2-4405-90E5-BAF4434E6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4B7B-D52C-4F4E-A8BE-7480A0D9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A17A-4E81-438D-A912-ABF44933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1B21-DC8E-4C1D-9D05-8BD16C88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CA73-50E9-4BD1-BC1B-22BF6B4A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8736-9A43-43E1-8D4E-C5C45EE6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27CF4-E67E-4342-9D65-CB18482E0C2E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76000" y="301680"/>
            <a:ext cx="532620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7800" bIns="0" anchor="t">
            <a:normAutofit fontScale="76000"/>
          </a:bodyPr>
          <a:p>
            <a:pPr marL="260640" indent="0">
              <a:lnSpc>
                <a:spcPct val="93000"/>
              </a:lnSpc>
              <a:spcAft>
                <a:spcPts val="18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827C0-8B00-45B5-9B88-928E0A683952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55640" y="479160"/>
            <a:ext cx="31669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36360" y="1768320"/>
            <a:ext cx="8435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94055-7CAB-462A-8DF2-D2A924B835A4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10078920" cy="755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 fontScale="93000"/>
          </a:bodyPr>
          <a:p>
            <a:pPr marL="318960" indent="0">
              <a:lnSpc>
                <a:spcPct val="93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1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2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3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4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5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6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44664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56A6C-0568-4D9F-BCE8-5B477D5B3065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18920" y="1722600"/>
            <a:ext cx="5327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La fórmula preferida del profes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504360" y="-302040"/>
            <a:ext cx="9070920" cy="725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utor: Yoko Ogaw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ditorial: Funambul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ES Isabel de Vill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ofesor:José Andrés Mol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lumno:Rodrigo Forner Valdivie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rupo:1º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68320" y="623880"/>
            <a:ext cx="652176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yecto multilateral comen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le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376000" y="-36360"/>
            <a:ext cx="5327640" cy="16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Ecolier_court"/>
              </a:rPr>
              <a:t>Personajes principa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0600" y="1164960"/>
            <a:ext cx="8437320" cy="5846760"/>
          </a:xfrm>
          <a:prstGeom prst="rect">
            <a:avLst/>
          </a:prstGeom>
          <a:noFill/>
          <a:ln w="0">
            <a:noFill/>
          </a:ln>
        </p:spPr>
        <p:txBody>
          <a:bodyPr lIns="0" rIns="0" tIns="45360" bIns="0" anchor="t">
            <a:normAutofit/>
          </a:bodyPr>
          <a:p>
            <a:pPr marL="431640" indent="-323640">
              <a:lnSpc>
                <a:spcPct val="90000"/>
              </a:lnSpc>
              <a:spcAft>
                <a:spcPts val="153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Rufscript"/>
              </a:rPr>
              <a:t>Root: Le encanta el béisbol su equipo preferido son los TIGERS; le encantas todo los deportes y es muy bueno en los estudio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Aft>
                <a:spcPts val="153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Rufscript"/>
              </a:rPr>
              <a:t>Madre de Root: Trabaja de asistenta, y ahí conoce a el Profesor que  descubre muchas cosas junto a su hijo y con el Profeso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0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840120" y="5557680"/>
            <a:ext cx="3816360" cy="17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456000" y="345600"/>
            <a:ext cx="316872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Personajes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36360" y="1767960"/>
            <a:ext cx="8437320" cy="5846760"/>
          </a:xfrm>
          <a:prstGeom prst="rect">
            <a:avLst/>
          </a:prstGeom>
          <a:noFill/>
          <a:ln w="0">
            <a:noFill/>
          </a:ln>
        </p:spPr>
        <p:txBody>
          <a:bodyPr lIns="0" rIns="0" tIns="45360" bIns="0" anchor="t">
            <a:normAutofit/>
          </a:bodyPr>
          <a:p>
            <a:pPr marL="431640" indent="-323640">
              <a:lnSpc>
                <a:spcPct val="90000"/>
              </a:lnSpc>
              <a:spcAft>
                <a:spcPts val="153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Rufscript"/>
              </a:rPr>
              <a:t>Profesor: En un accidente de coche perdió la autonomía de su memoria que solo dura 80min.                               Le encanta el béisbol como a Root y su equipo preferido son los TIGERS; el y Root hablan todas las tardes de matamáticas y béibol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683320" y="5759280"/>
            <a:ext cx="1733400" cy="13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76000" y="301680"/>
            <a:ext cx="532764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URW Chancery L"/>
              </a:rPr>
              <a:t>Argument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5640" y="1496520"/>
            <a:ext cx="8869320" cy="58467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53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A la madre de Root trabaja de asistenta y va a una casa donde vive un anciano matemático retirado.                        Cuando llego el profesor le preguntó muchas  preguntas muy raras como: ¿Qué talla de zapatos utilizas?.                        Tenía la chaqueta llena de papeles que le recordaban cosas.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511280" y="4319640"/>
            <a:ext cx="6767640" cy="270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76000" y="301680"/>
            <a:ext cx="532764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ARGUMENTO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53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Vino la antigua asistenta y le dijo que llevaba los papeles porque en un accidente de coche perdió  la autonomía de su memoria.                                                                                     El profesor convence a la madre para                                 que traiga a su hijo después del coleg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079640" y="4032360"/>
            <a:ext cx="7488000" cy="23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376000" y="301680"/>
            <a:ext cx="532764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URW Chancery L"/>
              </a:rPr>
              <a:t>ARGUMENTO 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53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Todas las tardes Root va a la casa del profesor para practicar las matemáticas y hablar del béisbol.                   Van al campo de béibol de los TIGHERS con  el profesor para divertirse y para que se asocie más con otras personas;y todas las tardes jugaban a juegos de mesa que eligiera el profes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655640" y="4248000"/>
            <a:ext cx="66247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76000" y="97920"/>
            <a:ext cx="532764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OPINIÓN PERSON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53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"/>
              </a:rPr>
              <a:t>Me ha gustado porque demuestra que se puede hacer cambiar a las personas,porque el profesor no era muy sociable pero al final ya era sociable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76000" y="301680"/>
            <a:ext cx="532764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Imágene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17240" y="1800000"/>
            <a:ext cx="88693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03280" y="182412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2979720" y="178596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5597640" y="16812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250920" y="374328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3005280" y="369576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5327640" y="410364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456000" y="479160"/>
            <a:ext cx="316872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03280" y="1295280"/>
            <a:ext cx="9070920" cy="6191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4T12:52:56Z</dcterms:created>
  <dc:creator>1esoade04 1esoade04</dc:creator>
  <dc:description/>
  <dc:language>en-US</dc:language>
  <cp:lastModifiedBy>1esoade04 1esoade04</cp:lastModifiedBy>
  <dcterms:modified xsi:type="dcterms:W3CDTF">2014-11-11T13:06:10Z</dcterms:modified>
  <cp:revision>5</cp:revision>
  <dc:subject/>
  <dc:title/>
</cp:coreProperties>
</file>