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D482-74A3-48DE-A494-44FF0FB22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886140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42240"/>
            <a:ext cx="886140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52A7-61D9-4DE6-8747-AFF9FA62D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32432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960" y="1767960"/>
            <a:ext cx="432432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42240"/>
            <a:ext cx="432432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960" y="4242240"/>
            <a:ext cx="432432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33BF-7AD1-4FB6-9106-9D8C81772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285300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840" y="1767960"/>
            <a:ext cx="285300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5120" y="1767960"/>
            <a:ext cx="285300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42240"/>
            <a:ext cx="285300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840" y="4242240"/>
            <a:ext cx="285300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5120" y="4242240"/>
            <a:ext cx="285300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6D68-F6CF-402C-87B4-8E0C0E01F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7960"/>
            <a:ext cx="886140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9083-76A2-4E8C-9A52-F3C59E49F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886140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066A-641C-4BDD-A8FF-6A43543CF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32432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960" y="1767960"/>
            <a:ext cx="432432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230F-E625-42D9-A0EB-933DFA206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7FC6-8B06-410C-B58E-79B64B40A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680"/>
            <a:ext cx="9063000" cy="58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8093-FDB5-473C-A75B-DB399FE0C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32432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960" y="1767960"/>
            <a:ext cx="432432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42240"/>
            <a:ext cx="432432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FA75-6189-489A-B678-4A935D686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32432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960" y="1767960"/>
            <a:ext cx="432432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960" y="4242240"/>
            <a:ext cx="432432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F938-5218-4CEC-A9A7-AC3204827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32432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960" y="1767960"/>
            <a:ext cx="432432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42240"/>
            <a:ext cx="886140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9620-1956-43DE-A7EA-6CD94DEFC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7960"/>
            <a:ext cx="886140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0000" cy="5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7800" cy="5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0000" cy="5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8AB250-A30A-42D2-93E4-827BDEF142AF}" type="slidenum">
              <a:rPr b="0" lang="es-E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36360" y="24912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6600" spc="-1" strike="noStrike">
                <a:solidFill>
                  <a:srgbClr val="0000ff"/>
                </a:solidFill>
                <a:latin typeface="TSCu_Comic"/>
              </a:rPr>
              <a:t>La cenicienta</a:t>
            </a:r>
            <a:r>
              <a:rPr b="0" lang="es-ES" sz="4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9320" cy="78091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Rufscript"/>
              </a:rPr>
              <a:t>Mi libro favorito: Cenicien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Rufscript"/>
              </a:rPr>
              <a:t>Autor: Hermanos Gri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Rufscript"/>
              </a:rPr>
              <a:t>Editorial: Waly Disn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Rufscript"/>
              </a:rPr>
              <a:t>Proyecto Multilateral Comenius: ¿Que lee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Rufscript"/>
              </a:rPr>
              <a:t>IES Isabel de Ville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Rufscript"/>
              </a:rPr>
              <a:t>Profesor: José Andrés Mol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Rufscript"/>
              </a:rPr>
              <a:t>Alumno: Claudia Navas Mass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Rufscript"/>
              </a:rPr>
              <a:t>Grupo: 1º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6600" spc="-1" strike="noStrike">
                <a:solidFill>
                  <a:srgbClr val="23ff23"/>
                </a:solidFill>
                <a:latin typeface="TSCu_Comic"/>
              </a:rPr>
              <a:t>Personaje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41600" y="3024360"/>
            <a:ext cx="3614760" cy="37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Rufscript"/>
              </a:rPr>
              <a:t>Los personajes s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Rufscript"/>
              </a:rPr>
              <a:t>Cenicien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Rufscript"/>
              </a:rPr>
              <a:t>El príncipe Charm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Rufscript"/>
              </a:rPr>
              <a:t>Gus y J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Rufscript"/>
              </a:rPr>
              <a:t>Drizella Treman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Rufscript"/>
              </a:rPr>
              <a:t>Anastasia Trema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Rufscript"/>
              </a:rPr>
              <a:t>Lady Treman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Rufscript"/>
              </a:rPr>
              <a:t>H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42880" y="6300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6600" spc="-1" strike="noStrike">
                <a:solidFill>
                  <a:srgbClr val="aecf00"/>
                </a:solidFill>
                <a:latin typeface="TSCu_Comic"/>
              </a:rPr>
              <a:t>Comienzo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47640" y="3311640"/>
            <a:ext cx="8928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000" spc="-1" strike="noStrike">
                <a:solidFill>
                  <a:srgbClr val="23ff23"/>
                </a:solidFill>
                <a:latin typeface="Rufscript"/>
              </a:rPr>
              <a:t>Había una vez una joven muy bella que no tenia padres, sino una madrastra que tenia dos hijas cada una más fea. La madrastra solo la hacia limpiar, servir, trabajar y nunca podía descansar.            </a:t>
            </a:r>
            <a:r>
              <a:rPr b="1" lang="es-ES" sz="2000" spc="-1" strike="noStrike">
                <a:solidFill>
                  <a:srgbClr val="000000"/>
                </a:solidFill>
                <a:latin typeface="Rufscript"/>
              </a:rPr>
              <a:t>   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Rufscript"/>
              </a:rPr>
              <a:t>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Rufscript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50760" y="2757600"/>
            <a:ext cx="8352000" cy="34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Rufscript"/>
              </a:rPr>
              <a:t>Un día el padre del príncipe (el rey) le organizo a su hijo un baile para que encontrara el amor, la cenicienta se entero y quería ir al baile pero su madrastra se entero y no la dejo ir pero sus ratones amigos la ayudaron a conseguir ir al bail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368360" y="431640"/>
            <a:ext cx="705636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6600" spc="-1" strike="noStrike">
                <a:solidFill>
                  <a:srgbClr val="000000"/>
                </a:solidFill>
                <a:latin typeface="TSCu_Comic"/>
              </a:rPr>
              <a:t>    </a:t>
            </a:r>
            <a:r>
              <a:rPr b="0" lang="es-ES" sz="6600" spc="-1" strike="noStrike">
                <a:solidFill>
                  <a:srgbClr val="ffd320"/>
                </a:solidFill>
                <a:latin typeface="TSCu_Comic"/>
              </a:rPr>
              <a:t> </a:t>
            </a:r>
            <a:r>
              <a:rPr b="0" lang="es-ES" sz="6600" spc="-1" strike="noStrike">
                <a:solidFill>
                  <a:srgbClr val="ffd320"/>
                </a:solidFill>
                <a:latin typeface="TSCu_Comic"/>
              </a:rPr>
              <a:t>Desarrollo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368360" y="2376360"/>
            <a:ext cx="7415280" cy="26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000" spc="-1" strike="noStrike">
                <a:solidFill>
                  <a:srgbClr val="aecf00"/>
                </a:solidFill>
                <a:latin typeface="Rufscript"/>
              </a:rPr>
              <a:t>Los pájaros, ratones... le hicieron el vestido la peinaron... Cuando iba a irse al baile la madrastra y sus hijas la pillaron y le rompieron entonces fueron ellas y ella se quedo llorando en el patio del castillo entonces, llego el hada madrina y le hizo un vestido, hizo a los ratones caballos, una calabaza la hizo carroza... pero le dijo a las 12:00 se deshará el hechizo y se fu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952720" y="558720"/>
            <a:ext cx="640872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6600" spc="-1" strike="noStrike">
                <a:solidFill>
                  <a:srgbClr val="993366"/>
                </a:solidFill>
                <a:latin typeface="TSCu_Comic"/>
              </a:rPr>
              <a:t>Desarrollo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863640" y="2879640"/>
            <a:ext cx="8207280" cy="15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Rufscript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Rufscript"/>
              </a:rPr>
              <a:t>Ella estuvo bailando con el príncipe toda la noche y cuando se dio cuenta de que era la hora y corriendo se le cayo un zapato de cristal. Al día siguiente el la busco y busco hasta que encontró a la dueña del zapato de cristal y fueron felices y comieron perdices.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511280" y="576360"/>
            <a:ext cx="6624720" cy="10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6600" spc="-1" strike="noStrike">
                <a:solidFill>
                  <a:srgbClr val="000000"/>
                </a:solidFill>
                <a:latin typeface="TSCu_Comic"/>
              </a:rPr>
              <a:t>  </a:t>
            </a:r>
            <a:r>
              <a:rPr b="0" lang="es-ES" sz="6600" spc="-1" strike="noStrike">
                <a:solidFill>
                  <a:srgbClr val="000080"/>
                </a:solidFill>
                <a:latin typeface="TSCu_Comic"/>
              </a:rPr>
              <a:t> </a:t>
            </a:r>
            <a:r>
              <a:rPr b="0" lang="es-ES" sz="6600" spc="-1" strike="noStrike">
                <a:solidFill>
                  <a:srgbClr val="000080"/>
                </a:solidFill>
                <a:latin typeface="TSCu_Comic"/>
              </a:rPr>
              <a:t>Desenlac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879640" y="216000"/>
            <a:ext cx="5472360" cy="10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6600" spc="-1" strike="noStrike">
                <a:solidFill>
                  <a:srgbClr val="6b2394"/>
                </a:solidFill>
                <a:latin typeface="TSCu_Comic"/>
              </a:rPr>
              <a:t>Comentario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20720" y="1728720"/>
            <a:ext cx="86407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Rufscript"/>
              </a:rPr>
              <a:t>Mi opinión es: me ha gustado mucho porque al volverlo a escribir me ha recordado a mi infancia y me gusta porque es de fantasía y amor y sus imágenes son precios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8T09:52:54Z</dcterms:created>
  <dc:creator>villena1ade14 villena1ade14</dc:creator>
  <dc:description/>
  <dc:language>en-US</dc:language>
  <cp:lastModifiedBy/>
  <cp:revision>0</cp:revision>
  <dc:subject/>
  <dc:title/>
</cp:coreProperties>
</file>