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942-FA3B-43F6-A544-FB8477C0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4224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D6A-2A80-4F2D-8E24-34008537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96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792-D6CF-421C-9F83-13E8838F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84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12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84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12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189-8595-453A-BE92-DAFFF757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932-935D-4B9F-8E21-2ED38EB4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4D6-5830-4F59-A637-53860DA7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A3F-1DED-44B9-8146-686584CD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A78-A899-40DA-9204-7826C423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C49-EBD1-49DA-98B1-2A47701B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772-6EC7-4F37-A069-D93185EA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96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18D-7C6F-4931-863E-2BC9B7E1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4D7-97E1-4504-8720-BC2A996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DBDF3-52DE-49CB-8B3F-5848D853C8D9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360" y="249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ff"/>
                </a:solidFill>
                <a:latin typeface="TSCu_Comic"/>
              </a:rPr>
              <a:t>La cenicienta</a:t>
            </a: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7809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Mi libro favorito: Cenic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Autor: Hermanos Gri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Editorial: Waly Dis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Proyecto Multilateral Comenius: ¿Que le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IES Isabel de Vil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Profesor: José Andrés M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Alumno: Claudia Navas Mas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Grupo: 1º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23ff23"/>
                </a:solidFill>
                <a:latin typeface="TSCu_Comic"/>
              </a:rPr>
              <a:t>Personaj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1600" y="3024360"/>
            <a:ext cx="361476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Los personaj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Cenic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El príncipe Cha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Gus y 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Drizella Trem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Anastasia Tr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Lady Trem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H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6300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aecf00"/>
                </a:solidFill>
                <a:latin typeface="TSCu_Comic"/>
              </a:rPr>
              <a:t>Comienz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7640" y="3311640"/>
            <a:ext cx="892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23ff23"/>
                </a:solidFill>
                <a:latin typeface="Rufscript"/>
              </a:rPr>
              <a:t>Había una vez una joven muy bella que no tenia padres, sino una madrastra que tenia dos hijas cada una más fea. La madrastra solo la hacia limpiar, servir, trabajar y nunca podía descansar.            </a:t>
            </a: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ufscript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ufscrip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50760" y="2757600"/>
            <a:ext cx="83520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Un día el padre del príncipe (el rey) le organizo a su hijo un baile para que encontrara el amor, la cenicienta se entero y quería ir al baile pero su madrastra se entero y no la dejo ir pero sus ratones amigos la ayudaron a conseguir ir al ba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8360" y="431640"/>
            <a:ext cx="70563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6600" spc="-1" strike="noStrike">
                <a:solidFill>
                  <a:srgbClr val="ffd320"/>
                </a:solidFill>
                <a:latin typeface="TSCu_Comic"/>
              </a:rPr>
              <a:t> </a:t>
            </a:r>
            <a:r>
              <a:rPr b="0" lang="es-ES" sz="6600" spc="-1" strike="noStrike">
                <a:solidFill>
                  <a:srgbClr val="ffd320"/>
                </a:solidFill>
                <a:latin typeface="TSCu_Comic"/>
              </a:rPr>
              <a:t>Desarroll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8360" y="2376360"/>
            <a:ext cx="74152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aecf00"/>
                </a:solidFill>
                <a:latin typeface="Rufscript"/>
              </a:rPr>
              <a:t>Los pájaros, ratones... le hicieron el vestido la peinaron... Cuando iba a irse al baile la madrastra y sus hijas la pillaron y le rompieron entonces fueron ellas y ella se quedo llorando en el patio del castillo entonces, llego el hada madrina y le hizo un vestido, hizo a los ratones caballos, una calabaza la hizo carroza... pero le dijo a las 12:00 se deshará el hechizo y se f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720" y="558720"/>
            <a:ext cx="64087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993366"/>
                </a:solidFill>
                <a:latin typeface="TSCu_Comic"/>
              </a:rPr>
              <a:t>Desarroll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63640" y="2879640"/>
            <a:ext cx="82072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Ella estuvo bailando con el príncipe toda la noche y cuando se dio cuenta de que era la hora y corriendo se le cayo un zapato de cristal. Al día siguiente el la busco y busco hasta que encontró a la dueña del zapato de cristal y fueron felices y comieron perdices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1280" y="576360"/>
            <a:ext cx="662472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TSCu_Comic"/>
              </a:rPr>
              <a:t>  </a:t>
            </a:r>
            <a:r>
              <a:rPr b="0" lang="es-ES" sz="6600" spc="-1" strike="noStrike">
                <a:solidFill>
                  <a:srgbClr val="000080"/>
                </a:solidFill>
                <a:latin typeface="TSCu_Comic"/>
              </a:rPr>
              <a:t> </a:t>
            </a:r>
            <a:r>
              <a:rPr b="0" lang="es-ES" sz="6600" spc="-1" strike="noStrike">
                <a:solidFill>
                  <a:srgbClr val="000080"/>
                </a:solidFill>
                <a:latin typeface="TSCu_Comic"/>
              </a:rPr>
              <a:t>Desenla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79640" y="216000"/>
            <a:ext cx="547236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6b2394"/>
                </a:solidFill>
                <a:latin typeface="TSCu_Comic"/>
              </a:rPr>
              <a:t>Comentari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1728720"/>
            <a:ext cx="86407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Rufscript"/>
              </a:rPr>
              <a:t>Mi opinión es: me ha gustado mucho porque al volverlo a escribir me ha recordado a mi infancia y me gusta porque es de fantasía y amor y sus imágenes son preci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9:52:54Z</dcterms:created>
  <dc:creator>villena1ade14 villena1ade14</dc:creator>
  <dc:description/>
  <dc:language>en-US</dc:language>
  <cp:lastModifiedBy/>
  <cp:revision>0</cp:revision>
  <dc:subject/>
  <dc:title/>
</cp:coreProperties>
</file>