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110-F1C7-4DA8-B35B-A9A518BD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1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42240"/>
            <a:ext cx="8861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9158-8439-4FE7-8653-820AE3FF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96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81E-50EF-4BCA-B6AB-047F1AB9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840" y="176796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120" y="176796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4224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840" y="424224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120" y="424224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B76-E14C-4900-BB07-F9384B99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BF65-4D38-402D-A726-1653B603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0D9B-2E65-47BD-B5FF-EA4AC772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4B09-F8B8-4B00-A89E-CE93FD48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96E4-E004-4414-BEC5-E362E4F4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C91F-36F6-4057-B5B9-6DF5D54D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1F1D-78F4-43EE-998B-EAC6894C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96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C36-CAF6-479C-BC84-559E1486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42240"/>
            <a:ext cx="8861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14F-6919-429C-9BDE-69263EAC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A7E83-38F1-4EFD-9102-40E210532DAA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6360" y="249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0000ff"/>
                </a:solidFill>
                <a:latin typeface="TSCu_Comic"/>
              </a:rPr>
              <a:t>La cenicienta</a:t>
            </a:r>
            <a:r>
              <a:rPr b="0" lang="es-ES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7809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Mi libro favorito: Cenici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Autor: Hermanos Gri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Editorial: Waly Dis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Proyecto Multilateral Comenius: ¿Que le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IES Isabel de Vil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Profesor: José Andrés Mo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Alumno: Claudia Navas Mass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Grupo: 1º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23ff23"/>
                </a:solidFill>
                <a:latin typeface="TSCu_Comic"/>
              </a:rPr>
              <a:t>Personaj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1600" y="3024360"/>
            <a:ext cx="3614760" cy="37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Los personaje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Cenici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El príncipe Char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Gus y 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Drizella Trem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Anastasia Tre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Lady Trem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H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2880" y="6300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aecf00"/>
                </a:solidFill>
                <a:latin typeface="TSCu_Comic"/>
              </a:rPr>
              <a:t>Comienz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7640" y="3311640"/>
            <a:ext cx="892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23ff23"/>
                </a:solidFill>
                <a:latin typeface="Rufscript"/>
              </a:rPr>
              <a:t>Había una vez una joven muy bella que no tenia padres, sino una madrastra que tenia dos hijas cada una más fea. La madrastra solo la hacia limpiar, servir, trabajar y nunca podía descansar.            </a:t>
            </a: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ufscript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ufscrip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50760" y="2757600"/>
            <a:ext cx="83520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Un día el padre del príncipe (el rey) le organizo a su hijo un baile para que encontrara el amor, la cenicienta se entero y quería ir al baile pero su madrastra se entero y no la dejo ir pero sus ratones amigos la ayudaron a conseguir ir al bai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68360" y="431640"/>
            <a:ext cx="70563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6600" spc="-1" strike="noStrike">
                <a:solidFill>
                  <a:srgbClr val="ffd320"/>
                </a:solidFill>
                <a:latin typeface="TSCu_Comic"/>
              </a:rPr>
              <a:t> </a:t>
            </a:r>
            <a:r>
              <a:rPr b="0" lang="es-ES" sz="6600" spc="-1" strike="noStrike">
                <a:solidFill>
                  <a:srgbClr val="ffd320"/>
                </a:solidFill>
                <a:latin typeface="TSCu_Comic"/>
              </a:rPr>
              <a:t>Desarroll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68360" y="2376360"/>
            <a:ext cx="741528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aecf00"/>
                </a:solidFill>
                <a:latin typeface="Rufscript"/>
              </a:rPr>
              <a:t>Los pájaros, ratones... le hicieron el vestido la peinaron... Cuando iba a irse al baile la madrastra y sus hijas la pillaron y le rompieron entonces fueron ellas y ella se quedo llorando en el patio del castillo entonces, llego el hada madrina y le hizo un vestido, hizo a los ratones caballos, una calabaza la hizo carroza... pero le dijo a las 12:00 se deshará el hechizo y se f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720" y="558720"/>
            <a:ext cx="64087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993366"/>
                </a:solidFill>
                <a:latin typeface="TSCu_Comic"/>
              </a:rPr>
              <a:t>Desarrollo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63640" y="2879640"/>
            <a:ext cx="82072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Ella estuvo bailando con el príncipe toda la noche y cuando se dio cuenta de que era la hora y corriendo se le cayo un zapato de cristal. Al día siguiente el la busco y busco hasta que encontró a la dueña del zapato de cristal y fueron felices y comieron perdices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11280" y="576360"/>
            <a:ext cx="662472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TSCu_Comic"/>
              </a:rPr>
              <a:t>  </a:t>
            </a:r>
            <a:r>
              <a:rPr b="0" lang="es-ES" sz="6600" spc="-1" strike="noStrike">
                <a:solidFill>
                  <a:srgbClr val="000080"/>
                </a:solidFill>
                <a:latin typeface="TSCu_Comic"/>
              </a:rPr>
              <a:t> </a:t>
            </a:r>
            <a:r>
              <a:rPr b="0" lang="es-ES" sz="6600" spc="-1" strike="noStrike">
                <a:solidFill>
                  <a:srgbClr val="000080"/>
                </a:solidFill>
                <a:latin typeface="TSCu_Comic"/>
              </a:rPr>
              <a:t>Desenla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79640" y="216000"/>
            <a:ext cx="547236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6b2394"/>
                </a:solidFill>
                <a:latin typeface="TSCu_Comic"/>
              </a:rPr>
              <a:t>Comentari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0720" y="1728720"/>
            <a:ext cx="86407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Rufscript"/>
              </a:rPr>
              <a:t>Mi opinión es: me ha gustado mucho porque al volverlo a escribir me ha recordado a mi infancia y me gusta porque es de fantasía y amor y sus imágenes son precio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09:52:54Z</dcterms:created>
  <dc:creator>villena1ade14 villena1ade14</dc:creator>
  <dc:description/>
  <dc:language>en-US</dc:language>
  <cp:lastModifiedBy/>
  <cp:revision>0</cp:revision>
  <dc:subject/>
  <dc:title/>
</cp:coreProperties>
</file>