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6717-E312-4A24-BF3C-4695380CE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8861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42240"/>
            <a:ext cx="8861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309B-F44F-445C-8118-8378D5C4B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3243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960" y="1767960"/>
            <a:ext cx="43243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42240"/>
            <a:ext cx="43243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960" y="4242240"/>
            <a:ext cx="43243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18F0-1C9B-438C-B095-B8B4E2668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8530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840" y="1767960"/>
            <a:ext cx="28530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5120" y="1767960"/>
            <a:ext cx="28530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42240"/>
            <a:ext cx="28530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840" y="4242240"/>
            <a:ext cx="28530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5120" y="4242240"/>
            <a:ext cx="28530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9707-9A81-46B7-A731-BA0B502A9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88614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B82D-BA80-40DC-86F4-17C14BC9C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88614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3FE3-C387-444F-AC9B-57512F17F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32432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960" y="1767960"/>
            <a:ext cx="432432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4EE1-868B-4B18-A826-0074F4123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2F38-C5B0-405D-806E-481AC04C4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300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D57D-D47F-47F4-AD21-9B91A3313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3243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960" y="1767960"/>
            <a:ext cx="432432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42240"/>
            <a:ext cx="43243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64E1-FD82-4F93-B4EE-C5998BB3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32432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960" y="1767960"/>
            <a:ext cx="43243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960" y="4242240"/>
            <a:ext cx="43243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83CC-3CDA-4B99-B337-57D6E29E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3243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960" y="1767960"/>
            <a:ext cx="43243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42240"/>
            <a:ext cx="8861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315F-AA8F-400F-8003-F81C972C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88614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78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2140AB-A3E3-49D2-999A-B4FA1CAB2DB7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6360" y="24912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6600" spc="-1" strike="noStrike">
                <a:solidFill>
                  <a:srgbClr val="0000ff"/>
                </a:solidFill>
                <a:latin typeface="TSCu_Comic"/>
              </a:rPr>
              <a:t>La cenicienta</a:t>
            </a:r>
            <a:r>
              <a:rPr b="0" lang="es-ES" sz="4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7809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Rufscript"/>
              </a:rPr>
              <a:t>Mi libro favorito: Cenicie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Rufscript"/>
              </a:rPr>
              <a:t>Autor: Hermanos Gri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Rufscript"/>
              </a:rPr>
              <a:t>Editorial: Waly Dis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Rufscript"/>
              </a:rPr>
              <a:t>Proyecto Multilateral Comenius: ¿Que le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Rufscript"/>
              </a:rPr>
              <a:t>IES Isabel de Vill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Rufscript"/>
              </a:rPr>
              <a:t>Profesor: José Andrés Mol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Rufscript"/>
              </a:rPr>
              <a:t>Alumno: Claudia Navas Mass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Rufscript"/>
              </a:rPr>
              <a:t>Grupo: 1º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6600" spc="-1" strike="noStrike">
                <a:solidFill>
                  <a:srgbClr val="23ff23"/>
                </a:solidFill>
                <a:latin typeface="TSCu_Comic"/>
              </a:rPr>
              <a:t>Personaj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41600" y="3024360"/>
            <a:ext cx="3614760" cy="37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Rufscript"/>
              </a:rPr>
              <a:t>Los personajes s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Rufscript"/>
              </a:rPr>
              <a:t>Cenici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Rufscript"/>
              </a:rPr>
              <a:t>El príncipe Charm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Rufscript"/>
              </a:rPr>
              <a:t>Gus y J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Rufscript"/>
              </a:rPr>
              <a:t>Drizella Trema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Rufscript"/>
              </a:rPr>
              <a:t>Anastasia Trema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Rufscript"/>
              </a:rPr>
              <a:t>Lady Trema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Rufscript"/>
              </a:rPr>
              <a:t>H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42880" y="6300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6600" spc="-1" strike="noStrike">
                <a:solidFill>
                  <a:srgbClr val="aecf00"/>
                </a:solidFill>
                <a:latin typeface="TSCu_Comic"/>
              </a:rPr>
              <a:t>Comienz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7640" y="3311640"/>
            <a:ext cx="8928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23ff23"/>
                </a:solidFill>
                <a:latin typeface="Rufscript"/>
              </a:rPr>
              <a:t>Había una vez una joven muy bella que no tenia padres, sino una madrastra que tenia dos hijas cada una más fea. La madrastra solo la hacia limpiar, servir, trabajar y nunca podía descansar.            </a:t>
            </a:r>
            <a:r>
              <a:rPr b="1" lang="es-ES" sz="2000" spc="-1" strike="noStrike">
                <a:solidFill>
                  <a:srgbClr val="000000"/>
                </a:solidFill>
                <a:latin typeface="Rufscript"/>
              </a:rPr>
              <a:t>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ufscript"/>
              </a:rPr>
              <a:t>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ufscrip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50760" y="2757600"/>
            <a:ext cx="8352000" cy="34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Rufscript"/>
              </a:rPr>
              <a:t>Un día el padre del príncipe (el rey) le organizo a su hijo un baile para que encontrara el amor, la cenicienta se entero y quería ir al baile pero su madrastra se entero y no la dejo ir pero sus ratones amigos la ayudaron a conseguir ir al bai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68360" y="431640"/>
            <a:ext cx="705636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6600" spc="-1" strike="noStrike">
                <a:solidFill>
                  <a:srgbClr val="000000"/>
                </a:solidFill>
                <a:latin typeface="TSCu_Comic"/>
              </a:rPr>
              <a:t>    </a:t>
            </a:r>
            <a:r>
              <a:rPr b="0" lang="es-ES" sz="6600" spc="-1" strike="noStrike">
                <a:solidFill>
                  <a:srgbClr val="ffd320"/>
                </a:solidFill>
                <a:latin typeface="TSCu_Comic"/>
              </a:rPr>
              <a:t> </a:t>
            </a:r>
            <a:r>
              <a:rPr b="0" lang="es-ES" sz="6600" spc="-1" strike="noStrike">
                <a:solidFill>
                  <a:srgbClr val="ffd320"/>
                </a:solidFill>
                <a:latin typeface="TSCu_Comic"/>
              </a:rPr>
              <a:t>Desarroll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368360" y="2376360"/>
            <a:ext cx="7415280" cy="26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aecf00"/>
                </a:solidFill>
                <a:latin typeface="Rufscript"/>
              </a:rPr>
              <a:t>Los pájaros, ratones... le hicieron el vestido la peinaron... Cuando iba a irse al baile la madrastra y sus hijas la pillaron y le rompieron entonces fueron ellas y ella se quedo llorando en el patio del castillo entonces, llego el hada madrina y le hizo un vestido, hizo a los ratones caballos, una calabaza la hizo carroza... pero le dijo a las 12:00 se deshará el hechizo y se f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52720" y="558720"/>
            <a:ext cx="640872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6600" spc="-1" strike="noStrike">
                <a:solidFill>
                  <a:srgbClr val="993366"/>
                </a:solidFill>
                <a:latin typeface="TSCu_Comic"/>
              </a:rPr>
              <a:t>Desarrollo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63640" y="2879640"/>
            <a:ext cx="8207280" cy="15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Rufscript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Rufscript"/>
              </a:rPr>
              <a:t>Ella estuvo bailando con el príncipe toda la noche y cuando se dio cuenta de que era la hora y corriendo se le cayo un zapato de cristal. Al día siguiente el la busco y busco hasta que encontró a la dueña del zapato de cristal y fueron felices y comieron perdices.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11280" y="576360"/>
            <a:ext cx="6624720" cy="10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6600" spc="-1" strike="noStrike">
                <a:solidFill>
                  <a:srgbClr val="000000"/>
                </a:solidFill>
                <a:latin typeface="TSCu_Comic"/>
              </a:rPr>
              <a:t>  </a:t>
            </a:r>
            <a:r>
              <a:rPr b="0" lang="es-ES" sz="6600" spc="-1" strike="noStrike">
                <a:solidFill>
                  <a:srgbClr val="000080"/>
                </a:solidFill>
                <a:latin typeface="TSCu_Comic"/>
              </a:rPr>
              <a:t> </a:t>
            </a:r>
            <a:r>
              <a:rPr b="0" lang="es-ES" sz="6600" spc="-1" strike="noStrike">
                <a:solidFill>
                  <a:srgbClr val="000080"/>
                </a:solidFill>
                <a:latin typeface="TSCu_Comic"/>
              </a:rPr>
              <a:t>Desenlac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879640" y="216000"/>
            <a:ext cx="5472360" cy="10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6600" spc="-1" strike="noStrike">
                <a:solidFill>
                  <a:srgbClr val="6b2394"/>
                </a:solidFill>
                <a:latin typeface="TSCu_Comic"/>
              </a:rPr>
              <a:t>Comentari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20720" y="1728720"/>
            <a:ext cx="86407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Rufscript"/>
              </a:rPr>
              <a:t>Mi opinión es: me ha gustado mucho porque al volverlo a escribir me ha recordado a mi infancia y me gusta porque es de fantasía y amor y sus imágenes son precios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8T09:52:54Z</dcterms:created>
  <dc:creator>villena1ade14 villena1ade14</dc:creator>
  <dc:description/>
  <dc:language>en-US</dc:language>
  <cp:lastModifiedBy/>
  <cp:revision>0</cp:revision>
  <dc:subject/>
  <dc:title/>
</cp:coreProperties>
</file>