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EDE-367C-49FC-829F-D5D8E2D4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01B-70D5-40BA-A50F-D3B6F738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CDA-EF5F-45E2-B59D-3921380D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84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120" y="176796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84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120" y="4242240"/>
            <a:ext cx="2853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460-BAF2-49FE-BA28-F060B676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0E7-F5F1-4F41-BDB4-64F9BCEF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845-32F8-4BE5-AC50-72F4DAF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C40-65E4-43A0-97B1-795AD47C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CCF-F370-4381-A08B-CA84F451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6DD-EBE2-456C-9C38-485762AD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004-57A1-41B9-8E6F-7E58F00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960" y="424224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067-454B-4DEB-91EA-A6EA0B90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960" y="1767960"/>
            <a:ext cx="43243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42240"/>
            <a:ext cx="88614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7E7-A0F0-4096-9EC5-23EA8CB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758C6-FCC4-4FBB-A4EF-1CFA41AD729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360" y="249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ff"/>
                </a:solidFill>
                <a:latin typeface="TSCu_Comic"/>
              </a:rPr>
              <a:t>La cenicienta</a:t>
            </a: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780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Mi libro favorito: Cenic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utor: Hermanos Gri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Editorial: Waly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yecto Multilateral Comenius: ¿Que le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IES Isabel de Vil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Profesor: José Andrés M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Alumno: Claudia Navas Mas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ufscript"/>
              </a:rPr>
              <a:t>Grupo: 1º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23ff23"/>
                </a:solidFill>
                <a:latin typeface="TSCu_Comic"/>
              </a:rPr>
              <a:t>Personaj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1600" y="3024360"/>
            <a:ext cx="361476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os personaj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Cenic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El príncipe Ch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Gus y 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Drizella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Anastasia Tre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Lady Trem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Rufscript"/>
              </a:rPr>
              <a:t>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630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aecf00"/>
                </a:solidFill>
                <a:latin typeface="TSCu_Comic"/>
              </a:rPr>
              <a:t>Comienz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7640" y="3311640"/>
            <a:ext cx="892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23ff23"/>
                </a:solidFill>
                <a:latin typeface="Rufscript"/>
              </a:rPr>
              <a:t>Había una vez una joven muy bella que no tenia padres, sino una madrastra que tenia dos hijas cada una más fea. La madrastra solo la hacia limpiar, servir, trabajar y nunca podía descansar.           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ufscrip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50760" y="2757600"/>
            <a:ext cx="83520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Un día el padre del príncipe (el rey) le organizo a su hijo un baile para que encontrara el amor, la cenicienta se entero y quería ir al baile pero su madrastra se entero y no la dejo ir pero sus ratones amigos la ayudaron a conseguir ir al ba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8360" y="431640"/>
            <a:ext cx="70563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 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ffd320"/>
                </a:solidFill>
                <a:latin typeface="TSCu_Comic"/>
              </a:rPr>
              <a:t>Desarroll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8360" y="2376360"/>
            <a:ext cx="74152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aecf00"/>
                </a:solidFill>
                <a:latin typeface="Rufscript"/>
              </a:rPr>
              <a:t>Los pájaros, ratones... le hicieron el vestido la peinaron... Cuando iba a irse al baile la madrastra y sus hijas la pillaron y le rompieron entonces fueron ellas y ella se quedo llorando en el patio del castillo entonces, llego el hada madrina y le hizo un vestido, hizo a los ratones caballos, una calabaza la hizo carroza... pero le dijo a las 12:00 se deshará el hechizo y se f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720" y="558720"/>
            <a:ext cx="64087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993366"/>
                </a:solidFill>
                <a:latin typeface="TSCu_Comic"/>
              </a:rPr>
              <a:t>Desarroll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63640" y="2879640"/>
            <a:ext cx="82072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Rufscript"/>
              </a:rPr>
              <a:t>Ella estuvo bailando con el príncipe toda la noche y cuando se dio cuenta de que era la hora y corriendo se le cayo un zapato de cristal. Al día siguiente el la busco y busco hasta que encontró a la dueña del zapato de cristal y fueron felices y comieron perdices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1280" y="576360"/>
            <a:ext cx="66247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TSCu_Comic"/>
              </a:rPr>
              <a:t> 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 </a:t>
            </a:r>
            <a:r>
              <a:rPr b="0" lang="es-ES" sz="6600" spc="-1" strike="noStrike">
                <a:solidFill>
                  <a:srgbClr val="000080"/>
                </a:solidFill>
                <a:latin typeface="TSCu_Comic"/>
              </a:rPr>
              <a:t>Desenla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79640" y="216000"/>
            <a:ext cx="547236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6b2394"/>
                </a:solidFill>
                <a:latin typeface="TSCu_Comic"/>
              </a:rPr>
              <a:t>Comentari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1728720"/>
            <a:ext cx="8640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Rufscript"/>
              </a:rPr>
              <a:t>Mi opinión es: me ha gustado mucho porque al volverlo a escribir me ha recordado a mi infancia y me gusta porque es de fantasía y amor y sus imágenes son preci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9:52:54Z</dcterms:created>
  <dc:creator>villena1ade14 villena1ade14</dc:creator>
  <dc:description/>
  <dc:language>en-US</dc:language>
  <cp:lastModifiedBy/>
  <cp:revision>0</cp:revision>
  <dc:subject/>
  <dc:title/>
</cp:coreProperties>
</file>