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CE441-1695-4D27-89BB-3E9028FBD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5672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8" name="PlaceHolder 3"/>
          <p:cNvSpPr>
            <a:spLocks noGrp="1"/>
          </p:cNvSpPr>
          <p:nvPr>
            <p:ph/>
          </p:nvPr>
        </p:nvSpPr>
        <p:spPr>
          <a:xfrm>
            <a:off x="503280" y="4237560"/>
            <a:ext cx="885672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3381F-3FA7-4982-B511-942DA126E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1" name="PlaceHolder 3"/>
          <p:cNvSpPr>
            <a:spLocks noGrp="1"/>
          </p:cNvSpPr>
          <p:nvPr>
            <p:ph/>
          </p:nvPr>
        </p:nvSpPr>
        <p:spPr>
          <a:xfrm>
            <a:off x="504144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2" name="PlaceHolder 4"/>
          <p:cNvSpPr>
            <a:spLocks noGrp="1"/>
          </p:cNvSpPr>
          <p:nvPr>
            <p:ph/>
          </p:nvPr>
        </p:nvSpPr>
        <p:spPr>
          <a:xfrm>
            <a:off x="50328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3" name="PlaceHolder 5"/>
          <p:cNvSpPr>
            <a:spLocks noGrp="1"/>
          </p:cNvSpPr>
          <p:nvPr>
            <p:ph/>
          </p:nvPr>
        </p:nvSpPr>
        <p:spPr>
          <a:xfrm>
            <a:off x="504144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6817C-F28D-4669-8763-19414F439D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6" name="PlaceHolder 3"/>
          <p:cNvSpPr>
            <a:spLocks noGrp="1"/>
          </p:cNvSpPr>
          <p:nvPr>
            <p:ph/>
          </p:nvPr>
        </p:nvSpPr>
        <p:spPr>
          <a:xfrm>
            <a:off x="3497760" y="17679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7" name="PlaceHolder 4"/>
          <p:cNvSpPr>
            <a:spLocks noGrp="1"/>
          </p:cNvSpPr>
          <p:nvPr>
            <p:ph/>
          </p:nvPr>
        </p:nvSpPr>
        <p:spPr>
          <a:xfrm>
            <a:off x="6492240" y="17679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8" name="PlaceHolder 5"/>
          <p:cNvSpPr>
            <a:spLocks noGrp="1"/>
          </p:cNvSpPr>
          <p:nvPr>
            <p:ph/>
          </p:nvPr>
        </p:nvSpPr>
        <p:spPr>
          <a:xfrm>
            <a:off x="503280" y="42375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9" name="PlaceHolder 6"/>
          <p:cNvSpPr>
            <a:spLocks noGrp="1"/>
          </p:cNvSpPr>
          <p:nvPr>
            <p:ph/>
          </p:nvPr>
        </p:nvSpPr>
        <p:spPr>
          <a:xfrm>
            <a:off x="3497760" y="42375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 name="PlaceHolder 7"/>
          <p:cNvSpPr>
            <a:spLocks noGrp="1"/>
          </p:cNvSpPr>
          <p:nvPr>
            <p:ph/>
          </p:nvPr>
        </p:nvSpPr>
        <p:spPr>
          <a:xfrm>
            <a:off x="6492240" y="42375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E90DDF-999E-4729-A921-F59818191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B990FF-9381-4E96-BFDE-CE1F7E953E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503280" y="1767960"/>
            <a:ext cx="8856720" cy="47278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B1EE0-F2CE-42C5-BEBD-1D96884D6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503280" y="1767960"/>
            <a:ext cx="885672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EA8400-4389-4F02-AA46-A6375AB2D0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50328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2" name="PlaceHolder 3"/>
          <p:cNvSpPr>
            <a:spLocks noGrp="1"/>
          </p:cNvSpPr>
          <p:nvPr>
            <p:ph/>
          </p:nvPr>
        </p:nvSpPr>
        <p:spPr>
          <a:xfrm>
            <a:off x="504144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3BC915-9F5E-4471-A805-8735565EDB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D76F64-B97D-4AFC-B057-9614676CB2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3280" y="301680"/>
            <a:ext cx="9058320" cy="579168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86FA51-929C-4886-A680-F3CE3CC380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50328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7" name="PlaceHolder 3"/>
          <p:cNvSpPr>
            <a:spLocks noGrp="1"/>
          </p:cNvSpPr>
          <p:nvPr>
            <p:ph/>
          </p:nvPr>
        </p:nvSpPr>
        <p:spPr>
          <a:xfrm>
            <a:off x="504144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8" name="PlaceHolder 4"/>
          <p:cNvSpPr>
            <a:spLocks noGrp="1"/>
          </p:cNvSpPr>
          <p:nvPr>
            <p:ph/>
          </p:nvPr>
        </p:nvSpPr>
        <p:spPr>
          <a:xfrm>
            <a:off x="50328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F6FE4-6E14-4B55-9EBC-7DFA7EEA6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56720" cy="47278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11F5C-7CF7-4232-98E9-51FBB847E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50328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1" name="PlaceHolder 3"/>
          <p:cNvSpPr>
            <a:spLocks noGrp="1"/>
          </p:cNvSpPr>
          <p:nvPr>
            <p:ph/>
          </p:nvPr>
        </p:nvSpPr>
        <p:spPr>
          <a:xfrm>
            <a:off x="504144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2" name="PlaceHolder 4"/>
          <p:cNvSpPr>
            <a:spLocks noGrp="1"/>
          </p:cNvSpPr>
          <p:nvPr>
            <p:ph/>
          </p:nvPr>
        </p:nvSpPr>
        <p:spPr>
          <a:xfrm>
            <a:off x="504144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5983E-487A-4190-93A4-C45BABC9B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50328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5" name="PlaceHolder 3"/>
          <p:cNvSpPr>
            <a:spLocks noGrp="1"/>
          </p:cNvSpPr>
          <p:nvPr>
            <p:ph/>
          </p:nvPr>
        </p:nvSpPr>
        <p:spPr>
          <a:xfrm>
            <a:off x="504144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6" name="PlaceHolder 4"/>
          <p:cNvSpPr>
            <a:spLocks noGrp="1"/>
          </p:cNvSpPr>
          <p:nvPr>
            <p:ph/>
          </p:nvPr>
        </p:nvSpPr>
        <p:spPr>
          <a:xfrm>
            <a:off x="503280" y="4237560"/>
            <a:ext cx="885672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57B4B-39ED-41CD-8610-918B965F0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503280" y="1767960"/>
            <a:ext cx="885672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9" name="PlaceHolder 3"/>
          <p:cNvSpPr>
            <a:spLocks noGrp="1"/>
          </p:cNvSpPr>
          <p:nvPr>
            <p:ph/>
          </p:nvPr>
        </p:nvSpPr>
        <p:spPr>
          <a:xfrm>
            <a:off x="503280" y="4237560"/>
            <a:ext cx="885672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E130B8-DF6B-434E-96C9-9D15645B9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50328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2" name="PlaceHolder 3"/>
          <p:cNvSpPr>
            <a:spLocks noGrp="1"/>
          </p:cNvSpPr>
          <p:nvPr>
            <p:ph/>
          </p:nvPr>
        </p:nvSpPr>
        <p:spPr>
          <a:xfrm>
            <a:off x="504144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3" name="PlaceHolder 4"/>
          <p:cNvSpPr>
            <a:spLocks noGrp="1"/>
          </p:cNvSpPr>
          <p:nvPr>
            <p:ph/>
          </p:nvPr>
        </p:nvSpPr>
        <p:spPr>
          <a:xfrm>
            <a:off x="50328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4" name="PlaceHolder 5"/>
          <p:cNvSpPr>
            <a:spLocks noGrp="1"/>
          </p:cNvSpPr>
          <p:nvPr>
            <p:ph/>
          </p:nvPr>
        </p:nvSpPr>
        <p:spPr>
          <a:xfrm>
            <a:off x="504144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CEFDF4-E271-43EF-9C30-67C206FCC8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503280" y="17679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7" name="PlaceHolder 3"/>
          <p:cNvSpPr>
            <a:spLocks noGrp="1"/>
          </p:cNvSpPr>
          <p:nvPr>
            <p:ph/>
          </p:nvPr>
        </p:nvSpPr>
        <p:spPr>
          <a:xfrm>
            <a:off x="3497760" y="17679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8" name="PlaceHolder 4"/>
          <p:cNvSpPr>
            <a:spLocks noGrp="1"/>
          </p:cNvSpPr>
          <p:nvPr>
            <p:ph/>
          </p:nvPr>
        </p:nvSpPr>
        <p:spPr>
          <a:xfrm>
            <a:off x="6492240" y="17679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9" name="PlaceHolder 5"/>
          <p:cNvSpPr>
            <a:spLocks noGrp="1"/>
          </p:cNvSpPr>
          <p:nvPr>
            <p:ph/>
          </p:nvPr>
        </p:nvSpPr>
        <p:spPr>
          <a:xfrm>
            <a:off x="503280" y="42375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0" name="PlaceHolder 6"/>
          <p:cNvSpPr>
            <a:spLocks noGrp="1"/>
          </p:cNvSpPr>
          <p:nvPr>
            <p:ph/>
          </p:nvPr>
        </p:nvSpPr>
        <p:spPr>
          <a:xfrm>
            <a:off x="3497760" y="42375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1" name="PlaceHolder 7"/>
          <p:cNvSpPr>
            <a:spLocks noGrp="1"/>
          </p:cNvSpPr>
          <p:nvPr>
            <p:ph/>
          </p:nvPr>
        </p:nvSpPr>
        <p:spPr>
          <a:xfrm>
            <a:off x="6492240" y="42375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194B18-A76A-4DA8-B3D8-0DD69F7A03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5672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66496-DF48-4D56-B88A-737258515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1" name="PlaceHolder 3"/>
          <p:cNvSpPr>
            <a:spLocks noGrp="1"/>
          </p:cNvSpPr>
          <p:nvPr>
            <p:ph/>
          </p:nvPr>
        </p:nvSpPr>
        <p:spPr>
          <a:xfrm>
            <a:off x="504144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50F70-BF8D-42EF-BA56-49CD78B69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BBAE1-E585-4893-8B30-729F54D47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58320" cy="579168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21FF9-F27C-41B1-ABB8-9E7724491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6" name="PlaceHolder 3"/>
          <p:cNvSpPr>
            <a:spLocks noGrp="1"/>
          </p:cNvSpPr>
          <p:nvPr>
            <p:ph/>
          </p:nvPr>
        </p:nvSpPr>
        <p:spPr>
          <a:xfrm>
            <a:off x="504144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7" name="PlaceHolder 4"/>
          <p:cNvSpPr>
            <a:spLocks noGrp="1"/>
          </p:cNvSpPr>
          <p:nvPr>
            <p:ph/>
          </p:nvPr>
        </p:nvSpPr>
        <p:spPr>
          <a:xfrm>
            <a:off x="50328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B9F9A-FFCC-4364-B123-E046BEFC6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0" name="PlaceHolder 3"/>
          <p:cNvSpPr>
            <a:spLocks noGrp="1"/>
          </p:cNvSpPr>
          <p:nvPr>
            <p:ph/>
          </p:nvPr>
        </p:nvSpPr>
        <p:spPr>
          <a:xfrm>
            <a:off x="504144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1" name="PlaceHolder 4"/>
          <p:cNvSpPr>
            <a:spLocks noGrp="1"/>
          </p:cNvSpPr>
          <p:nvPr>
            <p:ph/>
          </p:nvPr>
        </p:nvSpPr>
        <p:spPr>
          <a:xfrm>
            <a:off x="504144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5DE8E-BA0C-4F9F-A8B8-EA517B882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4" name="PlaceHolder 3"/>
          <p:cNvSpPr>
            <a:spLocks noGrp="1"/>
          </p:cNvSpPr>
          <p:nvPr>
            <p:ph/>
          </p:nvPr>
        </p:nvSpPr>
        <p:spPr>
          <a:xfrm>
            <a:off x="504144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5" name="PlaceHolder 4"/>
          <p:cNvSpPr>
            <a:spLocks noGrp="1"/>
          </p:cNvSpPr>
          <p:nvPr>
            <p:ph/>
          </p:nvPr>
        </p:nvSpPr>
        <p:spPr>
          <a:xfrm>
            <a:off x="503280" y="4237560"/>
            <a:ext cx="885672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640F8-0C9D-4064-8587-DE0D30A9EC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56720" cy="47278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502920" y="6886080"/>
            <a:ext cx="2335320" cy="50796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080"/>
            <a:ext cx="3182760" cy="50796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5920" y="6886080"/>
            <a:ext cx="2335320" cy="50796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5C632EF-13F7-4F74-B5D6-86627CE541F8}" type="slidenum">
              <a:rPr b="0" lang="es-E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3280" y="480600"/>
            <a:ext cx="9058320" cy="12495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47640" y="1913040"/>
            <a:ext cx="8663040" cy="4371840"/>
          </a:xfrm>
          <a:prstGeom prst="rect">
            <a:avLst/>
          </a:prstGeom>
          <a:noFill/>
          <a:ln w="0">
            <a:noFill/>
          </a:ln>
        </p:spPr>
        <p:txBody>
          <a:bodyPr lIns="0" rIns="0" tIns="2124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3" name="PlaceHolder 3"/>
          <p:cNvSpPr>
            <a:spLocks noGrp="1"/>
          </p:cNvSpPr>
          <p:nvPr>
            <p:ph type="dt" idx="4"/>
          </p:nvPr>
        </p:nvSpPr>
        <p:spPr>
          <a:xfrm>
            <a:off x="502920" y="6527520"/>
            <a:ext cx="2335320" cy="50796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411360" y="6527520"/>
            <a:ext cx="3183120" cy="50796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7155000" y="6527520"/>
            <a:ext cx="2334960" cy="50796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F5A45E-2296-4F87-880A-2552482EA19A}"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480960"/>
            <a:ext cx="9070920" cy="1262160"/>
          </a:xfrm>
          <a:prstGeom prst="rect">
            <a:avLst/>
          </a:prstGeom>
          <a:noFill/>
          <a:ln w="0">
            <a:noFill/>
          </a:ln>
        </p:spPr>
        <p:txBody>
          <a:bodyPr lIns="0" rIns="0" tIns="16560" bIns="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4800" spc="-1" strike="noStrike">
                <a:solidFill>
                  <a:srgbClr val="ff9966"/>
                </a:solidFill>
                <a:latin typeface="Courier 10 Pitch"/>
              </a:rPr>
              <a:t>LOS JUEGOS DEL HAMBRE</a:t>
            </a:r>
            <a:endParaRPr b="0" lang="en-US" sz="4800" spc="-1" strike="noStrike">
              <a:solidFill>
                <a:srgbClr val="000000"/>
              </a:solidFill>
              <a:latin typeface="Arial"/>
            </a:endParaRPr>
          </a:p>
        </p:txBody>
      </p:sp>
      <p:sp>
        <p:nvSpPr>
          <p:cNvPr id="83" name=""/>
          <p:cNvSpPr/>
          <p:nvPr/>
        </p:nvSpPr>
        <p:spPr>
          <a:xfrm>
            <a:off x="1224000" y="1728720"/>
            <a:ext cx="9144000" cy="328140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Autor: Suzanne Collins</a:t>
            </a:r>
            <a:endParaRPr b="0" lang="en-US" sz="2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Editorial: Molino </a:t>
            </a:r>
            <a:endParaRPr b="0" lang="en-US" sz="2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Proyecto Multilateral Comenius:‘¿Qué lees?’</a:t>
            </a:r>
            <a:endParaRPr b="0" lang="en-US" sz="2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IES Isabel de Villena</a:t>
            </a:r>
            <a:endParaRPr b="0" lang="en-US" sz="2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Profesor: José Andrés Molina</a:t>
            </a:r>
            <a:endParaRPr b="0" lang="en-US" sz="2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Alumno: Andrea Romero</a:t>
            </a:r>
            <a:endParaRPr b="0" lang="en-US" sz="2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Grupo: 1ºA</a:t>
            </a:r>
            <a:endParaRPr b="0" lang="en-US" sz="2400" spc="-1" strike="noStrike">
              <a:solidFill>
                <a:srgbClr val="000000"/>
              </a:solidFill>
              <a:latin typeface="Arial"/>
            </a:endParaRPr>
          </a:p>
        </p:txBody>
      </p:sp>
    </p:spTree>
  </p:cSld>
  <p:transition spd="med">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289080" y="863640"/>
            <a:ext cx="8999280" cy="45352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Arial"/>
              </a:rPr>
              <a:t>Katniss Everdeen: Una chica de 16 años que vive en Panem en el distrito 12 concretamente en la Veta y tiene una hermana llamada Prim.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Arial"/>
              </a:rPr>
              <a:t>Ella participa en los septuagésimo cuartos “JUEGOS DEL HAMBRE”. Su especialidad es el arco y las flechas.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Arial"/>
              </a:rPr>
              <a:t>Peeta Mellark: Un chico de 16 años que vive en Panem en el distrito 12 y el es el panadero. En el sorteo le toca participar en los septuagésimo cuartos “JUEGOS DEL HAMBRE”. Su especialidad es levantar peso y el camuflaje. Él esta enamorado de Katniss e intenta que ella gane.</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Arial"/>
              </a:rPr>
              <a:t>Haymitch Abernathy: Un señor de cuarenta años que vivía en el Distrito 12. Dado que las reglas dicen que un antiguo ganador de los juegos debe entrenar a los tributos de su respectivo distrito, se convierte en el mentor de Katniss y Peeta en los septuagésimos cuartos juegos del hambre. Haymitch es un adicto al alcohol que ganó los quincuagésimos juegos del hambre cuando tenía dieciséis años. Fue de gran ayuda para Katniss y Peeta en la arena ya que los ayudó a conseguir varios patrocinadores.</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5" name=""/>
          <p:cNvSpPr/>
          <p:nvPr/>
        </p:nvSpPr>
        <p:spPr>
          <a:xfrm>
            <a:off x="2232000" y="144360"/>
            <a:ext cx="3287880" cy="115272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000000"/>
                </a:solidFill>
                <a:latin typeface="Times New Roman"/>
                <a:ea typeface="DejaVu Sans"/>
              </a:rPr>
              <a:t>Los personajes</a:t>
            </a:r>
            <a:endParaRPr b="0" lang="en-US" sz="4000" spc="-1" strike="noStrike">
              <a:solidFill>
                <a:srgbClr val="000000"/>
              </a:solidFill>
              <a:latin typeface="Arial"/>
            </a:endParaRPr>
          </a:p>
        </p:txBody>
      </p:sp>
    </p:spTree>
  </p:cSld>
  <p:transition spd="med">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431640" y="1152360"/>
            <a:ext cx="9288720" cy="5472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Katniss es una chica de 16 que vive en el Distrito 12 que vive concretamente en la Veta en Panem y tiene una hermana llamada Prim. Llegó la cosecha, es decir la elección de los tributos para “Los Juegos del Hambre” y le toco a Prim participar pero Katniss se presento voluntaria. Los Juegos del Hambre es un recuerdo de los días Oscuros y obligan a escoger un chico y una chica de entre 12 y 18 años de cada Distrito para que se maten entre ellos y solo que de un ganador. Entonces del distrito 12 participaron Peeta Mellark y Katniss Evereden.  Un tren va pasando por cada distrito y recogiendo a los tributos. Al llegar tiene que hacer un desfile y el traje de ellos tiene una capa que se prende en llamas y son los mas vitoreados por el Capitolio (que es donde se realizaran). Ellos necesitan patrocinadores para poder sobrevivir sino morirán.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Primero tiene que demostrar a los vigilantes cual es su punto fuerte y Katniss les demuestra que el arco se le da muy bien y al ver que no le prestan atención le lanzan una flecha a la manzana que tiene un cerdo y le dan de puntuación un 11</a:t>
            </a:r>
            <a:r>
              <a:rPr b="1" lang="es-ES" sz="1800" spc="-1" strike="noStrike">
                <a:solidFill>
                  <a:srgbClr val="000000"/>
                </a:solidFill>
                <a:latin typeface="Arial"/>
              </a:rPr>
              <a:t>.</a:t>
            </a:r>
            <a:endParaRPr b="0" lang="en-US" sz="1800" spc="-1" strike="noStrike">
              <a:solidFill>
                <a:srgbClr val="000000"/>
              </a:solidFill>
              <a:latin typeface="Arial"/>
            </a:endParaRPr>
          </a:p>
        </p:txBody>
      </p:sp>
      <p:pic>
        <p:nvPicPr>
          <p:cNvPr id="87" name="" descr=""/>
          <p:cNvPicPr/>
          <p:nvPr/>
        </p:nvPicPr>
        <p:blipFill>
          <a:blip r:embed="rId2"/>
          <a:stretch/>
        </p:blipFill>
        <p:spPr>
          <a:xfrm>
            <a:off x="595440" y="4896000"/>
            <a:ext cx="3940200" cy="2592360"/>
          </a:xfrm>
          <a:prstGeom prst="rect">
            <a:avLst/>
          </a:prstGeom>
          <a:ln w="0">
            <a:noFill/>
          </a:ln>
        </p:spPr>
      </p:pic>
      <p:sp>
        <p:nvSpPr>
          <p:cNvPr id="88" name=""/>
          <p:cNvSpPr/>
          <p:nvPr/>
        </p:nvSpPr>
        <p:spPr>
          <a:xfrm>
            <a:off x="792000" y="324000"/>
            <a:ext cx="6551640" cy="855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5400" spc="-1" strike="noStrike">
                <a:solidFill>
                  <a:srgbClr val="ffffff"/>
                </a:solidFill>
                <a:latin typeface="Arial"/>
              </a:rPr>
              <a:t>RESUMEN</a:t>
            </a:r>
            <a:endParaRPr b="0" lang="en-US" sz="5400" spc="-1" strike="noStrike">
              <a:solidFill>
                <a:srgbClr val="000000"/>
              </a:solidFill>
              <a:latin typeface="Arial"/>
            </a:endParaRPr>
          </a:p>
        </p:txBody>
      </p:sp>
    </p:spTree>
  </p:cSld>
  <p:transition spd="med">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576360" y="647640"/>
            <a:ext cx="9288360" cy="5832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A cada tributo le hacen una entrevista y cuando le toca a Peeta confesa que esta enamorado de Katniss y va intentar que gane ella. La pareja va a ser llamada desde ahora “Los trágicos amantes del distrito 12.</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A la hora de saltar a la arena, ella se pone la insignia del sinsajo que es el símbolo de su Distrito.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Los Distritos 1, 2 y 4 se les llama los profesionales porque casi siempre acaban ganando y entre ellos hacen una alianza, pero esta vez incluyen a Peeta para que les ayude a encontrar a Katniss y matarla.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El primer día mueren once: la chica del distrito 3, el chico del 4, el chico del 5, los dos tributos del 6 y 7, el chico del 8, los dos del 9 y la chica del 10. Así que quedan 13.</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90" name="" descr=""/>
          <p:cNvPicPr/>
          <p:nvPr/>
        </p:nvPicPr>
        <p:blipFill>
          <a:blip r:embed="rId2"/>
          <a:stretch/>
        </p:blipFill>
        <p:spPr>
          <a:xfrm>
            <a:off x="863640" y="4319640"/>
            <a:ext cx="4224240" cy="2816280"/>
          </a:xfrm>
          <a:prstGeom prst="rect">
            <a:avLst/>
          </a:prstGeom>
          <a:ln w="0">
            <a:noFill/>
          </a:ln>
        </p:spPr>
      </p:pic>
    </p:spTree>
  </p:cSld>
  <p:transition spd="med">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360360" y="360360"/>
            <a:ext cx="9504360" cy="6767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Esa misma noche pasan los profesionales debajo de ella y comprueba que Peeta esta con ellos y se siente traicionada. También be como mata a una chica y recuerda que digo que no quería matar y se siente aún mas frustrada.</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Por fin encuentra agua y pasa aun día tranquilamente, pero de repente ve que un muro de fuego avanza hacia ella y que le lanzan bolas de fuego intenta esquivarlas pero una le hace una quemadura en la pierna y al arrancarse un trozo de pantalón se hace ampollas en las manos. Ella sube a un árbol y los profesionales intentan matarla pero Peeta dice que espere a mañana. Rue (que es la chica del distrito 11) le avisa que hay un nido de rastrevíspulas y ella piensa cortarla y que caiga encima de los profesionales.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Las rastrevíspulas causan mareo y en puntos extremo la muerte. De los profesionales muere la chica del 4 y la del 1. Después Katniss coge el arco y sale corriendo pero se acaba mareando por las picaduras.</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p:txBody>
      </p:sp>
    </p:spTree>
  </p:cSld>
  <p:transition spd="med">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431640" y="576360"/>
            <a:ext cx="9431640" cy="6696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A los dos días se despierta y ve a Rue, entonces ellas dos hacen una alianza. Al día siguiente deciden destruir los alimentos de los profesionales, entonces Rue le dice que Peeta ya no esta con ellos. Katiniss la destruirá, mientras Rue hará tres fogatas para despistarlos. Katniss se da cuenta de que la comida esta rodeada  de minas y lanza unas flechas para que unas manzanas caigan y la comida vuele por los aires. Al volar la comida Katniss se queda sorda por el oído izquierdo, luego busca a Rue y ve que no ha encendido la tercera, de repente oye por el oído bueno que Rue la llama y al acudir ve que el chico del distrito 1 le ha clavado una lanza y ella le lanza una flecha y el chico muere. Katniss le canta una canción a Rue y la envuelve de flores.</a:t>
            </a:r>
            <a:endParaRPr b="0" lang="en-US" sz="1800" spc="-1" strike="noStrike">
              <a:solidFill>
                <a:srgbClr val="000000"/>
              </a:solidFill>
              <a:latin typeface="Arial"/>
            </a:endParaRPr>
          </a:p>
        </p:txBody>
      </p:sp>
      <p:pic>
        <p:nvPicPr>
          <p:cNvPr id="93" name="" descr=""/>
          <p:cNvPicPr/>
          <p:nvPr/>
        </p:nvPicPr>
        <p:blipFill>
          <a:blip r:embed="rId2"/>
          <a:stretch/>
        </p:blipFill>
        <p:spPr>
          <a:xfrm>
            <a:off x="2592360" y="3311640"/>
            <a:ext cx="5753160" cy="3676680"/>
          </a:xfrm>
          <a:prstGeom prst="rect">
            <a:avLst/>
          </a:prstGeom>
          <a:ln w="0">
            <a:noFill/>
          </a:ln>
        </p:spPr>
      </p:pic>
    </p:spTree>
  </p:cSld>
  <p:transition spd="med">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60360" y="360360"/>
            <a:ext cx="9431280" cy="21286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Después de las dos últimas muertes quedan 6, entonces anuncian que pueden ganar dos del mismo distrito y Katniss busca a Peeta. Ella lo encuentra herido y lo cuida, de repente todo los tributos tiene lo que mas desean en la  Cornucopia y Peeta sabe que habra un medicamento para él y no quiere que ella vaya para que no la maten. Clove la chica del dos intenta matar a Katniss, pero Thresh la salva y mata a la otra chica.</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Peeta se recupera y coge unas bayas  venenosas que mata a la del 5.</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 </a:t>
            </a:r>
            <a:r>
              <a:rPr b="1" lang="es-ES" sz="1800" spc="-1" strike="noStrike">
                <a:solidFill>
                  <a:srgbClr val="ffffff"/>
                </a:solidFill>
                <a:latin typeface="Arial"/>
              </a:rPr>
              <a:t>Al día siguiente se oye un cañonazó y aparece la imagen de Thresh, así que solo quedan Cato, Peeta y ella. </a:t>
            </a:r>
            <a:endParaRPr b="0" lang="en-US" sz="1800" spc="-1" strike="noStrike">
              <a:solidFill>
                <a:srgbClr val="000000"/>
              </a:solidFill>
              <a:latin typeface="Arial"/>
            </a:endParaRPr>
          </a:p>
        </p:txBody>
      </p:sp>
    </p:spTree>
  </p:cSld>
  <p:transition spd="med">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360360" y="360360"/>
            <a:ext cx="9504360" cy="5904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De repente todo se vuelve oscuro y se oye un grito y ella y Peeta salen corriendo, entonces se ve que aparecen unos lobos con algunos rasgos de los otros tributos, en particular en la piel y color de los ojos, y también en los collares que coinciden con los números de los tributos del distrito. Uno de los lobo muerde la pierna a Peeta y entonces Katniss hace un torniquete para que no se desangre.</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 </a:t>
            </a:r>
            <a:r>
              <a:rPr b="1" lang="es-ES" sz="1800" spc="-1" strike="noStrike">
                <a:solidFill>
                  <a:srgbClr val="ffffff"/>
                </a:solidFill>
                <a:latin typeface="Arial"/>
              </a:rPr>
              <a:t>Los tres tributos luchan hasta que Cato cae sobre los lobos y muere.</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Cuando Cato muere anuncian que solo puede haber un ganador, entonces Katniss saca una bayas venenosas y a la de tres se las comerían los dos, de repente cuando se las iban a tragar anuncian que los dos pueden ganar.</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Cuando llegan al Capitolio a Peeta le ponen una pierna de metal y a Katniss le arreglan el oído sordo. Cuando llegan a su Distrito ella dice que finge que le gustaba y él estaba enamorado de verdad entonces Peeta se enfada con ella.</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p:txBody>
      </p:sp>
    </p:spTree>
  </p:cSld>
  <p:transition spd="med">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720720" y="1870200"/>
            <a:ext cx="9072720" cy="18748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Arial"/>
              </a:rPr>
              <a:t>Mi opinión es que aunque hayan sacado la película, el libro es mejor. El libro cuando lo lees te crees lo que pasa aunque se que es de ficción y es improbable que ocurra.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Arial"/>
              </a:rPr>
              <a:t>Yo recomendaría leer el libro primero y después de habértelo leído ver la película porque ves las diferencias y puedes identificar las caras a los personajes.</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Arial"/>
              </a:rPr>
              <a:t>Para mí ha sido el mejor libro de todos los que llevo leyendo, porque incluso a los que no les gusta la lectura se acaban enganchando.</a:t>
            </a:r>
            <a:endParaRPr b="0" lang="en-US" sz="1800" spc="-1" strike="noStrike">
              <a:solidFill>
                <a:srgbClr val="000000"/>
              </a:solidFill>
              <a:latin typeface="Arial"/>
            </a:endParaRPr>
          </a:p>
        </p:txBody>
      </p:sp>
      <p:sp>
        <p:nvSpPr>
          <p:cNvPr id="97" name=""/>
          <p:cNvSpPr/>
          <p:nvPr/>
        </p:nvSpPr>
        <p:spPr>
          <a:xfrm>
            <a:off x="1008000" y="720720"/>
            <a:ext cx="8207280" cy="11113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7200" spc="-1" strike="noStrike">
                <a:solidFill>
                  <a:srgbClr val="99284c"/>
                </a:solidFill>
                <a:latin typeface="Arial"/>
              </a:rPr>
              <a:t>    </a:t>
            </a:r>
            <a:r>
              <a:rPr b="1" lang="es-ES" sz="7200" spc="-1" strike="noStrike">
                <a:solidFill>
                  <a:srgbClr val="99284c"/>
                </a:solidFill>
                <a:latin typeface="Arial"/>
              </a:rPr>
              <a:t>MI OPINIÓN</a:t>
            </a:r>
            <a:endParaRPr b="0" lang="en-US" sz="7200" spc="-1" strike="noStrike">
              <a:solidFill>
                <a:srgbClr val="000000"/>
              </a:solidFill>
              <a:latin typeface="Arial"/>
            </a:endParaRPr>
          </a:p>
        </p:txBody>
      </p:sp>
    </p:spTree>
  </p:cSld>
  <p:transition spd="med">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8T09:35:32Z</dcterms:created>
  <dc:creator>villena1ade03 villena1ade03</dc:creator>
  <dc:description/>
  <dc:language>en-US</dc:language>
  <cp:lastModifiedBy/>
  <cp:revision>0</cp:revision>
  <dc:subject/>
  <dc:title/>
</cp:coreProperties>
</file>