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6B90-39D7-4423-A6A7-15DADE58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1AC-A648-4ABE-B001-5C9E4371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5A1-76B8-44EB-95BE-1999AC4E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54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204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2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54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204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FB8-00BF-4DD4-A9E5-32185715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F683-FB50-4E9A-8764-D983601A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4CFD-CBC7-4531-BEDF-00D671E4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2F6D-F293-4029-8B5B-F40BC51F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1894-8BA5-40DD-B1C4-B02206C7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3185-FE31-4665-935A-5DDFE268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4920" y="-3240"/>
            <a:ext cx="61484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764E-B1F7-4752-86A9-D43D2123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5EC7-690A-4189-981A-374E0299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AFC-D253-4A65-A7F8-203E5503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A44B-5DFD-452D-96B0-146E2DC5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50A9-5545-47DC-9278-1193873C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903C-3B28-4A23-B834-8349FF94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2B0F-569F-4D9B-8556-92A5DC60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54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204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2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54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204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9F47-41C5-4843-AA33-C1A38F04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A89-CCAA-47D6-81D1-9B232109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81B-7FA4-4309-A300-B2634B1B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6D2-1170-4809-9965-C356F7F4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-3240"/>
            <a:ext cx="61484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979-3ED2-4D05-BFD5-ABF6B116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70B-684A-403B-B537-48FFFCBA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CBD-87DE-41E4-A3CD-37A92ADF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7C2-57E7-4125-B5CE-412D90B8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9BFD5-55C3-49CB-A68B-3F81BE33300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63640" y="609444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03360" y="670716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15360" y="67071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216B1-FDFD-43B0-B5AD-36361D1ABC8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31640" y="-12600"/>
            <a:ext cx="615636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Que lee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55640" y="1440000"/>
            <a:ext cx="85680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i libro favorito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os niños de la estación del 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utor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hristiane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ditorial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Stern, 1978, 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yecto Multilateral Comenius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‘¿Qué lees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fesor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José Andrés Mo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umno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Zuzana Drozd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es-ES" sz="2800" spc="-1" strike="noStrike" baseline="33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o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43640" y="5543640"/>
            <a:ext cx="446868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12720" y="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Mi libro favorit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168360" y="1238400"/>
            <a:ext cx="62643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iños de la estación del z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168720" y="1944720"/>
            <a:ext cx="6264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26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hristane F.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75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cía en Ale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ra adicta a la hero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su libro autobiográfico describe su vida durante la adolesc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ristiane sobrevivió, pero nunca llegó a desengancharse complet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ve con su hijo y sus tíos en B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e hepatitis C y problemas circul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34920" y="-3600"/>
            <a:ext cx="6154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El libr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15640" y="1161720"/>
            <a:ext cx="777420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hristiane y su família se mudaron a un barrio aleman, que era lleno de las drog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chica empezó a tomarlas y entonces necesitaba mucho dinero. Por eso trabajaba como prostitu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tenía muchos amigos, y casi todos que tenían murier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u madre descubrió que pasaba, y quería que se su hija iría a casa de su abuela, que vivía en un puebl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27280" y="5280120"/>
            <a:ext cx="4248360" cy="21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35280" y="-3600"/>
            <a:ext cx="61531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Película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elícula se hizó en el año 1980/198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44720" y="2592360"/>
            <a:ext cx="730080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34920" y="-3600"/>
            <a:ext cx="6154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hristian con su novi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87640" y="1816200"/>
            <a:ext cx="7481880" cy="55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52360" y="320760"/>
            <a:ext cx="6156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Mi opinión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03640" y="1788840"/>
            <a:ext cx="77752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 gusta ese libro, porque la historia es verdadera y muy fuerte. Todavía no he visto la pelíc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44720" y="3168720"/>
            <a:ext cx="78534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10:58:17Z</dcterms:created>
  <dc:creator>villena4dos02 villena4dos02</dc:creator>
  <dc:description/>
  <dc:language>en-US</dc:language>
  <cp:lastModifiedBy/>
  <cp:revision>0</cp:revision>
  <dc:subject/>
  <dc:title/>
</cp:coreProperties>
</file>