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DABC-7448-4EEC-8CA3-27614F020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440BC-626F-47BD-8149-323EA9CC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588E1-0F8F-4450-90E4-31E30D5A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368C3-B924-4993-A9B8-16131717B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529E7-8FEF-4E5A-BAAC-3E485E1C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3AACD-D109-4BAC-BCA9-85E70DAD0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5CD13-C9A9-416C-A893-16C287C16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4C11-B198-4335-A333-061B39703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0318-4452-4CDA-A65C-366CCC894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0F8F-B025-4A16-887B-9C205F61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AD70-5B63-4654-A1F4-C0386658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133D-F745-48B3-8312-D7A7DA589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12E330-F014-43C9-9887-6B371F0792AA}" type="slidenum">
              <a:rPr b="0" lang="es-E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99ff"/>
                </a:solidFill>
                <a:latin typeface="Arial"/>
              </a:rPr>
              <a:t>Los juegos del hambre: En llamas</a:t>
            </a:r>
            <a:r>
              <a:rPr b="0" lang="es-ES" sz="4400" spc="-1" strike="noStrike">
                <a:solidFill>
                  <a:srgbClr val="ffffff"/>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8869320" cy="43848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
          <p:cNvSpPr/>
          <p:nvPr/>
        </p:nvSpPr>
        <p:spPr>
          <a:xfrm>
            <a:off x="503280" y="1768320"/>
            <a:ext cx="835164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utora: Suzanne Collinn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4" name=""/>
          <p:cNvSpPr/>
          <p:nvPr/>
        </p:nvSpPr>
        <p:spPr>
          <a:xfrm>
            <a:off x="503280" y="2303640"/>
            <a:ext cx="755964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Editorial: Óceano el lado oscuro</a:t>
            </a:r>
            <a:endParaRPr b="0" lang="en-US" sz="1800" spc="-1" strike="noStrike">
              <a:solidFill>
                <a:srgbClr val="000000"/>
              </a:solidFill>
              <a:latin typeface="Arial"/>
            </a:endParaRPr>
          </a:p>
        </p:txBody>
      </p:sp>
      <p:sp>
        <p:nvSpPr>
          <p:cNvPr id="45" name=""/>
          <p:cNvSpPr/>
          <p:nvPr/>
        </p:nvSpPr>
        <p:spPr>
          <a:xfrm>
            <a:off x="503280" y="2859120"/>
            <a:ext cx="63291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yecto Multilateral Comenius: ‘¿Qué le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46" name=""/>
          <p:cNvSpPr/>
          <p:nvPr/>
        </p:nvSpPr>
        <p:spPr>
          <a:xfrm>
            <a:off x="503280" y="3325680"/>
            <a:ext cx="468000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IES Isabel de Villena</a:t>
            </a:r>
            <a:endParaRPr b="0" lang="en-US" sz="1800" spc="-1" strike="noStrike">
              <a:solidFill>
                <a:srgbClr val="000000"/>
              </a:solidFill>
              <a:latin typeface="Arial"/>
            </a:endParaRPr>
          </a:p>
        </p:txBody>
      </p:sp>
      <p:sp>
        <p:nvSpPr>
          <p:cNvPr id="47" name=""/>
          <p:cNvSpPr/>
          <p:nvPr/>
        </p:nvSpPr>
        <p:spPr>
          <a:xfrm>
            <a:off x="503280" y="3887640"/>
            <a:ext cx="381636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Profesor: José Andrés Molina</a:t>
            </a:r>
            <a:endParaRPr b="0" lang="en-US" sz="1800" spc="-1" strike="noStrike">
              <a:solidFill>
                <a:srgbClr val="000000"/>
              </a:solidFill>
              <a:latin typeface="Arial"/>
            </a:endParaRPr>
          </a:p>
        </p:txBody>
      </p:sp>
      <p:sp>
        <p:nvSpPr>
          <p:cNvPr id="48" name=""/>
          <p:cNvSpPr/>
          <p:nvPr/>
        </p:nvSpPr>
        <p:spPr>
          <a:xfrm>
            <a:off x="503280" y="439272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Alumno: Jeinsonth Anael Cordova Funez</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49" name=""/>
          <p:cNvSpPr/>
          <p:nvPr/>
        </p:nvSpPr>
        <p:spPr>
          <a:xfrm>
            <a:off x="503280" y="4896000"/>
            <a:ext cx="446400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99ff"/>
                </a:solidFill>
                <a:latin typeface="Arial"/>
              </a:rPr>
              <a:t>Grupo: 2º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
          <p:cNvSpPr/>
          <p:nvPr/>
        </p:nvSpPr>
        <p:spPr>
          <a:xfrm>
            <a:off x="5543640" y="6264360"/>
            <a:ext cx="475128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La película En llamas, se encuentra en cines, mi opinión de la película, es que es INCREIB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s-ES" sz="4400" spc="-1" strike="noStrike">
                <a:solidFill>
                  <a:srgbClr val="0099ff"/>
                </a:solidFill>
                <a:latin typeface="Arial"/>
              </a:rPr>
              <a:t>KATNISS EVERDEEN</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9320" cy="464184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dc2300"/>
                </a:solidFill>
                <a:latin typeface="Arial"/>
              </a:rPr>
              <a:t>Katniss Everdeen es una joven de 16 años (al inicio de Los Juegos del Hambre) que vive en el Distrito 12. Su nombre tiene origen en una flor, la Saeta de agua.Su amigo Gale la llama Catnip pero ella no lo corrige porque ya se ha acostumbrado a que la llame así</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93000"/>
          </a:bodyPr>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01400" indent="-3009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3333"/>
                </a:solidFill>
                <a:latin typeface="Arial"/>
              </a:rPr>
              <a:t>Es el tributo masculino del Distrito 12, escogido durante la cosecha, junto a Katniss Everdeen para participar en los 74º Juegos del Hambre, una competencia organizada por el Capitolio que obliga a niños y jóvenes de 12 años a 18 años, a luchar hasta la muerte</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216000" y="360360"/>
            <a:ext cx="3671640" cy="5461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dd4814"/>
                </a:solidFill>
                <a:latin typeface="Arial"/>
              </a:rPr>
              <a:t>PEETA MELLARK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rsonajes principales </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7" name="" descr=""/>
          <p:cNvPicPr/>
          <p:nvPr/>
        </p:nvPicPr>
        <p:blipFill>
          <a:blip r:embed="rId2"/>
          <a:stretch/>
        </p:blipFill>
        <p:spPr>
          <a:xfrm>
            <a:off x="6408720" y="1295280"/>
            <a:ext cx="3678120" cy="6264360"/>
          </a:xfrm>
          <a:prstGeom prst="rect">
            <a:avLst/>
          </a:prstGeom>
          <a:ln w="0">
            <a:noFill/>
          </a:ln>
        </p:spPr>
      </p:pic>
      <p:sp>
        <p:nvSpPr>
          <p:cNvPr id="58" name=""/>
          <p:cNvSpPr/>
          <p:nvPr/>
        </p:nvSpPr>
        <p:spPr>
          <a:xfrm>
            <a:off x="216000" y="1584360"/>
            <a:ext cx="57592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Estos son los personajes principales:</a:t>
            </a:r>
            <a:endParaRPr b="0" lang="en-US" sz="1800" spc="-1" strike="noStrike">
              <a:solidFill>
                <a:srgbClr val="000000"/>
              </a:solidFill>
              <a:latin typeface="Arial"/>
            </a:endParaRPr>
          </a:p>
        </p:txBody>
      </p:sp>
      <p:sp>
        <p:nvSpPr>
          <p:cNvPr id="59" name=""/>
          <p:cNvSpPr/>
          <p:nvPr/>
        </p:nvSpPr>
        <p:spPr>
          <a:xfrm>
            <a:off x="287280" y="2376360"/>
            <a:ext cx="575964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47ff"/>
                </a:solidFill>
                <a:latin typeface="Arial"/>
              </a:rPr>
              <a:t>Katniss, Snow, Effie, Finnick, Caesar, Haymitch, Cinna, Bette, Johanna, Peeta y Gal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L ARENA </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0000"/>
                </a:solidFill>
                <a:latin typeface="Arial"/>
              </a:rPr>
              <a:t>Aqui es donde se juegan los septuagésimo juegos del hambr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ff0000"/>
                </a:solidFill>
                <a:latin typeface="Arial"/>
              </a:rPr>
              <a:t>SIPNOSIS DEL LIBRO</a:t>
            </a: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8869320" cy="4384800"/>
          </a:xfrm>
          <a:prstGeom prst="rect">
            <a:avLst/>
          </a:prstGeom>
          <a:noFill/>
          <a:ln w="0">
            <a:noFill/>
          </a:ln>
        </p:spPr>
        <p:txBody>
          <a:bodyPr lIns="0" rIns="0" tIns="28080" bIns="0" anchor="t">
            <a:normAutofit fontScale="53000"/>
          </a:bodyPr>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Katniss Everdeen y Peeta Mellark ambos sobrevivieron a los Juegos del Hambre. Regresaron a casa deseando y esperando un futuro lleno de paz. Pero el Capitolio está enfadado. Quiere venganza.</a:t>
            </a:r>
            <a:endParaRPr b="0" lang="en-US" sz="3200" spc="-1" strike="noStrike">
              <a:solidFill>
                <a:srgbClr val="000000"/>
              </a:solidFill>
              <a:latin typeface="Arial"/>
            </a:endParaRPr>
          </a:p>
          <a:p>
            <a:pPr marL="22860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228600" indent="-17136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23ff23"/>
                </a:solidFill>
                <a:latin typeface="Arial"/>
              </a:rPr>
              <a:t>Cuando los rumores de una rebelión que comenzó llegan a oídos de Katniss, todo cambia. Ahora, Peeta y Katniss se ven obligados a visitar los distritos en la Gira de la Victoria, todo puede salir mal, regresan a los juegos , tanto sus familias y distrito podrían estar en peligro de la ira del Presidente Snow por que katniss rompe el arena y logra escapar.</a:t>
            </a:r>
            <a:r>
              <a:rPr b="0" lang="es-ES" sz="3200" spc="-1" strike="noStrike">
                <a:solidFill>
                  <a:srgbClr val="0066cc"/>
                </a:solidFill>
                <a:latin typeface="Arial"/>
              </a:rPr>
              <a: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
          <p:cNvSpPr/>
          <p:nvPr/>
        </p:nvSpPr>
        <p:spPr>
          <a:xfrm>
            <a:off x="216000" y="287280"/>
            <a:ext cx="3240000" cy="1882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ffffff"/>
                </a:solidFill>
                <a:latin typeface="Arial"/>
              </a:rPr>
              <a:t>En llamas, el libro con mas copias vendidas en la historia, y consta de pelicula la cual logro recaudar 250,000 millones de dolares en todo el mundo, en su primera semana de estren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OPINION PERSONAL</a:t>
            </a: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ste es un magnífico libro, si te gustan las historias ficticias, y de acción este libro te encantara! Para mi primero debes de leerte los libros, ya que tiene 3 y luego ver las películas, ya que en el libro esta mas detallado todo.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1:49:10Z</dcterms:created>
  <dc:creator>villena2ac05 villena2ac05</dc:creator>
  <dc:description/>
  <dc:language>en-US</dc:language>
  <cp:lastModifiedBy>villena2ac05 villena2ac05</cp:lastModifiedBy>
  <dcterms:modified xsi:type="dcterms:W3CDTF">2013-12-10T11:27:37Z</dcterms:modified>
  <cp:revision>1</cp:revision>
  <dc:subject/>
  <dc:title/>
</cp:coreProperties>
</file>