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2F0D-041A-4C8E-82B6-3A5FC5CD4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77677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79280" y="4242240"/>
            <a:ext cx="77677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9F92-6A4E-4E76-937B-0FDB1553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5980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79280" y="424224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59800" y="424224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00ED-D067-4CCD-B536-A80A67FAE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5480" y="176796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32040" y="176796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79280" y="424224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5480" y="424224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32040" y="424224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A6AE-40F4-4E8C-BDDE-76071F682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01F1D-BC92-4FD0-B572-0003FE336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79280" y="1767960"/>
            <a:ext cx="77677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C3F7-1411-45AE-B746-7900CA2A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77677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B0C13-4887-439C-98F8-21B7D57B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04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59800" y="1767960"/>
            <a:ext cx="37904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EDED-35DF-40C5-926B-DA009B61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A85C7-6CA4-43AB-8DAB-F0141AC4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634920" y="-3240"/>
            <a:ext cx="61484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DFF9-CCF9-4ABC-AA37-06D2C352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59800" y="1767960"/>
            <a:ext cx="37904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79280" y="424224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AA15-657B-41CA-AC77-AFCE0583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79280" y="1767960"/>
            <a:ext cx="77677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770C-2A93-4BF8-A6A3-E8F1B1A1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04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5980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59800" y="424224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BA13-3338-4C3C-823B-92BE38F3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5980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79280" y="4242240"/>
            <a:ext cx="77677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DA73-1338-4EE3-80E6-AD4423B0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77677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79280" y="4242240"/>
            <a:ext cx="77677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794E-9915-4A9F-9B46-32ED6132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5980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79280" y="424224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59800" y="424224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6212-D928-4E71-9A67-DB718AD01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05480" y="176796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232040" y="176796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79280" y="424224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05480" y="424224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232040" y="424224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3DBD-D7CB-4E2D-BFB4-C29C1B579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77677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DC70-88F1-479E-830F-C78FBEB8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04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59800" y="1767960"/>
            <a:ext cx="37904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09D3-9E79-4DC5-B0CA-0716D661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0785-B2CA-4AAC-AEC3-D855A45D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34920" y="-3240"/>
            <a:ext cx="61484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95D9-5E4D-47F5-A0A4-88D0527F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59800" y="1767960"/>
            <a:ext cx="37904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79280" y="424224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F1CC-C273-4E11-8A87-54F7DF66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04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5980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59800" y="424224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F7E8-8149-49BB-A994-A15CAA73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5980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79280" y="4242240"/>
            <a:ext cx="77677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3593-CFC1-4DC7-9E2F-2CA3243F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8861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BB99D-551F-429E-A77D-F14F4C2FC65F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79280" y="1767960"/>
            <a:ext cx="77677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763640" y="6094440"/>
            <a:ext cx="2340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203360" y="6707160"/>
            <a:ext cx="31878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515360" y="6707160"/>
            <a:ext cx="2340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21F33B-1466-4011-B34A-A5F6D7439626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131640" y="-12600"/>
            <a:ext cx="6156360" cy="15969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Que lees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55640" y="1440000"/>
            <a:ext cx="85680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i libro favorito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Los niños de la estación del z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utor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Christiane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ditorial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Stern, 1978, Alem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yecto Multilateral Comenius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‘¿Qué lees?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ES Isabel de Vill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fesor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José Andrés Mol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lumno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Zuzana Drozd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rup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4</a:t>
            </a:r>
            <a:r>
              <a:rPr b="0" lang="es-ES" sz="2800" spc="-1" strike="noStrike" baseline="33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so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543640" y="5543640"/>
            <a:ext cx="4468680" cy="193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12720" y="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Mi libro favorito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168360" y="1238400"/>
            <a:ext cx="626436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niños de la estación del z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168720" y="1944720"/>
            <a:ext cx="626436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626920" y="30168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Christane F.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777564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recía en Aleman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ra adicta a la heroí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 su libro autobiográfico describe su vida durante la adolesc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hristiane sobrevivió, pero nunca llegó a desengancharse completa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ive con su hijo y sus tíos en Ber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iene hepatitis C y problemas circulato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34920" y="-3600"/>
            <a:ext cx="615492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El libro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15640" y="1161720"/>
            <a:ext cx="7774200" cy="560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hristiane y su família se mudaron a un barrio aleman, que era lleno de las drog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 chica empezó a tomarlas y entonces necesitaba mucho dinero. Por eso trabajaba como prostitu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No tenía muchos amigos, y casi todos que tenían murier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u madre descubrió que pasaba, y quería que se su hija iría a casa de su abuela, que vivía en un puebl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527280" y="5280120"/>
            <a:ext cx="4248360" cy="213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35280" y="-3600"/>
            <a:ext cx="615312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Película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79640" y="1767960"/>
            <a:ext cx="777240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película se hizó en el año 1980/198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944720" y="2592360"/>
            <a:ext cx="7300800" cy="415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34920" y="-3600"/>
            <a:ext cx="615492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Christian con su novio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77738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087640" y="1816200"/>
            <a:ext cx="7481880" cy="552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52360" y="320760"/>
            <a:ext cx="6156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Mi opinión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303640" y="1788840"/>
            <a:ext cx="77752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 gusta ese libro, porque la historia es verdadera y muy fuerte. Todavía no he visto la pelícu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944720" y="3168720"/>
            <a:ext cx="7853400" cy="3840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9T10:58:17Z</dcterms:created>
  <dc:creator>villena4dos02 villena4dos02</dc:creator>
  <dc:description/>
  <dc:language>en-US</dc:language>
  <cp:lastModifiedBy/>
  <cp:revision>0</cp:revision>
  <dc:subject/>
  <dc:title/>
</cp:coreProperties>
</file>