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5A7-0C5F-4800-B1B4-ECC5B5C9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892-BFC7-4A0B-9E56-35816928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9FB-31BE-49DC-A620-8ABBE644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018-6AC2-4A4F-AC8A-46C94A6B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9836-8BAA-4A61-BC4E-8AAE1091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9C66-2F9E-427C-BC40-62574DAD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C0F0-8044-49B0-9AB0-F4A1768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D0C3-2FAB-4835-A215-70187AB3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D19B-FAF2-4FBE-83A3-FACBEFEE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E21F-0AEF-476A-A036-1201E24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44F1-83B0-4E46-953A-C977CD9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ECB-5784-4DA0-B0C4-086A7F6F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682-CC1D-4EEE-9A4A-93BFE2B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98D0-9334-440E-9CA0-31BBF1C6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0222-5C19-43A7-84FD-2CB9F235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078D-77D6-4F5D-A93B-7632F60E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54D7-5C9B-401D-892C-746BDDDE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330-FCD0-49FF-813A-64E440C6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AD0-4D4A-4355-A9C6-0C863DD9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52F-EE21-47A5-829D-064262FB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141-E6B2-4446-AF93-49222221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9CE-427F-4FF9-9FD6-6BF7B959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0B2-6DD2-4869-B19C-54D4958A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0AD-F6D7-4352-A709-AED698C9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FE6B8-AE8D-44E7-A061-5D3E993A6F3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360" y="670716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36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ED313-7DA1-4883-A04A-BCBB3D95D66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1640" y="-12600"/>
            <a:ext cx="615636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Que le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55640" y="1440000"/>
            <a:ext cx="85680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i libro favorit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s niños de la estación del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ut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hristian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ditorial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tern, 1978,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yecto Multilateral Comeniu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umn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Zuzana Drozd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es-ES" sz="28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43640" y="5543640"/>
            <a:ext cx="446868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2720" y="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libro favori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68360" y="1238400"/>
            <a:ext cx="62643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iños de la estación del 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68720" y="1944720"/>
            <a:ext cx="62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ane F.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ía en Ale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a adicta a la hero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libro autobiográfico describe su vida durante la adolesc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ristiane sobrevivió, pero nunca llegó a desengancharse comple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ve con su hijo y sus tíos en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hepatitis C y problemas circul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El libr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161720"/>
            <a:ext cx="77742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ristiane y su família se mudaron a un barrio aleman, que era lleno de las dro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hica empezó a tomarlas y entonces necesitaba mucho dinero. Por eso trabajaba como prostit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tenía muchos amigos, y casi todos que tenían murier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 madre descubrió que pasaba, y quería que se su hija iría a casa de su abuela, que vivía en un pueb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27280" y="5280120"/>
            <a:ext cx="424836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35280" y="-3600"/>
            <a:ext cx="61531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elícula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elícula se hizó en el año 1980/198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44720" y="2592360"/>
            <a:ext cx="730080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ian con su novi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87640" y="1816200"/>
            <a:ext cx="7481880" cy="55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52360" y="320760"/>
            <a:ext cx="6156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opin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03640" y="178884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ese libro, porque la historia es verdadera y muy fuerte. Todavía no he visto la pelíc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44720" y="3168720"/>
            <a:ext cx="7853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8:17Z</dcterms:created>
  <dc:creator>villena4dos02 villena4dos02</dc:creator>
  <dc:description/>
  <dc:language>en-US</dc:language>
  <cp:lastModifiedBy/>
  <cp:revision>0</cp:revision>
  <dc:subject/>
  <dc:title/>
</cp:coreProperties>
</file>