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0C9-01C4-44BB-88A8-E79D3E74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D5E-1977-4C73-8C60-939C751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E1B-F027-456C-A336-0C925460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E9B-AF3A-4553-85BB-7EC9A244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67A2-AC6E-46DD-927C-C244F7E3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C406-42E2-447C-A9DA-4FA027FA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E20F-5615-4519-9239-C201927F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5D34-C1B1-4BE8-B01D-63621A37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AF23-31D5-458D-9A49-BDB0D74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AAC-493D-4C5A-AB5D-B191A95B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65DE-6183-48F2-BA27-D6101465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C42-89F4-47B0-8A81-4A94A2F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0750-2CF5-45AB-AACF-C1422D9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3A4F-4024-4A77-A023-FCE32A00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7024-43A3-421D-AD5D-24378674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B229-8E8C-4AB8-B8CA-C43D0D26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EB61-F31B-483E-8567-0CF3D3C0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22B-F104-4C99-9AB2-D58F86A1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AA9-CEA7-4710-84F3-A3FBB077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139-B263-46B9-BDF3-1C711D4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BE1-EC79-44EE-8ABB-18F4B4A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EDF-BDE9-4861-89A6-5877537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003-DAAF-421F-94CF-973DEE7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293-D7D1-4F1F-8581-7C52FDA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C44FC-9811-4784-8805-19A564724A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36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1E902-8783-41DA-BAD6-B4B1BC81088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-12600"/>
            <a:ext cx="61563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Que le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440000"/>
            <a:ext cx="8568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 libro favorit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niños de la estación del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hristian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itor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tern, 1978,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yecto Multilateral Comeniu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umn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Zuzana Droz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es-E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43640" y="5543640"/>
            <a:ext cx="4468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2720" y="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libro favori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68360" y="123840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iños de la estación del 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68720" y="194472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ane F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ía en Ale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a adicta a la hero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libro autobiográfico describe su vida durante la adoles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ristiane sobrevivió, pero nunca llegó a desengancharse comple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ve con su hijo y sus tíos en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hepatitis C y problemas circul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El libr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161720"/>
            <a:ext cx="77742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ristiane y su família se mudaron a un barrio aleman, que era lleno de las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hica empezó a tomarlas y entonces necesitaba mucho dinero. Por eso trabajaba como prostit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tenía muchos amigos, y casi todos que tenían murie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 madre descubrió que pasaba, y quería que se su hija iría a casa de su abuela, que vivía en un pueb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27280" y="5280120"/>
            <a:ext cx="42483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5280" y="-3600"/>
            <a:ext cx="61531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elícula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elícula se hizó en el año 1980/198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44720" y="2592360"/>
            <a:ext cx="73008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ian con su novi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87640" y="1816200"/>
            <a:ext cx="7481880" cy="55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52360" y="320760"/>
            <a:ext cx="6156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opin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3640" y="178884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ese libro, porque la historia es verdadera y muy fuerte. Todavía no he visto la pelí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44720" y="3168720"/>
            <a:ext cx="7853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8:17Z</dcterms:created>
  <dc:creator>villena4dos02 villena4dos02</dc:creator>
  <dc:description/>
  <dc:language>en-US</dc:language>
  <cp:lastModifiedBy/>
  <cp:revision>0</cp:revision>
  <dc:subject/>
  <dc:title/>
</cp:coreProperties>
</file>