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F92-F6B8-4D3D-979E-1D915454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972-BC89-4F5C-A4FB-81EC9D3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18C-0F3A-4DD9-8AF9-2CD49DC5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0FE-C3B1-42DB-89C4-0CCC49C2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4E8D-78DA-4BD3-A914-68EE899C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72F-6825-4375-9168-80DA0537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FBC-0B1D-4E10-89FB-3C5EFDB2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BD1D-CDB5-4DAB-8F86-FE3F3BC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2421-7C3D-4365-AD65-BE3F181C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F82-989B-4B29-BC33-EC507FF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FF9-08CF-4A88-9B30-40C0EB6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5EE-39F8-4655-AA6A-4857915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729-4A32-4ED1-84B5-42254AF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577-426B-451C-A9AE-2EFA78E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FA9D-4C71-4C9C-9800-3DF28AD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1CC8-94DA-4D70-8EB7-3D978944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48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040" y="176796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48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040" y="4242240"/>
            <a:ext cx="25009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B40-0337-4FF2-97E8-B5D3E911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500-92B7-4D55-9E08-D0E089A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AFF-634E-4EDC-A47F-C92B18E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C18-7089-4747-8687-331A50F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-3240"/>
            <a:ext cx="61484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508-C652-4B4C-98C9-92E3B93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65B-FE02-458D-854D-DC06AE6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424224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5DA-B00F-4013-A814-191A68A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7960"/>
            <a:ext cx="379044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4242240"/>
            <a:ext cx="776772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FC7-90D6-4526-8D1E-8C3354C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8614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E009-376D-442E-BC70-28B7401604F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-3240"/>
            <a:ext cx="61484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77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360" y="670716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E4F5D-0037-44CD-BD93-1316237A0A6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-12600"/>
            <a:ext cx="615636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Que lee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5640" y="1440000"/>
            <a:ext cx="8568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i libro favorit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niños de la estación del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t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hristian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ditorial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tern, 1978, 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yecto Multilateral Comeniu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umn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Zuzana Droz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es-ES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43640" y="5543640"/>
            <a:ext cx="446868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2720" y="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libro favori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68360" y="1238400"/>
            <a:ext cx="626436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iños de la estación del 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68720" y="1944720"/>
            <a:ext cx="62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ane F.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cía en Ale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a adicta a la hero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libro autobiográfico describe su vida durante la adoles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ristiane sobrevivió, pero nunca llegó a desengancharse comple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ve con su hijo y sus tíos en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hepatitis C y problemas circul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El libr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161720"/>
            <a:ext cx="77742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ristiane y su família se mudaron a un barrio aleman, que era lleno de las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hica empezó a tomarlas y entonces necesitaba mucho dinero. Por eso trabajaba como prostit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tenía muchos amigos, y casi todos que tenían murier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 madre descubrió que pasaba, y quería que se su hija iría a casa de su abuela, que vivía en un pueb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27280" y="5280120"/>
            <a:ext cx="42483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35280" y="-3600"/>
            <a:ext cx="61531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elícula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elícula se hizó en el año 1980/198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44720" y="2592360"/>
            <a:ext cx="730080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4920" y="-3600"/>
            <a:ext cx="61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hristian con su novi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87640" y="1816200"/>
            <a:ext cx="7481880" cy="55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52360" y="320760"/>
            <a:ext cx="6156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Mi opin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03640" y="1788840"/>
            <a:ext cx="77752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ese libro, porque la historia es verdadera y muy fuerte. Todavía no he visto la pelíc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44720" y="3168720"/>
            <a:ext cx="7853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0:58:17Z</dcterms:created>
  <dc:creator>villena4dos02 villena4dos02</dc:creator>
  <dc:description/>
  <dc:language>en-US</dc:language>
  <cp:lastModifiedBy/>
  <cp:revision>0</cp:revision>
  <dc:subject/>
  <dc:title/>
</cp:coreProperties>
</file>