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557-C674-466E-970C-72E9ED33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695-0701-4E4D-90CB-039BB8C7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B6B-7C20-4660-8A08-5EE146D3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553-67DF-4767-A304-40697E3D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4BE-5DC7-4128-845A-45DE3AD3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E74F-CD6F-451B-81F4-481090C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C6F0-BB33-49B7-9345-939F799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342B-F0E9-4F61-8B3C-174A95B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2134-CFC3-4D16-98E9-015FFAE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0306-11DD-454E-AE57-4D7B31F3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5C1-5DF3-4EB8-B20E-EAF9DDC9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3DB-13FC-4D0C-B00F-2050BE1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A3E7-953C-4E3F-BBAF-CD41B7A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D2A4-E53B-4FB6-9B98-FD9708ED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AC55-2AE9-458E-9226-CC07F4A0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7464-1AA3-47BD-8289-18FB580C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CDCC-8EF6-4CCC-A1C8-FD7C9637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133-A09A-43A3-80F3-C49FED73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784-BFF6-4A69-8E45-B07C6DE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EA8-8464-46FC-8AE5-0B12DF1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9CA-6A2B-4907-843F-1D8F27AA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14F-6A8F-463F-9C97-0C7D466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EA4-CFEB-473B-92BB-B383BC5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089-B95E-423B-86CE-51B3E10F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D2113-C31A-445E-A4F0-9FF567A36154}" type="slidenum"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09858-7F3A-459A-AB1C-D2BEB2E65CF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ta de invisibil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Multilateral Comenius: '¿Qué lees?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na: Paula Romero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upo: 2º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Envidia de Harry Po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í tienes tu nueva manta de invisi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 te proporciona discreción y más información de la que puedas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96000" y="3887640"/>
            <a:ext cx="16574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Tus amigos te ocultan secre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 preocupes, Mike! Con nuestra manta de invisibilidad te enterarás de todo. Sólo tienes que seguir las instrucciones, son senci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 el siguiente manual de instru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32360" y="4319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mprueba que nadie te ve con tu man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entamente coloca tu manta de forma que te cubra entero, de pies a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o hables ni hagas mucho ruido, a lo mejor te delatas tú s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isfruta de tu manta de la invisib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87640" y="5315040"/>
            <a:ext cx="2266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os de uso de la ma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stás castigado, no dudes en utilizarla para poder salir a algún 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s amigos te ocultan cosas. Averigu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es en Hogwa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Dios todopoder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mendable no utilizar en otros casos puede llegar a ser peligr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os tienen u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tienen una, desde este hombre desconocido hasta el mismísimo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2462400" cy="213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14560" y="410364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esta manta de la invisibilidad te regalamos un mocho (del nuevo juego) y una varita con apertura para llav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68320" y="4464000"/>
            <a:ext cx="294804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14640" y="5327640"/>
            <a:ext cx="3429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o ú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 sólo por el módico precio d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00.000,99$ (IVA no inclu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ísimo mejor que ofertas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87640" y="4608360"/>
            <a:ext cx="4967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¡Advertenc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seguramos que con estos productos te pueda llegar carta de Hogwarts o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ceptamos devoluciones a no ser que esta no funcione. Mala suerte si se te rompe, no arregla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7640" y="4392720"/>
            <a:ext cx="38354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8:38:20Z</dcterms:created>
  <dc:creator>villena2bde11 villena2bde11</dc:creator>
  <dc:description/>
  <dc:language>en-US</dc:language>
  <cp:lastModifiedBy>villena2bde11 villena2bde11</cp:lastModifiedBy>
  <dcterms:modified xsi:type="dcterms:W3CDTF">2014-05-29T08:21:03Z</dcterms:modified>
  <cp:revision>3</cp:revision>
  <dc:subject/>
  <dc:title/>
</cp:coreProperties>
</file>