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70EA-3913-442C-B792-D0E1932E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0579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D62D-29FC-4F3D-92FE-47F5E3B7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9059-E13D-415C-9E3B-406A097D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2116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304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2116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304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2660-F0DC-4906-BBAD-FF4E8918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0359-B053-40B8-BB8B-6447BEEA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640" y="1768320"/>
            <a:ext cx="88185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1876-B1B9-440F-8740-42125233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88185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94E5-60AC-451D-A2D3-32A945DE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1F76-7642-4DAD-9B3C-9A3C8B0E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D19F-B5FA-498A-88BE-7D71A6F6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88185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B8DB-AA35-43E5-B741-C5CD3268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7545-1519-431A-9121-145386BC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768320"/>
            <a:ext cx="88185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9D61-D1FF-4BE1-AE34-B73EF43A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872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C195-BA36-49B3-980D-0FF0A2F4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3A2A-7671-4936-858A-C68D2156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640" y="40579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4434-EDD3-4348-AA16-F4C74727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872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1560-5BEA-4C5B-9566-1CA19866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2116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0304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64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2116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0304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44E6-4911-40BE-BFFF-5F6F0B06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88185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8052-AA43-45F0-AC46-33A1E18A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B86E-BC43-4B89-8CF0-F402D29A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1C8B-4AC6-498C-B0F5-5D9114EB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88185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471E-B5C9-4B40-9EFB-267EC22E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3773-F60D-46E9-955D-D68E1B1B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BC5E-E86F-4C9D-B4ED-2258CFA7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C5EC-439F-4C7B-B539-C3335FAD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51E58-74C5-4F11-B776-D0A032F98748}" type="slidenum">
              <a: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9640" y="1768320"/>
            <a:ext cx="88185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280" y="6995880"/>
            <a:ext cx="233676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71480" y="6995880"/>
            <a:ext cx="31798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7080" y="6995880"/>
            <a:ext cx="233676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B5F93-C2A9-4658-ABDB-E5C220C8BCB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5061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ta de invisibilida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yecto Multilateral Comenius: '¿Qué lees?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ES Isabel de Vil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fesor: José Andrés M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umna: Paula Romero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upo: 2º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Envidia de Harry Pot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9320" cy="429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quí tienes tu nueva manta de invisi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 te proporciona discreción y más información de la que puedas sa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696000" y="3887640"/>
            <a:ext cx="165744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Tus amigos te ocultan secret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e preocupes, Mike! Con nuestra manta de invisibilidad te enterarás de todo. Sólo tienes que seguir las instrucciones, son senci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e el siguiente manual de instrucci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832360" y="431964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ru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Comprueba que nadie te ve con tu man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Lentamente coloca tu manta de forma que te cubra entero, de pies a cab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No hables ni hagas mucho ruido, a lo mejor te delatas tú so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Disfruta de tu manta de la invisibilid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887640" y="5315040"/>
            <a:ext cx="226692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sos de uso de la man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estás castigado, no dudes en utilizarla para poder salir a algún l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s amigos te ocultan cosas. Averigua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ves en Hogwar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es Harry Po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es Dios todopoder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omendable no utilizar en otros casos puede llegar a ser peligr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dos tienen u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os tienen una, desde este hombre desconocido hasta el mismísimo Harry Po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56000" indent="0">
              <a:lnSpc>
                <a:spcPct val="93000"/>
              </a:lnSpc>
              <a:spcAft>
                <a:spcPts val="5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---------------------------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696000" y="3743280"/>
            <a:ext cx="2462400" cy="2130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114560" y="4103640"/>
            <a:ext cx="2485800" cy="18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FE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esta manta de la invisibilidad te regalamos un mocho (del nuevo juego) y una varita con apertura para llav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68320" y="4464000"/>
            <a:ext cx="2948040" cy="2549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914640" y="5327640"/>
            <a:ext cx="3429000" cy="12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cio ún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n sólo por el módico precio d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500.000,99$ (IVA no inclui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chísimo mejor que ofertas d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087640" y="4608360"/>
            <a:ext cx="496728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¡Advertenci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aseguramos que con estos productos te pueda llegar carta de Hogwarts o simil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aceptamos devoluciones a no ser que esta no funcione. Mala suerte si se te rompe, no arregla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17640" y="4392720"/>
            <a:ext cx="38354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7T08:38:20Z</dcterms:created>
  <dc:creator>villena2bde11 villena2bde11</dc:creator>
  <dc:description/>
  <dc:language>en-US</dc:language>
  <cp:lastModifiedBy>villena2bde11 villena2bde11</cp:lastModifiedBy>
  <dcterms:modified xsi:type="dcterms:W3CDTF">2014-05-29T08:21:03Z</dcterms:modified>
  <cp:revision>3</cp:revision>
  <dc:subject/>
  <dc:title/>
</cp:coreProperties>
</file>