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A7EC-F981-40F5-B6BF-C4DF9887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37F-4800-4BA4-B85A-1033DA54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521-3261-46C0-89FA-6FF3362A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2116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30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2116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30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1FC5-EC2B-4CCD-BD98-A4A714E4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6122-E38A-40DF-8389-65AD979D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83E0-206D-4AF3-9308-459F3DC5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A694-EA29-43D1-9D13-097A5B21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B891-A14D-4E4B-8FD9-8D3617A3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E275-DF98-46B3-9FC6-EE901B55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88185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9BA9-B689-489C-B348-2935B39B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5091-1C60-4F0D-ABE6-6DCEE79C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D47-6FCE-48E4-9D0C-708B9EBC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530E-7B56-4E78-A7E9-60B66A6F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350E-7AF3-422E-B2E9-0F53EDC8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ADF2-3877-4EE8-B46A-B655F200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B7D0-B41E-4DFD-8910-9BFDB9A1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2116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030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2116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030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F525-5991-4213-B877-20506682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E63-9D51-4869-BA1C-8C7D0BB3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32A-4A06-4596-983C-3E69D8BB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8E1-9DBB-4CBF-8E61-91E82AA0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88185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A69-BE4A-4FD6-A8F0-B733B233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8BB0-695D-49FD-91CC-BCE28E7C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1B6F-5847-4540-AE5F-5B1F72C2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E95A-C876-45D9-A196-6C1D95F7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CE482-D2CF-482F-99C8-AE619E6C1159}" type="slidenum">
              <a: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280" y="6995880"/>
            <a:ext cx="233676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71480" y="6995880"/>
            <a:ext cx="31798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7080" y="6995880"/>
            <a:ext cx="233676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11638-4CCA-40EB-B7A7-C52AEF8B140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ta de invisibilid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yecto Multilateral Comenius: '¿Qué lees?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esor: José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na: Paula Romero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upo: 2º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Envidia de Harry Po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uí tienes tu nueva manta de invisi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 te proporciona discreción y más información de la que puedas sa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696000" y="3887640"/>
            <a:ext cx="165744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Tus amigos te ocultan secret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e preocupes, Mike! Con nuestra manta de invisibilidad te enterarás de todo. Sólo tienes que seguir las instrucciones, son senci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e el siguiente manual de instruc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32360" y="431964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ru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Comprueba que nadie te ve con tu man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Lentamente coloca tu manta de forma que te cubra entero, de pies a cab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No hables ni hagas mucho ruido, a lo mejor te delatas tú so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Disfruta de tu manta de la invisibilid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87640" y="5315040"/>
            <a:ext cx="226692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sos de uso de la man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estás castigado, no dudes en utilizarla para poder salir a algún l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s amigos te ocultan cosas. Averigua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ves en Hogwar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es Harry Po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es Dios todopoder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mendable no utilizar en otros casos puede llegar a ser peligr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dos tienen u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s tienen una, desde este hombre desconocido hasta el mismísimo Harry Po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5600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---------------------------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696000" y="3743280"/>
            <a:ext cx="2462400" cy="2130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114560" y="4103640"/>
            <a:ext cx="248580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esta manta de la invisibilidad te regalamos un mocho (del nuevo juego) y una varita con apertura para llav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68320" y="4464000"/>
            <a:ext cx="2948040" cy="254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914640" y="5327640"/>
            <a:ext cx="342900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cio ú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n sólo por el módico precio d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500.000,99$ (IVA no inclu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chísimo mejor que ofertas d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87640" y="4608360"/>
            <a:ext cx="49672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¡Advertenci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aseguramos que con estos productos te pueda llegar carta de Hogwarts o simi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aceptamos devoluciones a no ser que esta no funcione. Mala suerte si se te rompe, no arregla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17640" y="4392720"/>
            <a:ext cx="38354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08:38:20Z</dcterms:created>
  <dc:creator>villena2bde11 villena2bde11</dc:creator>
  <dc:description/>
  <dc:language>en-US</dc:language>
  <cp:lastModifiedBy>villena2bde11 villena2bde11</cp:lastModifiedBy>
  <dcterms:modified xsi:type="dcterms:W3CDTF">2014-05-29T08:21:03Z</dcterms:modified>
  <cp:revision>3</cp:revision>
  <dc:subject/>
  <dc:title/>
</cp:coreProperties>
</file>