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94-E8C9-4310-A92D-845B9229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1EB-CAC1-45A6-921B-0C6C39C6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3AD-962C-4448-AADD-654931CB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A57-44F4-4350-B885-8666CA76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92E-99EE-49B6-8521-CF649E8A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1907-BFD4-4A32-951C-FDEE71B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8815-5E9C-4EA4-9F75-C03B9C6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09F-0B5D-4C69-90D7-CE7A0EA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C23-D8FE-4600-857F-B82CA31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779C-6BF8-4336-A0F7-1B730A9B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9220-1AFB-4672-B583-D5FD471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B6A-7083-4531-9E93-5C60209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B524-58D3-49CA-9393-074D035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80EB-F69B-4707-9D03-CD04907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2A3-B5E0-400C-A17B-D7F1CED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762B-CDDC-423E-9FEA-E7770215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057920"/>
            <a:ext cx="283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9D54-7E5E-4400-9EDC-4A092600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8C8-E05D-4BF2-9746-3658790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008-0C3B-4D8F-907E-414E8E38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F6A-5DE8-4A6D-BCB6-30C6428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FB8-B5AE-4A04-BBC9-D6D1980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D31-A76B-4A40-8017-3E6F349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579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DB3-0CF8-40A9-A709-C67C4F99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057920"/>
            <a:ext cx="8818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18A-2FC6-4954-930E-7A9DB3FB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AFC6-F7CF-4B95-A1F3-38AD5A6A6DDD}" type="slidenum">
              <a:rPr b="0" lang="ca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4C722-0269-4456-9D22-716B405C89A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061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ta de invisibilid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yecto Multilateral Comenius: '¿Qué lees?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S Isabel de Vil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or: José Andrés M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na: Paula Romero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upo: 2º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Envidia de Harry Po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í tienes tu nueva manta de invisi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 te proporciona discreción y más información de la que puedas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96000" y="3887640"/>
            <a:ext cx="16574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Tus amigos te ocultan secre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 preocupes, Mike! Con nuestra manta de invisibilidad te enterarás de todo. Sólo tienes que seguir las instrucciones, son senci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 el siguiente manual de instru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32360" y="4319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mprueba que nadie te ve con tu man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entamente coloca tu manta de forma que te cubra entero, de pies a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o hables ni hagas mucho ruido, a lo mejor te delatas tú s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Disfruta de tu manta de la invisib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87640" y="5315040"/>
            <a:ext cx="2266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sos de uso de la ma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stás castigado, no dudes en utilizarla para poder salir a algún l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s amigos te ocultan cosas. Averigu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es en Hogwa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es Dios todopoder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mendable no utilizar en otros casos puede llegar a ser peligr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os tienen u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tienen una, desde este hombre desconocido hasta el mismísimo Harry Po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96000" y="3743280"/>
            <a:ext cx="2462400" cy="213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14560" y="4103640"/>
            <a:ext cx="248580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esta manta de la invisibilidad te regalamos un mocho (del nuevo juego) y una varita con apertura para llav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8320" y="4464000"/>
            <a:ext cx="294804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14640" y="5327640"/>
            <a:ext cx="34290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o ú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 sólo por el módico precio d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500.000,99$ (IVA no inclu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ísimo mejor que ofertas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87640" y="4608360"/>
            <a:ext cx="4967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¡Advertenc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768320"/>
            <a:ext cx="88203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seguramos que con estos productos te pueda llegar carta de Hogwarts o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ceptamos devoluciones a no ser que esta no funcione. Mala suerte si se te rompe, no arregla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7640" y="4392720"/>
            <a:ext cx="38354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8:38:20Z</dcterms:created>
  <dc:creator>villena2bde11 villena2bde11</dc:creator>
  <dc:description/>
  <dc:language>en-US</dc:language>
  <cp:lastModifiedBy>villena2bde11 villena2bde11</cp:lastModifiedBy>
  <dcterms:modified xsi:type="dcterms:W3CDTF">2014-05-29T08:21:03Z</dcterms:modified>
  <cp:revision>3</cp:revision>
  <dc:subject/>
  <dc:title/>
</cp:coreProperties>
</file>