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624F-811D-43B7-B589-E03BCB20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579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622C-EDBB-4C54-86B0-FC76D343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6455-352B-40B1-840A-2C78F94A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2116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304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2116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304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0043-95A4-48B4-8219-CFDCA8C8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2163-12F0-48AF-AC77-EF161737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AE03-BD7C-4BE7-A507-CCD6FC4A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FEE9-B0E0-4312-AE7B-DD43E5C3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E4F5-E4E8-416D-9545-F7D51849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93BE-B227-4736-B899-FB4CC91A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88185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25AC-4258-4037-9F79-F0012BDC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3857-F81F-4EFF-BD69-5DF070F8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7112-B7AF-4A4B-BA71-46177742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872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462E-06FB-4BFF-97D6-2356031F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B791-F606-4F39-B38E-79CD5B2B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640" y="40579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A89A-CBFA-4217-B3B1-B4B79959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872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245D-795C-475E-B96F-08A47517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2116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0304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64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2116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0304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7C74-A538-4518-801F-F3174F81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C01D-B889-4522-B32E-C2DD6B63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89BE-C368-44DD-AE67-7C128F42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9172-5914-48B5-B308-7938A9B9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88185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6CA0-10A4-4912-BEA7-27E132A8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A80F-05F5-4877-A7C2-C5D1BC2A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7C7-90EF-49B8-A174-EB3487BA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F2D8-1DCF-466D-BECE-E6DE4565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E2A64-EEFD-43E1-9C24-6C605BFA15F6}" type="slidenum">
              <a: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280" y="6995880"/>
            <a:ext cx="233676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71480" y="6995880"/>
            <a:ext cx="31798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7080" y="6995880"/>
            <a:ext cx="233676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71982-728E-4590-8C85-D4F7554CBA6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ta de invisibilid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yecto Multilateral Comenius: '¿Qué lees?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ES Isabel de Vil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fesor: José Andrés M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na: Paula Romero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upo: 2º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Envidia de Harry Pot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932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quí tienes tu nueva manta de invisi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 te proporciona discreción y más información de la que puedas sa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696000" y="3887640"/>
            <a:ext cx="165744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Tus amigos te ocultan secret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e preocupes, Mike! Con nuestra manta de invisibilidad te enterarás de todo. Sólo tienes que seguir las instrucciones, son senci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e el siguiente manual de instruc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832360" y="431964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ru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Comprueba que nadie te ve con tu man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Lentamente coloca tu manta de forma que te cubra entero, de pies a cab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No hables ni hagas mucho ruido, a lo mejor te delatas tú so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Disfruta de tu manta de la invisibilid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87640" y="5315040"/>
            <a:ext cx="226692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sos de uso de la man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estás castigado, no dudes en utilizarla para poder salir a algún l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s amigos te ocultan cosas. Averigua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ves en Hogwar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es Harry Po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es Dios todopoder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mendable no utilizar en otros casos puede llegar a ser peligr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dos tienen u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os tienen una, desde este hombre desconocido hasta el mismísimo Harry Po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56000" indent="0">
              <a:lnSpc>
                <a:spcPct val="93000"/>
              </a:lnSpc>
              <a:spcAft>
                <a:spcPts val="5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---------------------------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696000" y="3743280"/>
            <a:ext cx="2462400" cy="2130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114560" y="4103640"/>
            <a:ext cx="248580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esta manta de la invisibilidad te regalamos un mocho (del nuevo juego) y una varita con apertura para llav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68320" y="4464000"/>
            <a:ext cx="2948040" cy="254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914640" y="5327640"/>
            <a:ext cx="342900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cio ú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n sólo por el módico precio d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500.000,99$ (IVA no inclui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chísimo mejor que ofertas d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087640" y="4608360"/>
            <a:ext cx="496728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¡Advertenci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aseguramos que con estos productos te pueda llegar carta de Hogwarts o simil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aceptamos devoluciones a no ser que esta no funcione. Mala suerte si se te rompe, no arregla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17640" y="4392720"/>
            <a:ext cx="38354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7T08:38:20Z</dcterms:created>
  <dc:creator>villena2bde11 villena2bde11</dc:creator>
  <dc:description/>
  <dc:language>en-US</dc:language>
  <cp:lastModifiedBy>villena2bde11 villena2bde11</cp:lastModifiedBy>
  <dcterms:modified xsi:type="dcterms:W3CDTF">2014-05-29T08:21:03Z</dcterms:modified>
  <cp:revision>3</cp:revision>
  <dc:subject/>
  <dc:title/>
</cp:coreProperties>
</file>