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A6271-0651-436A-97B4-51B1A170C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10AB4-B76C-497A-AFDC-0908AB2B7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97C42-E384-4F16-BB43-640869CFA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9560B-605F-4970-AF94-FAA32BAC2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8AE46-E57B-45D0-9F51-C32BD8CD7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5148D-DFBF-469A-9074-AF322929C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DF7A0-A062-4EC1-8746-28B228EA4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F8349-90B9-4CBB-8CA1-D67500F85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0BB9F-5442-4366-93EE-97A5B42CA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E5E5C-CE13-420E-A352-6360E057F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D1E43-D09C-438C-9560-153F4BCCD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B0643-5FE0-4E7F-8820-A17ACE6A9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35381-CC97-4AE0-B1D2-961CC17BE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B05A7-D4F3-48A7-BCB7-4825CBB78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A6F28-FEBF-4666-95D5-AFFA6E70C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B4532-652E-4101-80CC-FC9BB9CB9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55AE6-BC6F-4CCD-A722-6635C5058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54727-C5D6-4912-98FB-95541AF2B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AA520-56D7-4873-B7E0-5BF3B954E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FEE80-4034-48D8-9488-CFFA2B7A5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34181-4278-4E94-A775-E6C8184FF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52010-1DD5-421E-8629-EEBCF8316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1EE69-95B5-4D69-87C1-559BCAA43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48C74-C2CD-4FC9-8C77-5494A66AC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019F2-8B22-4057-8B05-9883AF986B5E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9C3DC-E210-47CC-A014-948B07B3AC39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6019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99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380880" y="5029200"/>
            <a:ext cx="830592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Maria Gaetana Agnesi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e796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229600" cy="4525920"/>
          </a:xfrm>
          <a:prstGeom prst="rect">
            <a:avLst/>
          </a:prstGeom>
          <a:solidFill>
            <a:srgbClr val="be7960"/>
          </a:solidFill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Constantia"/>
              </a:rPr>
              <a:t>·Nacida en Milán el 16 de mayo de 1718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Constantia"/>
              </a:rPr>
              <a:t>·Hija de </a:t>
            </a:r>
            <a:r>
              <a:rPr b="0" lang="it-IT" sz="3200" spc="-1" strike="noStrike">
                <a:solidFill>
                  <a:srgbClr val="ffffff"/>
                </a:solidFill>
                <a:latin typeface="Constantia"/>
              </a:rPr>
              <a:t> Prietro Agnesi y Anna Brivi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Constantia"/>
              </a:rPr>
              <a:t>·Ella de carácter retraído y solitari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Constantia"/>
              </a:rPr>
              <a:t>· Los trece años el dominio del latín, el griego el hebreo, el francés, el español y el alemá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Constantia"/>
              </a:rPr>
              <a:t>·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A partir de los 20 años, Agnesi abandona toda actividad social y se concentra en el estudio de las matemática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685800" y="304920"/>
            <a:ext cx="7543800" cy="850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Biografi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2592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 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Las 1.000 páginas de texto y las 50 de ilustraciones resultan sin embargo muy familiares al lector moderno, reflejando el mayor mérito de Agnesi,crear el primer texto completo de Cálcul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·Descubrió un término naval, que identifica la cuerda o cabo que hace girar la vel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1748 se publica en Milán la obra más famosa de Agnesi, Instituzioni analítiche ad uso della gioventú italiana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762120" y="457200"/>
            <a:ext cx="777240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99"/>
                </a:solidFill>
                <a:latin typeface="Arial Black"/>
              </a:rPr>
              <a:t>Obras matematica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99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·Maria nunca pudo entrar a la academia francesa por ser muje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· Agnesi fue elegida por la Academia de las Ciencias de Bologna donde dedicaron su libro a la Emperatriz María Teresa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·Después, fue reconocida por el Papa Benedicto XIV quien estaba interesado en las matematica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A partir de la enfermedad del padre, posiblemente ya había decidido abandonar las matemáticas, e incluso el mundo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·La llamaban la bruja de Agnesi por sus conocimientosy su descubrimiento sobre los calculos de una curva para provechos naval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·Murió en el 9 de enero de 1799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3T21:34:09Z</dcterms:created>
  <dc:creator>hpç</dc:creator>
  <dc:description/>
  <dc:language>en-US</dc:language>
  <cp:lastModifiedBy>hpç</cp:lastModifiedBy>
  <dcterms:modified xsi:type="dcterms:W3CDTF">2014-03-13T22:42:2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