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1E1-71C7-47D1-8591-7462859A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713-C6B8-46CB-B8D8-E4F59846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FB3-8490-44B8-8401-FBE03F69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8DA-FBB9-4813-8141-E93E07F9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1296-2124-4FE7-A4F4-D2E1F682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2F33-A131-4A8F-AB8F-7C41B548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11D1-5097-4DD6-B099-75ABAF06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D370-CDDB-4179-8F1C-8CE019BA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8F6B-76AB-4FDA-A43D-CB9ABCE1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0007-8E7C-42FB-8DEE-355EF97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7B9A-4BFB-4844-A7BA-68947A50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71D-7B1B-4174-9E09-A15789C2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E6EE-E061-42E7-97B2-37477A0C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54AA-6BA8-4C1F-AB1F-6BAA04F6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2601-2247-4E4A-BA9E-08E66D9B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CF80-DC3E-435C-B6EB-C75A8129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049F-E979-4BDB-9C73-86FDA9E9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256-9129-4CE8-A598-48159957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412-B68B-4E49-9E77-AEF8E8C2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C07-9895-4618-84AF-697449B8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461-22CE-448C-A2DE-C1E13882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7A5-6FE7-4A36-9277-D77AFA0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0A2-CD0F-435F-ADC9-B003148F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E67-72AA-40F0-BB2A-5240755D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4FF4-73CF-4FB3-A350-432C01D64B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F2AF-BFE1-4F42-9759-07E78F8B19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5029200"/>
            <a:ext cx="8305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ia Gaetana Agnes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Nacida en Milán el 16 de mayo de 17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Hija de </a:t>
            </a:r>
            <a:r>
              <a:rPr b="0" lang="it-IT" sz="3200" spc="-1" strike="noStrike">
                <a:solidFill>
                  <a:srgbClr val="ffffff"/>
                </a:solidFill>
                <a:latin typeface="Constantia"/>
              </a:rPr>
              <a:t> Prietro Agnesi y Anna Briv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Ella de carácter retraído y solit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 Los trece años el dominio del latín, el griego el hebreo, el francés, el español y el alem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os 20 años, Agnesi abandona toda actividad social y se concentra en el estudio de las matemá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304920"/>
            <a:ext cx="75438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iograf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1.000 páginas de texto y las 50 de ilustraciones resultan sin embargo muy familiares al lector moderno, reflejando el mayor mérito de Agnesi,crear el primer texto completo de Cálc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·Descubrió un término naval, que identifica la cuerda o cabo que hace girar la ve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1748 se publica en Milán la obra más famosa de Agnesi, Instituzioni analítiche ad uso della gioventú italian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457200"/>
            <a:ext cx="7772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Arial Black"/>
              </a:rPr>
              <a:t>Obras matemati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aria nunca pudo entrar a la academia francesa por ser muj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 Agnesi fue elegida por la Academia de las Ciencias de Bologna donde dedicaron su libro a la Emperatriz María Tere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Después, fue reconocida por el Papa Benedicto XIV quien estaba interesado en las matema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a enfermedad del padre, posiblemente ya había decidido abandonar las matemáticas, e incluso el mun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La llamaban la bruja de Agnesi por sus conocimientosy su descubrimiento sobre los calculos de una curva para provechos nav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urió en el 9 de enero de 1799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21:34:09Z</dcterms:created>
  <dc:creator>hpç</dc:creator>
  <dc:description/>
  <dc:language>en-US</dc:language>
  <cp:lastModifiedBy>hpç</cp:lastModifiedBy>
  <dcterms:modified xsi:type="dcterms:W3CDTF">2014-03-13T22:42:2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