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318-D990-44EE-A1E5-25128B7E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63C-69F0-4EE1-A657-F20A195E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015-3B68-4CEE-A084-23A16931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330-40ED-4D14-8E5F-FCB9B014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D2EA-0259-4035-8DE8-831E25B7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032A-E684-4BA2-812C-07B17227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9B16-2846-451B-923C-0D2C0C69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5595-1B9F-4804-A145-B0735ECF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EBA-9315-4B1A-801A-13157C2B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6AC0-F490-41DE-8D12-A4C5359C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E158-10B7-4905-84D7-CBD5221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DFA-7061-4AEE-94DE-AF39A140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DD1B-DD1A-4B1C-BB18-645955A9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10A9-2B96-4993-8EB6-D6B838B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1A24-114A-466D-9FE2-64AFF81F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5D2C-0419-4F14-92E2-258C5C3C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AA1C-4197-4CDB-B14C-C6CC8681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839-BA21-4763-963E-D5A7B3BD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138-F7E4-474C-8E7B-AFC54DF5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2EC-A55B-4591-9F40-0A6F3ECB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CE4-2F64-4FDE-A181-1393A23D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39D-0D8F-47E0-B6D7-B05ADA7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C57-2541-4021-887C-5D5F841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D88-1D82-4D06-A797-4D1153F6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F5FE-B005-4CEF-A943-06E6B01BA0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50BD-9E6E-4201-9F63-FFF0DA0F4C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5029200"/>
            <a:ext cx="8305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ia Gaetana Agnes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Nacida en Milán el 16 de mayo de 17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Hija de </a:t>
            </a:r>
            <a:r>
              <a:rPr b="0" lang="it-IT" sz="3200" spc="-1" strike="noStrike">
                <a:solidFill>
                  <a:srgbClr val="ffffff"/>
                </a:solidFill>
                <a:latin typeface="Constantia"/>
              </a:rPr>
              <a:t> Prietro Agnesi y Anna Briv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Ella de carácter retraído y soli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 Los trece años el dominio del latín, el griego el hebreo, el francés, el español y el alem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nstantia"/>
              </a:rPr>
              <a:t>·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os 20 años, Agnesi abandona toda actividad social y se concentra en el estudio de las matemá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304920"/>
            <a:ext cx="75438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iograf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1.000 páginas de texto y las 50 de ilustraciones resultan sin embargo muy familiares al lector moderno, reflejando el mayor mérito de Agnesi,crear el primer texto completo de Cálc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·Descubrió un término naval, que identifica la cuerda o cabo que hace girar la ve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1748 se publica en Milán la obra más famosa de Agnesi, Instituzioni analítiche ad uso della gioventú italian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457200"/>
            <a:ext cx="7772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Arial Black"/>
              </a:rPr>
              <a:t>Obras matemati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aria nunca pudo entrar a la academia francesa por ser muj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 Agnesi fue elegida por la Academia de las Ciencias de Bologna donde dedicaron su libro a la Emperatriz María Tere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Después, fue reconocida por el Papa Benedicto XIV quien estaba interesado en las matematic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partir de la enfermedad del padre, posiblemente ya había decidido abandonar las matemáticas, e incluso el mu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La llamaban la bruja de Agnesi por sus conocimientosy su descubrimiento sobre los calculos de una curva para provechos nav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·Murió en el 9 de enero de 1799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21:34:09Z</dcterms:created>
  <dc:creator>hpç</dc:creator>
  <dc:description/>
  <dc:language>en-US</dc:language>
  <cp:lastModifiedBy>hpç</cp:lastModifiedBy>
  <dcterms:modified xsi:type="dcterms:W3CDTF">2014-03-13T22:42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