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5B79-DFAA-4206-A935-CED6C2BAD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2721-978E-4FF5-BFA3-E02D1EB8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1128-55A2-423A-B6B5-A4CF16057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EAB0-78CD-4CC0-AA4C-946AFD843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9E3E-83B9-4AC2-930A-A1CCB4DBF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F071-3FC8-4459-8AD7-BAADA8F9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C7FC-F813-43A1-A52A-8251A646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8380-3E64-4F7C-B6CC-04266A80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DEF3-DF35-454B-BB9D-C93AFE08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DBDE-FEBF-4008-8BE5-775D203B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31D0-E551-42B9-ADE4-34F5AF04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9D6C-B25F-42D7-BA03-6F7B202C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13DC8-2024-43C2-A968-E97C2196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53F0B-A7E8-40A3-A526-395B8797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A277-8DB2-49E2-A7B3-2C23D923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D320-F979-4A8C-B022-183758C45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92AB-52EF-40E4-8DE2-8D2860777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AE43-0CFF-40DA-8160-48849933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6B45-5C52-47BC-8C0E-92A6ECF9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F7A3-534C-4E37-963C-CC4B7D49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6049-CE17-43EA-BA33-3F59DE2F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652A-67DF-4C6B-9851-9BEC743B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5502-2DF5-416D-8626-F9A45DC1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F28F-7785-46E2-A474-065CD147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B2F1-E926-4625-A6D7-C8F6F7AB5A8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508A-F75A-41B3-A25B-4DB8D78D38E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6019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0880" y="5029200"/>
            <a:ext cx="83059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aria Gaetana Agnesi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e796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solidFill>
            <a:srgbClr val="be7960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nstantia"/>
              </a:rPr>
              <a:t>·Nacida en Milán el 16 de mayo de 171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nstantia"/>
              </a:rPr>
              <a:t>·Hija de </a:t>
            </a:r>
            <a:r>
              <a:rPr b="0" lang="it-IT" sz="3200" spc="-1" strike="noStrike">
                <a:solidFill>
                  <a:srgbClr val="ffffff"/>
                </a:solidFill>
                <a:latin typeface="Constantia"/>
              </a:rPr>
              <a:t> Prietro Agnesi y Anna Briv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nstantia"/>
              </a:rPr>
              <a:t>·Ella de carácter retraído y solitar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nstantia"/>
              </a:rPr>
              <a:t>· Los trece años el dominio del latín, el griego el hebreo, el francés, el español y el alemá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nstantia"/>
              </a:rPr>
              <a:t>·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 partir de los 20 años, Agnesi abandona toda actividad social y se concentra en el estudio de las matemátic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304920"/>
            <a:ext cx="7543800" cy="85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Biograf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 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s 1.000 páginas de texto y las 50 de ilustraciones resultan sin embargo muy familiares al lector moderno, reflejando el mayor mérito de Agnesi,crear el primer texto completo de Cálcul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·Descubrió un término naval, que identifica la cuerda o cabo que hace girar la ve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1748 se publica en Milán la obra más famosa de Agnesi, Instituzioni analítiche ad uso della gioventú italiana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62120" y="457200"/>
            <a:ext cx="77724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99"/>
                </a:solidFill>
                <a:latin typeface="Arial Black"/>
              </a:rPr>
              <a:t>Obras matematic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99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·Maria nunca pudo entrar a la academia francesa por ser muj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· Agnesi fue elegida por la Academia de las Ciencias de Bologna donde dedicaron su libro a la Emperatriz María Teres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·Después, fue reconocida por el Papa Benedicto XIV quien estaba interesado en las matematic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 partir de la enfermedad del padre, posiblemente ya había decidido abandonar las matemáticas, e incluso el mund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·La llamaban la bruja de Agnesi por sus conocimientosy su descubrimiento sobre los calculos de una curva para provechos nav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·Murió en el 9 de enero de 1799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3T21:34:09Z</dcterms:created>
  <dc:creator>hpç</dc:creator>
  <dc:description/>
  <dc:language>en-US</dc:language>
  <cp:lastModifiedBy>hpç</cp:lastModifiedBy>
  <dcterms:modified xsi:type="dcterms:W3CDTF">2014-03-13T22:42:2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