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6D3-5914-403B-B978-156212F5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5D5-9FB2-4AFB-96E9-C26FE15D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47B1-60F5-4631-8FB6-FCCDFDBF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58E-755C-4E96-B031-158A3EEA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BF4-3A83-401C-9DA4-A4F9DB86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763-70F0-4C4F-8FAE-62D0615E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CAF-80CC-483D-B5DD-EA5315CC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2C1-0FCA-40D7-BE11-FC240467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809-8526-40F8-B6EE-7E35A8AA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F2A-11F4-43E3-93D7-48E0BD7C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001-8BD7-49AE-A041-54578DA8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F99-4370-4B1F-8189-A2E3970E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447A1-E5DC-4EE0-AD6B-A5CA63D6DEE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yecto Multilateral Comenius: 'Que lees?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lumno: Daniel Gómez F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upo:3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77960" y="1816200"/>
            <a:ext cx="703440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ltura y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ltura a la que puede llegar la mochila voladora es a 1000 metros de altura y podrá alcanzar 100 kilometros por 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35720" y="1511280"/>
            <a:ext cx="432756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57800" y="3914640"/>
            <a:ext cx="45338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joras para la 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ochila voladora se puede mejorar si pagas un poco más y las mejoras son que quepan más cosas en la mochila que llegue a 1.500 metros de altura y llegar a 220 kilometros por 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48280" y="2428920"/>
            <a:ext cx="4327560" cy="30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ventajas de la mochila voladora además de que puedes volar es que en la mochila se pueden meter cosas dentro de la moch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48280" y="2286000"/>
            <a:ext cx="432756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ilotar la 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muy facil de pilotar lo único es que habrá que sacarse un carnet especial para pilotar la mochila volad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1160" y="1768320"/>
            <a:ext cx="299556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504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pilotar la mochila voladora tienes que llevar casco y un traje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48280" y="2359080"/>
            <a:ext cx="432756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muchos tipos de mochilas voladoras de diferente tamaño y diferentes co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11640" y="1555920"/>
            <a:ext cx="4327560" cy="240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11640" y="3959280"/>
            <a:ext cx="431964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ochila voladora se pondrá a la venta a finales del año 2015 en todo el m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48280" y="2089080"/>
            <a:ext cx="432756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ecio de la mochila voladora será entre 300 y 500 euros según la mochila voladora que eli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75360" y="1440000"/>
            <a:ext cx="4327560" cy="2303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40360" y="3757680"/>
            <a:ext cx="4535280" cy="315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9T11:52:54Z</dcterms:created>
  <dc:creator>villena3ac03 villena3ac03</dc:creator>
  <dc:description/>
  <dc:language>en-US</dc:language>
  <cp:lastModifiedBy>villena3ac03 villena3ac03</cp:lastModifiedBy>
  <dcterms:modified xsi:type="dcterms:W3CDTF">2014-06-09T12:04:24Z</dcterms:modified>
  <cp:revision>22</cp:revision>
  <dc:subject/>
  <dc:title/>
</cp:coreProperties>
</file>