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825-267C-48E9-9C26-C4C02FFB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835-3C21-4A00-8143-2C45D7E6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BBF-6BE5-4F08-9F68-C5F51A44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722-3154-4CC9-BC29-33C2B759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27A-25FE-49D1-8150-0E6E57D4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F6F-904C-4D31-935A-3F38652F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5A3-6674-461B-A4A7-D6B1DD80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758-7B39-4753-91CF-51F9A39B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8EF-941D-4D13-8F59-9CA6151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03B-2748-4557-93AA-91490DD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540-A5CD-4E3B-90A5-006BA8A5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5EE-B19E-4E96-BF02-81D6A73D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14B71-71F9-49D8-977E-227063F0362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yecto Multilateral Comenius: 'Que lees?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 Daniel Gómez F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3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7960" y="1816200"/>
            <a:ext cx="70344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y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a la que puede llegar la mochila voladora es a 1000 metros de altura y podrá alcanzar 10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35720" y="1511280"/>
            <a:ext cx="432756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57800" y="3914640"/>
            <a:ext cx="4533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joras para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uede mejorar si pagas un poco más y las mejoras son que quepan más cosas en la mochila que llegue a 1.500 metros de altura y llegar a 220 kilometros por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48280" y="2428920"/>
            <a:ext cx="4327560" cy="30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ventajas de la mochila voladora además de que puedes volar es que en la mochila se pueden meter cosas dentro de la moch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48280" y="2286000"/>
            <a:ext cx="432756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lotar la mochila volad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uy facil de pilotar lo único es que habrá que sacarse un carnet especial para pilotar la mochila vol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1160" y="1768320"/>
            <a:ext cx="29955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pilotar la mochila voladora tienes que llevar casco y un traje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48280" y="2359080"/>
            <a:ext cx="43275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muchos tipos de mochilas voladoras de diferente tamaño y diferentes co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11640" y="1555920"/>
            <a:ext cx="4327560" cy="240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11640" y="3959280"/>
            <a:ext cx="431964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ochila voladora se pondrá a la venta a finales del año 2015 en todo el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8280" y="2089080"/>
            <a:ext cx="43275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ecio de la mochila voladora será entre 300 y 500 euros según la mochila voladora que eli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75360" y="1440000"/>
            <a:ext cx="4327560" cy="230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40360" y="3757680"/>
            <a:ext cx="4535280" cy="315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1:52:54Z</dcterms:created>
  <dc:creator>villena3ac03 villena3ac03</dc:creator>
  <dc:description/>
  <dc:language>en-US</dc:language>
  <cp:lastModifiedBy>villena3ac03 villena3ac03</cp:lastModifiedBy>
  <dcterms:modified xsi:type="dcterms:W3CDTF">2014-06-09T12:04:24Z</dcterms:modified>
  <cp:revision>22</cp:revision>
  <dc:subject/>
  <dc:title/>
</cp:coreProperties>
</file>