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C3E-2E9F-4908-B289-09D5635D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227-EA3F-4A32-B689-CD64FBFA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1D0-815D-48C5-8FBB-65D74955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F56-7D7B-4EE2-ADAA-9560F3FB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FD0-DB84-456E-AC57-A6A2A17A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4DA-72BF-4B19-B8F3-26828DEC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9D8-5074-4491-B836-68B18323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C8A-ADB5-4B04-8A8E-5C828C0D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7CC-CD7D-404B-B18B-EBDDC77D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845-DE8C-4B7F-9872-CABDBEF8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2CC5-B7F4-4BEC-9EF2-C8BC0CD7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005-5274-4F8E-A6B8-BEAAE371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014ED-A940-4438-85CB-A4B64235C9C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yecto Multilateral Comenius: 'Que lees?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lumno: Daniel Gómez F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upo:3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77960" y="1816200"/>
            <a:ext cx="703440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ltura y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ltura a la que puede llegar la mochila voladora es a 1000 metros de altura y podrá alcanzar 100 kilometros por 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35720" y="1511280"/>
            <a:ext cx="432756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57800" y="3914640"/>
            <a:ext cx="45338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joras para la 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ochila voladora se puede mejorar si pagas un poco más y las mejoras son que quepan más cosas en la mochila que llegue a 1.500 metros de altura y llegar a 220 kilometros por 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48280" y="2428920"/>
            <a:ext cx="4327560" cy="30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ventajas de la mochila voladora además de que puedes volar es que en la mochila se pueden meter cosas dentro de la moch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48280" y="2286000"/>
            <a:ext cx="432756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ilotar la 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muy facil de pilotar lo único es que habrá que sacarse un carnet especial para pilotar la mochila volad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1160" y="1768320"/>
            <a:ext cx="299556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504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pilotar la mochila voladora tienes que llevar casco y un traje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48280" y="2359080"/>
            <a:ext cx="432756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muchos tipos de mochilas voladoras de diferente tamaño y diferentes co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11640" y="1555920"/>
            <a:ext cx="4327560" cy="240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11640" y="3959280"/>
            <a:ext cx="431964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ochila voladora se pondrá a la venta a finales del año 2015 en todo el m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48280" y="2089080"/>
            <a:ext cx="432756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ecio de la mochila voladora será entre 300 y 500 euros según la mochila voladora que eli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75360" y="1440000"/>
            <a:ext cx="4327560" cy="2303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40360" y="3757680"/>
            <a:ext cx="4535280" cy="315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9T11:52:54Z</dcterms:created>
  <dc:creator>villena3ac03 villena3ac03</dc:creator>
  <dc:description/>
  <dc:language>en-US</dc:language>
  <cp:lastModifiedBy>villena3ac03 villena3ac03</cp:lastModifiedBy>
  <dcterms:modified xsi:type="dcterms:W3CDTF">2014-06-09T12:04:24Z</dcterms:modified>
  <cp:revision>22</cp:revision>
  <dc:subject/>
  <dc:title/>
</cp:coreProperties>
</file>