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F83F-603B-4D2B-B82C-8968B5F1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842-2E5E-47C4-B967-6F10A8AB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A934-193C-4173-B649-0BB92002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B62-9386-45DF-923D-807DB462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685-9FD7-41EE-8B64-C08A5F6F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71D-BDBE-4E56-B186-DA72D525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A77-AE9B-4269-BF5D-22DD2CC7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3D79-EDB2-4409-B50C-DE83993E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20F0-0B94-4284-A63D-CC4F014B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5992-C454-4C26-9DCE-888162C7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40F9-3E0B-412C-8708-060BF5AD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F83-3405-4B15-9AC3-248F601B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87D8C-99E4-44CD-8CDA-D1424D704F8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chila volad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oyecto Multilateral Comenius: 'Que lees?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lumno: Daniel Gómez F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rupo:3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77960" y="1816200"/>
            <a:ext cx="7034400" cy="40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ltura y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ltura a la que puede llegar la mochila voladora es a 1000 metros de altura y podrá alcanzar 100 kilometros por h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35720" y="1511280"/>
            <a:ext cx="4327560" cy="2468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57800" y="3914640"/>
            <a:ext cx="45338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joras para la mochila volad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ochila voladora se puede mejorar si pagas un poco más y las mejoras son que quepan más cosas en la mochila que llegue a 1.500 metros de altura y llegar a 220 kilometros por h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48280" y="2428920"/>
            <a:ext cx="4327560" cy="30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ventajas de la mochila voladora además de que puedes volar es que en la mochila se pueden meter cosas dentro de la moch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48280" y="2286000"/>
            <a:ext cx="4327560" cy="33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ilotar la mochila volad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muy facil de pilotar lo único es que habrá que sacarse un carnet especial para pilotar la mochila volad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61160" y="1768320"/>
            <a:ext cx="299556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0504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pilotar la mochila voladora tienes que llevar casco y un traje espe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48280" y="2359080"/>
            <a:ext cx="432756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muchos tipos de mochilas voladoras de diferente tamaño y diferentes col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11640" y="1555920"/>
            <a:ext cx="4327560" cy="2404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11640" y="3959280"/>
            <a:ext cx="431964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ochila voladora se pondrá a la venta a finales del año 2015 en todo el mu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48280" y="2089080"/>
            <a:ext cx="432756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ecio de la mochila voladora será entre 300 y 500 euros según la mochila voladora que elij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175360" y="1440000"/>
            <a:ext cx="4327560" cy="2303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40360" y="3757680"/>
            <a:ext cx="4535280" cy="315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9T11:52:54Z</dcterms:created>
  <dc:creator>villena3ac03 villena3ac03</dc:creator>
  <dc:description/>
  <dc:language>en-US</dc:language>
  <cp:lastModifiedBy>villena3ac03 villena3ac03</cp:lastModifiedBy>
  <dcterms:modified xsi:type="dcterms:W3CDTF">2014-06-09T12:04:24Z</dcterms:modified>
  <cp:revision>22</cp:revision>
  <dc:subject/>
  <dc:title/>
</cp:coreProperties>
</file>