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33D-E0E1-495A-AFA5-606AF654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62B-0C63-4D03-A62A-405CFAEF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62B-E25E-4143-9828-DEE654B6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DB3-FD53-4EDE-9BBF-18971C74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0D5-B626-42D7-BDF3-03D084F7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E81-0617-4210-A7EB-8316C4FC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553-21FB-4EA2-9E64-CBB8391D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74D-F26B-4FF5-8B6B-C18D3B9C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43A-D5A4-4D4B-B60C-198BBF21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FAC-5F9B-4CC3-8E03-7E3899F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98B-DE94-4051-8EB3-016DDF2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833-9357-46B4-ADA2-E4384C25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C7166-A99A-4B65-B7C2-E11B5613E4F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¡NDS CURAMA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María Alapont Mart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sto es to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No! ¡Claro que no! Si compras La NDS Curamales ahora tienes el juego de “Esguinces” TOTALMENTE GRATIS. Y por si esto fuera poco te damos un 10% de descuento en tu próxima compra de algo de nuestro departamento de NDS Cura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¡¡¡¡Felices compras!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a se lo que me preguntareis... ¿Qué es esa chorrada que seguro que seguro que no sirve de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es os equivocáis. Este invento es una simple Nintendo DS formateada que con los juegos apropiados que sirve para más que pasar el 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s voy a poner un ejemplo raro que te pase pero que lo deja bastante claro. Se os ha roto el pie y estáis en el desierto sin ningún tipo de ayuda que te pueda curar tu pie, pero casualmente te has traído la NDS Curamales para entretener al pesado de t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1152360"/>
            <a:ext cx="886968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s gracias a eso te has salvado, porque enchufando el juego especial para “Roturas” te entras directamente en el juego y te cura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SALVADO GRACIAS A UN JUEG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fin podemos decir esta frase literalm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2360" y="3600360"/>
            <a:ext cx="5616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ESO ES SOLO PARA LOS 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Claro que no! Es una consola que sirve para todo tipos de fracturas, esguinces, operaciones, etc. Solo hay que tener los juegos apropiados para cada circun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5640" y="3816360"/>
            <a:ext cx="66661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o no me lo podré permitir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erdad es que es muy asequible. Por solo un razonado precio puedes comprar la NDS Curamales y los juegos, a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8280" y="1957320"/>
            <a:ext cx="432756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c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solo sirve para cur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to no es suficiente para usted, sirve para otra cosa más. Como es de esperar puedes jugar a los juegos que tengas como si fuera una consola normal y corr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00720" y="144000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16720" y="4605480"/>
            <a:ext cx="30574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tendré que ir a la otra punta del mundo a conseguirlo...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oco pesimista usted. No tiene que irse, como ha dicho, a la otra punta del mundo para conseguir este magnífico artículo. Con ir a una tienda normal y corriente de videojuegos ya v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48280" y="2344680"/>
            <a:ext cx="432756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MÁ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hora la puedes conseguir en cualquier color que tu imaginación puede desarro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29:02Z</dcterms:created>
  <dc:creator>villena4dos08 villena4dos08</dc:creator>
  <dc:description/>
  <dc:language>en-US</dc:language>
  <cp:lastModifiedBy>villena4dos08 villena4dos08</cp:lastModifiedBy>
  <dcterms:modified xsi:type="dcterms:W3CDTF">2014-05-27T08:10:30Z</dcterms:modified>
  <cp:revision>3</cp:revision>
  <dc:subject/>
  <dc:title/>
</cp:coreProperties>
</file>