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280-5D59-4C5E-BC38-29F82042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628-6A22-498E-9F6B-4F7361EB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5F0-C117-40FD-9E10-A34D7F63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D85-C65C-40CB-A96A-1E34C5C2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BC9-A5A5-486C-9334-C008DCBC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A26-42E2-476D-B1BF-7287E5C5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839-406E-407B-84D1-72942739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B82-E1BF-464A-985B-CF9D2F82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FA7-ADF4-4740-AD5A-4CB14ADC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8B5-B551-4B64-8B26-BC9F6D8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0F0-6446-489D-ACE4-8801E4D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574-3F7A-4193-9D32-59A9D2A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525EA-7A41-413C-B412-CDE4E889BB4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¡NDS CURAMA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María Alapont Mart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sto es to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No! ¡Claro que no! Si compras La NDS Curamales ahora tienes el juego de “Esguinces” TOTALMENTE GRATIS. Y por si esto fuera poco te damos un 10% de descuento en tu próxima compra de algo de nuestro departamento de NDS Cura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¡¡¡¡Felices compras!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a se lo que me preguntareis... ¿Qué es esa chorrada que seguro que seguro que no sirve de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es os equivocáis. Este invento es una simple Nintendo DS formateada que con los juegos apropiados que sirve para más que pasar el 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s voy a poner un ejemplo raro que te pase pero que lo deja bastante claro. Se os ha roto el pie y estáis en el desierto sin ningún tipo de ayuda que te pueda curar tu pie, pero casualmente te has traído la NDS Curamales para entretener al pesado de tu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1152360"/>
            <a:ext cx="886968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s gracias a eso te has salvado, porque enchufando el juego especial para “Roturas” te entras directamente en el juego y te curan el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¡SALVADO GRACIAS A UN JUEG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fin podemos decir esta frase literalmen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2360" y="3600360"/>
            <a:ext cx="5616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ESO ES SOLO PARA LOS 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Claro que no! Es una consola que sirve para todo tipos de fracturas, esguinces, operaciones, etc. Solo hay que tener los juegos apropiados para cada circunsta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5640" y="3816360"/>
            <a:ext cx="66661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o no me lo podré permitir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erdad es que es muy asequible. Por solo un razonado precio puedes comprar la NDS Curamales y los juegos, a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8280" y="1957320"/>
            <a:ext cx="4327560" cy="40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c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solo sirve para cur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to no es suficiente para usted, sirve para otra cosa más. Como es de esperar puedes jugar a los juegos que tengas como si fuera una consola normal y corr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00720" y="144000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16720" y="4605480"/>
            <a:ext cx="30574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 tendré que ir a la otra punta del mundo a conseguirlo...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oco pesimista usted. No tiene que irse, como ha dicho, a la otra punta del mundo para conseguir este magnífico artículo. Con ir a una tienda normal y corriente de videojuegos ya v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48280" y="2344680"/>
            <a:ext cx="432756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 MÁ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hora la puedes conseguir en cualquier color que tu imaginación puede desarrol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29:02Z</dcterms:created>
  <dc:creator>villena4dos08 villena4dos08</dc:creator>
  <dc:description/>
  <dc:language>en-US</dc:language>
  <cp:lastModifiedBy>villena4dos08 villena4dos08</cp:lastModifiedBy>
  <dcterms:modified xsi:type="dcterms:W3CDTF">2014-05-27T08:10:30Z</dcterms:modified>
  <cp:revision>3</cp:revision>
  <dc:subject/>
  <dc:title/>
</cp:coreProperties>
</file>