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8EE-71C7-4D68-AEE8-517C4FAB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132-9B0E-4A01-B9C1-D5F85E14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42D-CD9F-47A9-B7A3-42AA22F9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25A-CAF9-433D-9CF9-15A5A18D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430-0F19-494E-A27A-7C62EBE2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EFE-0D7E-4CB3-81D9-789CCA9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772-2989-40CF-B1EA-8A66771D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A5C-BACC-4759-BC74-C1CF308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6D4-9EDA-4FCB-9B59-0815F4C7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E79-C7FC-47C3-AF6F-64EFDBA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4B8-61B4-453A-90A8-4822B47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32C-0A80-4FD6-A15B-6537C8FB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69767-A1A9-437B-9175-A2A5E54B76E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¡NDS CURAMA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María Alapont Mart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sto es to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No! ¡Claro que no! Si compras La NDS Curamales ahora tienes el juego de “Esguinces” TOTALMENTE GRATIS. Y por si esto fuera poco te damos un 10% de descuento en tu próxima compra de algo de nuestro departamento de NDS Cura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¡¡¡¡Felices compras!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a se lo que me preguntareis... ¿Qué es esa chorrada que seguro que seguro que no sirve de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es os equivocáis. Este invento es una simple Nintendo DS formateada que con los juegos apropiados que sirve para más que pasar el 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s voy a poner un ejemplo raro que te pase pero que lo deja bastante claro. Se os ha roto el pie y estáis en el desierto sin ningún tipo de ayuda que te pueda curar tu pie, pero casualmente te has traído la NDS Curamales para entretener al pesado de t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1152360"/>
            <a:ext cx="886968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s gracias a eso te has salvado, porque enchufando el juego especial para “Roturas” te entras directamente en el juego y te curan el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SALVADO GRACIAS A UN JUEG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fin podemos decir esta frase literalmen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2360" y="3600360"/>
            <a:ext cx="5616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ESO ES SOLO PARA LOS 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Claro que no! Es una consola que sirve para todo tipos de fracturas, esguinces, operaciones, etc. Solo hay que tener los juegos apropiados para cada circun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5640" y="3816360"/>
            <a:ext cx="66661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o no me lo podré permitir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erdad es que es muy asequible. Por solo un razonado precio puedes comprar la NDS Curamales y los juegos, a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8280" y="1957320"/>
            <a:ext cx="4327560" cy="40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c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solo sirve para cur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to no es suficiente para usted, sirve para otra cosa más. Como es de esperar puedes jugar a los juegos que tengas como si fuera una consola normal y corr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00720" y="144000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16720" y="4605480"/>
            <a:ext cx="30574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tendré que ir a la otra punta del mundo a conseguirlo...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oco pesimista usted. No tiene que irse, como ha dicho, a la otra punta del mundo para conseguir este magnífico artículo. Con ir a una tienda normal y corriente de videojuegos ya v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48280" y="2344680"/>
            <a:ext cx="432756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 MÁ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hora la puedes conseguir en cualquier color que tu imaginación puede desarro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29:02Z</dcterms:created>
  <dc:creator>villena4dos08 villena4dos08</dc:creator>
  <dc:description/>
  <dc:language>en-US</dc:language>
  <cp:lastModifiedBy>villena4dos08 villena4dos08</cp:lastModifiedBy>
  <dcterms:modified xsi:type="dcterms:W3CDTF">2014-05-27T08:10:30Z</dcterms:modified>
  <cp:revision>3</cp:revision>
  <dc:subject/>
  <dc:title/>
</cp:coreProperties>
</file>